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08B-3161-46B8-B754-51FD41BE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6E29-73C5-448E-B52A-99C99C7A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DA7E-0BA7-4B13-BD6E-59C6C108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E63-C325-4F5A-AE2E-921DFBCC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60C9-C259-4213-8AB2-1F787660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2D2-65A8-4922-BDA5-6A6A7971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75FF-5823-48B7-A6FD-8FF8A9E1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52CB-E996-43AE-ACAB-1682AB94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EEF-E28F-4F43-8D1C-6178106F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5FB-53E2-4AC6-9684-541DBD79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6D7-087F-459C-8574-FBCD69EC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B11-9A87-4386-AD0B-2DE18A5C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4C67-FE94-4358-9D6B-833D50EB0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elygorod.ru/img2/Zvorykin/SALT4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elygorod.ru/img2/Zvorykin/SALT3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205.imageshack.us/img205/5377/13fc0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prazdni.com/wp-content/uploads/2010/01/skazki_pushkina_skachat_thumb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.i.ua/photo/images/pic/3/4/4064943_df3790bf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ertyaka.ru/sites/default/files/imagecache/cooolstory/ribka-4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c/9/apps/2/510/2510263_6dd269f0e0f2d4b2855eecfce9e_prev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203/tat-dubi.16/0_3059b_8ad423b7_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900igr.net/datai/literatura/A.S.Pushkin/0014-018-Skazka-o-rybake-i-rybke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jka.ru/uploads/images/7/e/0/7/3/13665017f5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DreamNews. Выпуск  25"/>
          <p:cNvPicPr/>
          <p:nvPr/>
        </p:nvPicPr>
        <p:blipFill>
          <a:blip r:embed="rId1"/>
          <a:stretch/>
        </p:blipFill>
        <p:spPr>
          <a:xfrm>
            <a:off x="2050920" y="765000"/>
            <a:ext cx="4559400" cy="50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Картинка 3 из 266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836640"/>
            <a:ext cx="4751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арь Салтан гостей сажа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свой стол и вопрошае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й, вы, гости-господ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 ль ездили? Куда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дно ль за морем или худо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какое в свете чудо?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абельщики в отве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объехали весь свет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морем житье не худо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ров на море лежи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д на острове стои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златоглавыми церквам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теремами да сада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ль растет перед дворцо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под ней хрустальный дом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ка там живет ручна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 затейница какая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ка песенки по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 орешки все грызе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орешки не просты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ё скорлупки золоты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дра – чистый изумруд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уги белку стерегу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ужат ей прислугой разной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приставлен дьяк приказны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огий счет орехам ве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Картинка 12 из 266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620640"/>
            <a:ext cx="5832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окном Гвидон сиди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ча на море глядит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шумит оно, не хлещ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шь едва-едва трепеще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лазоревой да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лись кораб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равнинам Окия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ет флот царя Салта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язь Гвидон тогда вскочи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омогласно возопил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ушка моя родная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, княгиня молодая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ите вы туд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ет батюшка сюд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от уж к острову подходи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язь Гвидон трубу наводи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5472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вете есть иное диво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е вздуется бурливо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ипит, подымет во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лынет на берег пусто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ольётся в шумном бег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очутятся на бреге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ешуе, как жар гор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дцать три богатыр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красавцы удалые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каны молодые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равны как на подбор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ними дядька Черном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Картинка 11 из 26641"/>
          <p:cNvPicPr/>
          <p:nvPr/>
        </p:nvPicPr>
        <p:blipFill>
          <a:blip r:embed="rId1"/>
          <a:stretch/>
        </p:blipFill>
        <p:spPr>
          <a:xfrm>
            <a:off x="2050920" y="476280"/>
            <a:ext cx="4105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лать нечего. Он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ной зависти полна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осив зеркальце под лавку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вала к себе Чернавку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наказывает ей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нной девушке своей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ть царевну в глушь лесную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, связав её живую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 сосной оставить там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съедение волкам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т ли сладит с бабой гневно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орить нечего. С царевно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т Чернавка в лес пошла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в такую даль свел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Картинка 53 из 266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692280"/>
            <a:ext cx="583236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ерь тихонько отворилась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царевна очутилась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ветлой горнице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угом лавки, крытые ковром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 святыми стол дубовый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чь с лежанкой изразцово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ит девица, что ту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ди добрые живут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ть не будет ей обидно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кого меж тем не видно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м царевна обошла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порядком убрала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светила богу свечку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топила жарко печк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Картинка 83 из 26638"/>
          <p:cNvPicPr/>
          <p:nvPr/>
        </p:nvPicPr>
        <p:blipFill>
          <a:blip r:embed="rId1"/>
          <a:stretch/>
        </p:blipFill>
        <p:spPr>
          <a:xfrm>
            <a:off x="1332000" y="907920"/>
            <a:ext cx="655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Картинка 83 из 266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907920"/>
            <a:ext cx="655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ет Балда в поповом доме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ит себе на соломе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т за четверых, работает за семерых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 светла всё у него пляшет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ошадь запряжет, полосу вспашет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чь затопит, всё заготовит, закупит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ичко испечет да сам и облупит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падья Балдой не нахвалится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повна о Балде лишь и печалится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пенок зовет его Тятей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шу заварит, нянчится с дитя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Картинка 10 из 26641"/>
          <p:cNvPicPr/>
          <p:nvPr/>
        </p:nvPicPr>
        <p:blipFill>
          <a:blip r:embed="rId1"/>
          <a:stretch/>
        </p:blipFill>
        <p:spPr>
          <a:xfrm>
            <a:off x="1979640" y="620640"/>
            <a:ext cx="532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где, в тридесятом царстве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ридевятом государств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л – был славный царь Дадон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олоду был грозен он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соседям то и дел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носил обиды смел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под старость захотел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охнуть от ратных де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кой себе устроить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т соседи беспокои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и старого цар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шный вред ему твор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 концы своих владени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тить от нападений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Картинка 136 из 26638"/>
          <p:cNvPicPr/>
          <p:nvPr/>
        </p:nvPicPr>
        <p:blipFill>
          <a:blip r:embed="rId1"/>
          <a:stretch/>
        </p:blipFill>
        <p:spPr>
          <a:xfrm>
            <a:off x="1258920" y="981000"/>
            <a:ext cx="6553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4896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5904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Картинка 7 из 266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620640"/>
            <a:ext cx="6337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Картинка 70 из 266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836640"/>
            <a:ext cx="6408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артинка 106 из 264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836640"/>
            <a:ext cx="61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Картинка 21 из 266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765000"/>
            <a:ext cx="648180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Картинка 154 из 266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907920"/>
            <a:ext cx="6769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Картинка 87 из 266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692280"/>
            <a:ext cx="5113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6:11:12Z</dcterms:created>
  <dc:creator>Admin</dc:creator>
  <dc:description/>
  <dc:language>en-US</dc:language>
  <cp:lastModifiedBy>Admin</cp:lastModifiedBy>
  <dcterms:modified xsi:type="dcterms:W3CDTF">2011-11-12T02:54:02Z</dcterms:modified>
  <cp:revision>5</cp:revision>
  <dc:subject/>
  <dc:title>Слайд 1</dc:title>
</cp:coreProperties>
</file>