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6.wmf" ContentType="image/x-wmf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9.jpeg" ContentType="image/jpeg"/>
  <Override PartName="/ppt/media/image17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2EEB-53BF-458E-90CC-2A33AA9DFA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A447-F263-4E5A-92D6-1D2250C857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4A75-7935-4044-AEB2-33420753A4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53C9-8D93-444C-80FC-C3062422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1D52-E509-4971-B2C6-AED0CAE2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EBAD0-7801-433F-A0D8-C05A415E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71F3A-2F13-45D0-B0EE-E4EEC839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14440-50DC-4B14-8D6A-FC823782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D307A-099C-4D33-A33F-3FCEFE10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E9C00-1D52-440C-8426-5EE77D0E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A55C4-9D4C-40AF-B320-81903642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01043-F602-46FD-8F67-40164A7E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BE054-99B6-4B90-A1BC-C15E7489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3A5A1-FD09-4391-AAE4-9A98F64B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60C-6300-4589-A84F-DE01166B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1F29-B1B3-4478-8154-1CE7C6EB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5AE9-8C47-431C-BFDA-6D6896F7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3969-D42C-463C-923C-F74571A3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65F2-DB69-417D-97D9-3B9930DD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AC82-1C1F-439D-80FD-F60823FF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72FB-A270-4640-8C14-E7705116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3032-9AFE-4106-8BC1-A3BC5316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85DA-85A3-4DC3-9834-79676055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423-7EB3-4038-B23E-13345E57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0041-7B6D-4C7A-931D-BEC4AD55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7122-C0F2-4C6C-BC7B-E77942FF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024A-1B5F-46B1-BEE1-0452471A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DEAF-4534-4419-96C8-D21F42B7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BBFF-5D68-4D55-AC6E-69E032DE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FCDBF-8FC8-4AAE-9907-5D760CB9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D122F-799D-42C4-A6F8-E465289B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153E9-209D-4D8A-B112-A190A2CC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2E0C4-0069-474D-AED9-7332C144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1FFE8-E916-4317-95F5-F04C1552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A25A-1C1D-4972-9C73-93020A19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873E2-086F-48CA-8AE2-866CC1CF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A10A7-6BD4-4873-91FB-33D0FAE5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C5D05-9786-4C1D-B616-D76F726F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C7D92-A8EA-4C57-A4D2-4245CA18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63F63-1BA2-42B0-8DC1-BB4C9AEA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F168C-801C-4D31-A622-8D77FF73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73638-3C47-4DF1-9338-0E5C8CC0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FB34D-8DDB-4AD7-BCA2-0FE9EA98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CC18A-7B11-4EEE-A8B9-6D2C511D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BDC44-D25A-4899-9A82-7BA48811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6ACF-803A-4BED-8A2A-6C55CD81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6E7AF-A319-4FEA-83BD-4415DAE9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8BBC7-DFD8-4885-B37E-C006DD9B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DA013-A7A5-48E0-9CF5-B08B45E9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0A4F2-B9C7-4B1D-8028-8CF96E07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D016C-E77B-47DA-B8FE-B54D93F0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BEC39-A323-4824-A24A-4C645263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FA728-6F48-49AA-B2A4-33DEDE1E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B1B08-3692-43D4-BF34-B429981F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F4543-9656-4498-AAC7-ECB7E321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49A99-0D95-4345-88E9-E83886D7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8BB0-B078-498E-8857-492F8DD2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B7693-A0C7-488A-8AE4-B3000822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832DA-0230-4631-A1CA-CD010056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38C4B-54B5-4BA0-B06E-9750CD91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63292-5193-4C50-993C-579040AF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7E00D-FCD4-4D04-A184-527E1820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69CF7-4443-4FA4-9B41-CC8B6E50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E20B8-6E5B-403D-8F2B-28A88A9A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03C17-2BB5-40CD-9AA5-57DBE125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D9AE7-05ED-4864-88F5-09BE0516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D2408-B02F-4D36-8D85-A3EE4CA7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23A-3F7A-45D3-8293-21DFCAB9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11932-1EAC-4BF5-A24A-701F52FB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874F1-8827-437D-900D-1D1D4749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2512B-79E6-497D-804D-BE01F54E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2E2DC-C11D-4967-8E69-9C655A02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A8D1B-0BF4-4BC9-888E-084EEA54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FF299-950E-4110-9439-3AD36542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D1FAA-73A5-4550-9486-7F9C804F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F46F3-4828-4BF9-ACB1-D1B09A48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F7F08-F5FD-4A1D-A7FA-4E52FD3D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E4172-6240-4010-838F-B6C24A93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4D04-562D-40ED-8068-5D5F384B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82F38-A373-4130-81D8-4B6A1C1C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F042E-8ED0-41D9-8839-BCFA3016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545F4-7F09-4426-95F7-524A99F8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9125E-3C4D-4398-ABCC-4A99AD2E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2F5FC-A165-417D-9980-1D029168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29E27-0A7D-4510-82AA-A86A62C0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B768D-BF1F-4DA4-AE5E-F4C87AEA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FCF43-A7C5-4DEB-8C4C-F1400B9B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E9EF8-2763-46FB-836F-2A16B40A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2E61F-4A5D-4965-BE45-48CCAA39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45D7-9346-488E-816B-494B9353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54F2F-3874-4DEC-9A00-1A593A9A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A1E62-ACF4-41FE-8029-BD400982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B88E0-E070-47A7-B3F3-FFC142B4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793DC-2889-49FC-91B9-F213DF8A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82006-D5D9-44F8-8F1A-025B1985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EE10A-E97A-447B-8FD2-634AA944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BA535-B8F4-4558-B4D1-91AF585F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B18DF-69BF-43DB-958A-E5D3BD26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B017F-20BE-42E4-9D54-F55E5A11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C9805-F2AC-4324-853E-57703AC4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3776-2B67-4D46-96F1-052AC5B6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44215-24C2-452A-A69E-5194C339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D291C-E86F-45E0-81DF-02EC20E1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420F0-31E9-403F-9725-12CBB5FA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65335-E2A1-4427-9F24-05B59BFB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65084-0F8D-45EA-B568-CF4EE5E6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B0CC4-DD6E-47A5-95AA-5A16042B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A6358-90C6-4D12-AF83-54D820F4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960D1-E80E-4D5C-AD7F-46F4F010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6E8E6-6563-4F39-AC33-0B33116B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4B8FB-B15E-42CF-812A-F5B98D91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FF3F-81A9-4D82-8D15-B5ABF8FBC15D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F01B-D4D6-43A1-BBDE-D84CE9828FFC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59EA-7458-47CE-9C9B-41CA0B5813A6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F27A-CFDD-40B6-902C-0E31C4708DF8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E516-A4B3-485E-834D-0913B3365BB6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A43C-70C2-4162-BAFA-F2822C48BF88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8205-FD52-4C4A-871D-5E0477EBEDAE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79A4-A8C7-42CD-94A5-7D7DE11D670F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523D-AB17-4CF6-A76A-CE97D37D2AE6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48.radikal.ru/i122/0905/ab/b4e2a5f244cf.jpg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wmf"/><Relationship Id="rId5" Type="http://schemas.openxmlformats.org/officeDocument/2006/relationships/image" Target="../media/image26.wmf"/><Relationship Id="rId6" Type="http://schemas.openxmlformats.org/officeDocument/2006/relationships/image" Target="../media/image26.wmf"/><Relationship Id="rId7" Type="http://schemas.openxmlformats.org/officeDocument/2006/relationships/image" Target="../media/image26.wmf"/><Relationship Id="rId8" Type="http://schemas.openxmlformats.org/officeDocument/2006/relationships/image" Target="../media/image26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60480" y="2998800"/>
            <a:ext cx="8759520" cy="15541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9680" y="50004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f61"/>
                </a:solidFill>
                <a:latin typeface="Franklin Gothic Book"/>
              </a:rPr>
              <a:t>Учитель физики Даузе М.Г.</a:t>
            </a:r>
            <a:endParaRPr b="0" lang="en-US" sz="24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f61"/>
                </a:solidFill>
                <a:latin typeface="Franklin Gothic Book"/>
              </a:rPr>
              <a:t>МБОУ «Краснохолмская сош №2 им.С.Забавина»</a:t>
            </a:r>
            <a:endParaRPr b="0" lang="en-US" sz="24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http://files.school-collection.edu.ru/dlrstore/bc77e262-857e-4a1f-8346-ac9de9654d14/73.jpg"/>
          <p:cNvPicPr/>
          <p:nvPr/>
        </p:nvPicPr>
        <p:blipFill>
          <a:blip r:embed="rId1"/>
          <a:stretch/>
        </p:blipFill>
        <p:spPr>
          <a:xfrm>
            <a:off x="214200" y="214200"/>
            <a:ext cx="8786880" cy="6357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250920" y="214200"/>
            <a:ext cx="86421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Franklin Gothic Book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Franklin Gothic Book"/>
              </a:rPr>
              <a:t>Сосуды, имеющие общую (соединяющую их) часть, называются </a:t>
            </a:r>
            <a:r>
              <a:rPr b="0" i="1" lang="ru-RU" sz="3600" spc="-1" strike="noStrike" u="sng">
                <a:solidFill>
                  <a:srgbClr val="ff0000"/>
                </a:solidFill>
                <a:uFillTx/>
                <a:latin typeface="Franklin Gothic Book"/>
              </a:rPr>
              <a:t>сообщающимися</a:t>
            </a:r>
            <a:r>
              <a:rPr b="0" lang="ru-RU" sz="3600" spc="-1" strike="noStrike">
                <a:solidFill>
                  <a:srgbClr val="ff0000"/>
                </a:solidFill>
                <a:latin typeface="Franklin Gothic Book"/>
              </a:rPr>
              <a:t>.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409" name="Picture 2" descr="Pic 105.jpg"/>
          <p:cNvPicPr/>
          <p:nvPr/>
        </p:nvPicPr>
        <p:blipFill>
          <a:blip r:embed="rId1"/>
          <a:stretch/>
        </p:blipFill>
        <p:spPr>
          <a:xfrm>
            <a:off x="928800" y="2357280"/>
            <a:ext cx="7143480" cy="4143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3" descr="Копия Scan10185"/>
          <p:cNvPicPr/>
          <p:nvPr/>
        </p:nvPicPr>
        <p:blipFill>
          <a:blip r:embed="rId1"/>
          <a:stretch/>
        </p:blipFill>
        <p:spPr>
          <a:xfrm>
            <a:off x="500040" y="3071880"/>
            <a:ext cx="5651640" cy="34192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J0300512"/>
          <p:cNvPicPr/>
          <p:nvPr/>
        </p:nvPicPr>
        <p:blipFill>
          <a:blip r:embed="rId2"/>
          <a:stretch/>
        </p:blipFill>
        <p:spPr>
          <a:xfrm>
            <a:off x="6215040" y="0"/>
            <a:ext cx="2448000" cy="30956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Pic 105.jpg"/>
          <p:cNvPicPr/>
          <p:nvPr/>
        </p:nvPicPr>
        <p:blipFill>
          <a:blip r:embed="rId3"/>
          <a:stretch/>
        </p:blipFill>
        <p:spPr>
          <a:xfrm>
            <a:off x="1000080" y="500040"/>
            <a:ext cx="4381560" cy="2067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Franklin Gothic Medium"/>
              </a:rPr>
              <a:t>ПРОДЕЛАЕМ ОПЫТ С ДВУМЯ ТРУБКАМИ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324000" y="1268280"/>
            <a:ext cx="842472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" descr="E:\Мое\Физика\7 класс\Сообщающиеся сосуды\Pic_106.jpg"/>
          <p:cNvPicPr/>
          <p:nvPr/>
        </p:nvPicPr>
        <p:blipFill>
          <a:blip r:embed="rId1"/>
          <a:stretch/>
        </p:blipFill>
        <p:spPr>
          <a:xfrm>
            <a:off x="324000" y="1357200"/>
            <a:ext cx="8496000" cy="5167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Группа 23"/>
          <p:cNvGrpSpPr/>
          <p:nvPr/>
        </p:nvGrpSpPr>
        <p:grpSpPr>
          <a:xfrm>
            <a:off x="428760" y="267840"/>
            <a:ext cx="8134200" cy="6304320"/>
            <a:chOff x="428760" y="267840"/>
            <a:chExt cx="8134200" cy="6304320"/>
          </a:xfrm>
        </p:grpSpPr>
        <p:grpSp>
          <p:nvGrpSpPr>
            <p:cNvPr id="417" name="Группа 1"/>
            <p:cNvGrpSpPr/>
            <p:nvPr/>
          </p:nvGrpSpPr>
          <p:grpSpPr>
            <a:xfrm>
              <a:off x="428760" y="267840"/>
              <a:ext cx="8134200" cy="6304320"/>
              <a:chOff x="428760" y="267840"/>
              <a:chExt cx="8134200" cy="6304320"/>
            </a:xfrm>
          </p:grpSpPr>
          <p:sp>
            <p:nvSpPr>
              <p:cNvPr id="418" name="Скругленный прямоугольник 2"/>
              <p:cNvSpPr/>
              <p:nvPr/>
            </p:nvSpPr>
            <p:spPr>
              <a:xfrm>
                <a:off x="5848560" y="1484280"/>
                <a:ext cx="714240" cy="2662200"/>
              </a:xfrm>
              <a:custGeom>
                <a:avLst/>
                <a:gdLst>
                  <a:gd name="textAreaLeft" fmla="*/ 34560 w 714240"/>
                  <a:gd name="textAreaRight" fmla="*/ 679680 w 714240"/>
                  <a:gd name="textAreaTop" fmla="*/ 34560 h 2662200"/>
                  <a:gd name="textAreaBottom" fmla="*/ 2627640 h 2662200"/>
                </a:gdLst>
                <a:ahLst/>
                <a:rect l="textAreaLeft" t="textAreaTop" r="textAreaRight" b="textAreaBottom"/>
                <a:pathLst>
                  <a:path w="21600" h="80480">
                    <a:moveTo>
                      <a:pt x="3600" y="0"/>
                    </a:moveTo>
                    <a:arcTo wR="3600" hR="3600" stAng="16200000" swAng="-5400000"/>
                    <a:lnTo>
                      <a:pt x="0" y="76880"/>
                    </a:lnTo>
                    <a:arcTo wR="3600" hR="3600" stAng="10800000" swAng="-5400000"/>
                    <a:lnTo>
                      <a:pt x="18000" y="8048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7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Двойная волна 3"/>
              <p:cNvSpPr/>
              <p:nvPr/>
            </p:nvSpPr>
            <p:spPr>
              <a:xfrm rot="5400000">
                <a:off x="3916800" y="2486520"/>
                <a:ext cx="2504880" cy="500040"/>
              </a:xfrm>
              <a:custGeom>
                <a:avLst/>
                <a:gdLst>
                  <a:gd name="textAreaLeft" fmla="*/ 0 w 2504880"/>
                  <a:gd name="textAreaRight" fmla="*/ 2505240 w 2504880"/>
                  <a:gd name="textAreaTop" fmla="*/ 62280 h 500040"/>
                  <a:gd name="textAreaBottom" fmla="*/ 437760 h 50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350"/>
                    </a:moveTo>
                    <a:cubicBezTo>
                      <a:pt x="3600" y="-3433"/>
                      <a:pt x="7200" y="6133"/>
                      <a:pt x="10800" y="1350"/>
                    </a:cubicBezTo>
                    <a:cubicBezTo>
                      <a:pt x="14400" y="-3433"/>
                      <a:pt x="18000" y="6133"/>
                      <a:pt x="21600" y="1350"/>
                    </a:cubicBezTo>
                    <a:lnTo>
                      <a:pt x="21600" y="20250"/>
                    </a:lnTo>
                    <a:cubicBezTo>
                      <a:pt x="18000" y="25033"/>
                      <a:pt x="14400" y="15467"/>
                      <a:pt x="10800" y="20250"/>
                    </a:cubicBezTo>
                    <a:cubicBezTo>
                      <a:pt x="7200" y="25033"/>
                      <a:pt x="3600" y="15467"/>
                      <a:pt x="0" y="20250"/>
                    </a:cubicBezTo>
                    <a:close/>
                  </a:path>
                </a:pathLst>
              </a:custGeom>
              <a:solidFill>
                <a:srgbClr val="c7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Скругленный прямоугольник 4"/>
              <p:cNvSpPr/>
              <p:nvPr/>
            </p:nvSpPr>
            <p:spPr>
              <a:xfrm>
                <a:off x="4705560" y="4067280"/>
                <a:ext cx="285480" cy="861840"/>
              </a:xfrm>
              <a:custGeom>
                <a:avLst/>
                <a:gdLst>
                  <a:gd name="textAreaLeft" fmla="*/ 13680 w 285480"/>
                  <a:gd name="textAreaRight" fmla="*/ 271800 w 285480"/>
                  <a:gd name="textAreaTop" fmla="*/ 13680 h 861840"/>
                  <a:gd name="textAreaBottom" fmla="*/ 848160 h 861840"/>
                </a:gdLst>
                <a:ahLst/>
                <a:rect l="textAreaLeft" t="textAreaTop" r="textAreaRight" b="textAreaBottom"/>
                <a:pathLst>
                  <a:path w="21600" h="65154">
                    <a:moveTo>
                      <a:pt x="3600" y="0"/>
                    </a:moveTo>
                    <a:arcTo wR="3600" hR="3600" stAng="16200000" swAng="-5400000"/>
                    <a:lnTo>
                      <a:pt x="0" y="61554"/>
                    </a:lnTo>
                    <a:arcTo wR="3600" hR="3600" stAng="10800000" swAng="-5400000"/>
                    <a:lnTo>
                      <a:pt x="18000" y="651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7f7f7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Скругленный прямоугольник 5"/>
              <p:cNvSpPr/>
              <p:nvPr/>
            </p:nvSpPr>
            <p:spPr>
              <a:xfrm>
                <a:off x="3133800" y="1484280"/>
                <a:ext cx="285480" cy="2504880"/>
              </a:xfrm>
              <a:custGeom>
                <a:avLst/>
                <a:gdLst>
                  <a:gd name="textAreaLeft" fmla="*/ 13680 w 285480"/>
                  <a:gd name="textAreaRight" fmla="*/ 271800 w 285480"/>
                  <a:gd name="textAreaTop" fmla="*/ 13680 h 2504880"/>
                  <a:gd name="textAreaBottom" fmla="*/ 2491200 h 2504880"/>
                </a:gdLst>
                <a:ahLst/>
                <a:rect l="textAreaLeft" t="textAreaTop" r="textAreaRight" b="textAreaBottom"/>
                <a:pathLst>
                  <a:path w="21600" h="189313">
                    <a:moveTo>
                      <a:pt x="3600" y="0"/>
                    </a:moveTo>
                    <a:arcTo wR="3600" hR="3600" stAng="16200000" swAng="-5400000"/>
                    <a:lnTo>
                      <a:pt x="0" y="185713"/>
                    </a:lnTo>
                    <a:arcTo wR="3600" hR="3600" stAng="10800000" swAng="-5400000"/>
                    <a:lnTo>
                      <a:pt x="18000" y="1893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7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Овал 6"/>
              <p:cNvSpPr/>
              <p:nvPr/>
            </p:nvSpPr>
            <p:spPr>
              <a:xfrm>
                <a:off x="3776760" y="1657440"/>
                <a:ext cx="914400" cy="1001520"/>
              </a:xfrm>
              <a:prstGeom prst="ellipse">
                <a:avLst/>
              </a:prstGeom>
              <a:solidFill>
                <a:srgbClr val="c7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Скругленный прямоугольник 7"/>
              <p:cNvSpPr/>
              <p:nvPr/>
            </p:nvSpPr>
            <p:spPr>
              <a:xfrm>
                <a:off x="4133880" y="1563840"/>
                <a:ext cx="214200" cy="250344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503440"/>
                  <a:gd name="textAreaBottom" fmla="*/ 2493000 h 2503440"/>
                </a:gdLst>
                <a:ahLst/>
                <a:rect l="textAreaLeft" t="textAreaTop" r="textAreaRight" b="textAreaBottom"/>
                <a:pathLst>
                  <a:path w="21600" h="252060">
                    <a:moveTo>
                      <a:pt x="3600" y="0"/>
                    </a:moveTo>
                    <a:arcTo wR="3600" hR="3600" stAng="16200000" swAng="-5400000"/>
                    <a:lnTo>
                      <a:pt x="0" y="248460"/>
                    </a:lnTo>
                    <a:arcTo wR="3600" hR="3600" stAng="10800000" swAng="-5400000"/>
                    <a:lnTo>
                      <a:pt x="18000" y="25206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7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Овал 8"/>
              <p:cNvSpPr/>
              <p:nvPr/>
            </p:nvSpPr>
            <p:spPr>
              <a:xfrm>
                <a:off x="3776760" y="2814840"/>
                <a:ext cx="914400" cy="1001520"/>
              </a:xfrm>
              <a:prstGeom prst="ellipse">
                <a:avLst/>
              </a:prstGeom>
              <a:solidFill>
                <a:srgbClr val="c7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Прямоугольник 9"/>
              <p:cNvSpPr/>
              <p:nvPr/>
            </p:nvSpPr>
            <p:spPr>
              <a:xfrm>
                <a:off x="5848560" y="3284640"/>
                <a:ext cx="714240" cy="93960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Прямоугольник 10"/>
              <p:cNvSpPr/>
              <p:nvPr/>
            </p:nvSpPr>
            <p:spPr>
              <a:xfrm>
                <a:off x="3133800" y="3284640"/>
                <a:ext cx="285480" cy="93960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7" name="Picture 3" descr="C:\Users\Директор\Pictures\МОИ РИСУНКИ ПОФИЗИКЕ\Физприборы\Рисунок1.png"/>
              <p:cNvPicPr/>
              <p:nvPr/>
            </p:nvPicPr>
            <p:blipFill>
              <a:blip r:embed="rId1"/>
              <a:stretch/>
            </p:blipFill>
            <p:spPr>
              <a:xfrm>
                <a:off x="3778200" y="3285000"/>
                <a:ext cx="927000" cy="50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Трапеция 12"/>
              <p:cNvSpPr/>
              <p:nvPr/>
            </p:nvSpPr>
            <p:spPr>
              <a:xfrm>
                <a:off x="4348080" y="4772160"/>
                <a:ext cx="985680" cy="312480"/>
              </a:xfrm>
              <a:prstGeom prst="pie">
                <a:avLst/>
              </a:prstGeom>
              <a:gradFill rotWithShape="0">
                <a:gsLst>
                  <a:gs pos="0">
                    <a:srgbClr val="484848"/>
                  </a:gs>
                  <a:gs pos="100000">
                    <a:srgbClr val="7f7f7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Прямоугольник 13"/>
              <p:cNvSpPr/>
              <p:nvPr/>
            </p:nvSpPr>
            <p:spPr>
              <a:xfrm>
                <a:off x="428760" y="5330880"/>
                <a:ext cx="8134200" cy="1241280"/>
              </a:xfrm>
              <a:prstGeom prst="rect">
                <a:avLst/>
              </a:prstGeom>
              <a:gradFill rotWithShape="0">
                <a:gsLst>
                  <a:gs pos="0">
                    <a:srgbClr val="4d6d00"/>
                  </a:gs>
                  <a:gs pos="100000">
                    <a:srgbClr val="88bd00"/>
                  </a:gs>
                </a:gsLst>
                <a:lin ang="16200000"/>
              </a:gradFill>
              <a:ln w="25560">
                <a:solidFill>
                  <a:srgbClr val="5c9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0" name="Picture 2" descr="C:\Users\Директор\Documents\Давление\Рисунокололд.png"/>
              <p:cNvPicPr/>
              <p:nvPr/>
            </p:nvPicPr>
            <p:blipFill>
              <a:blip r:embed="rId2"/>
              <a:stretch/>
            </p:blipFill>
            <p:spPr>
              <a:xfrm rot="17944200">
                <a:off x="6694200" y="395640"/>
                <a:ext cx="1212120" cy="156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Полилиния 15"/>
              <p:cNvSpPr/>
              <p:nvPr/>
            </p:nvSpPr>
            <p:spPr>
              <a:xfrm>
                <a:off x="6205680" y="1249200"/>
                <a:ext cx="214200" cy="2192040"/>
              </a:xfrm>
              <a:prstGeom prst="pi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Прямоугольник 16"/>
              <p:cNvGrpSpPr/>
              <p:nvPr/>
            </p:nvGrpSpPr>
            <p:grpSpPr>
              <a:xfrm>
                <a:off x="3877200" y="1761840"/>
                <a:ext cx="274320" cy="853200"/>
                <a:chOff x="3877200" y="1761840"/>
                <a:chExt cx="274320" cy="853200"/>
              </a:xfrm>
            </p:grpSpPr>
            <p:pic>
              <p:nvPicPr>
                <p:cNvPr id="433" name="Прямоугольник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877200" y="1761840"/>
                  <a:ext cx="274320" cy="85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4" name=""/>
                <p:cNvSpPr/>
                <p:nvPr/>
              </p:nvSpPr>
              <p:spPr>
                <a:xfrm>
                  <a:off x="3990960" y="1875960"/>
                  <a:ext cx="45720" cy="62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5" name="Двойная волна 17"/>
              <p:cNvSpPr/>
              <p:nvPr/>
            </p:nvSpPr>
            <p:spPr>
              <a:xfrm rot="5400000">
                <a:off x="4813920" y="3461760"/>
                <a:ext cx="782640" cy="428400"/>
              </a:xfrm>
              <a:custGeom>
                <a:avLst/>
                <a:gdLst>
                  <a:gd name="textAreaLeft" fmla="*/ 0 w 782640"/>
                  <a:gd name="textAreaRight" fmla="*/ 783000 w 782640"/>
                  <a:gd name="textAreaTop" fmla="*/ 53280 h 428400"/>
                  <a:gd name="textAreaBottom" fmla="*/ 375120 h 428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350"/>
                    </a:moveTo>
                    <a:cubicBezTo>
                      <a:pt x="3600" y="-3433"/>
                      <a:pt x="7200" y="6133"/>
                      <a:pt x="10800" y="1350"/>
                    </a:cubicBezTo>
                    <a:cubicBezTo>
                      <a:pt x="14400" y="-3433"/>
                      <a:pt x="18000" y="6133"/>
                      <a:pt x="21600" y="1350"/>
                    </a:cubicBezTo>
                    <a:lnTo>
                      <a:pt x="21600" y="20250"/>
                    </a:lnTo>
                    <a:cubicBezTo>
                      <a:pt x="18000" y="25033"/>
                      <a:pt x="14400" y="15467"/>
                      <a:pt x="10800" y="20250"/>
                    </a:cubicBezTo>
                    <a:cubicBezTo>
                      <a:pt x="7200" y="25033"/>
                      <a:pt x="3600" y="15467"/>
                      <a:pt x="0" y="20250"/>
                    </a:cubicBez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Скругленный прямоугольник 18"/>
              <p:cNvSpPr/>
              <p:nvPr/>
            </p:nvSpPr>
            <p:spPr>
              <a:xfrm>
                <a:off x="3133800" y="3911760"/>
                <a:ext cx="3429000" cy="31248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7" name="Прямоугольник 19"/>
              <p:cNvGrpSpPr/>
              <p:nvPr/>
            </p:nvGrpSpPr>
            <p:grpSpPr>
              <a:xfrm>
                <a:off x="3090600" y="1523880"/>
                <a:ext cx="274320" cy="2578320"/>
                <a:chOff x="3090600" y="1523880"/>
                <a:chExt cx="274320" cy="2578320"/>
              </a:xfrm>
            </p:grpSpPr>
            <p:pic>
              <p:nvPicPr>
                <p:cNvPr id="438" name="Прямоугольник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90600" y="1523880"/>
                  <a:ext cx="274320" cy="257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9" name=""/>
                <p:cNvSpPr/>
                <p:nvPr/>
              </p:nvSpPr>
              <p:spPr>
                <a:xfrm>
                  <a:off x="3205080" y="1640880"/>
                  <a:ext cx="45720" cy="23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Двойная волна 20"/>
              <p:cNvGrpSpPr/>
              <p:nvPr/>
            </p:nvGrpSpPr>
            <p:grpSpPr>
              <a:xfrm>
                <a:off x="4943880" y="1603440"/>
                <a:ext cx="304560" cy="2578320"/>
                <a:chOff x="4943880" y="1603440"/>
                <a:chExt cx="304560" cy="2578320"/>
              </a:xfrm>
            </p:grpSpPr>
            <p:pic>
              <p:nvPicPr>
                <p:cNvPr id="441" name="Двойная волна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943880" y="1603440"/>
                  <a:ext cx="304560" cy="257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2" name=""/>
                <p:cNvSpPr/>
                <p:nvPr/>
              </p:nvSpPr>
              <p:spPr>
                <a:xfrm rot="5400000">
                  <a:off x="3924000" y="2866680"/>
                  <a:ext cx="2347920" cy="5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Прямоугольник 21"/>
              <p:cNvGrpSpPr/>
              <p:nvPr/>
            </p:nvGrpSpPr>
            <p:grpSpPr>
              <a:xfrm>
                <a:off x="5876640" y="1603440"/>
                <a:ext cx="274320" cy="2578320"/>
                <a:chOff x="5876640" y="1603440"/>
                <a:chExt cx="274320" cy="2578320"/>
              </a:xfrm>
            </p:grpSpPr>
            <p:pic>
              <p:nvPicPr>
                <p:cNvPr id="444" name="Прямоугольник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876640" y="1603440"/>
                  <a:ext cx="274320" cy="257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5" name=""/>
                <p:cNvSpPr/>
                <p:nvPr/>
              </p:nvSpPr>
              <p:spPr>
                <a:xfrm>
                  <a:off x="5991480" y="1719360"/>
                  <a:ext cx="45720" cy="23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6" name="Прямоугольник 22"/>
            <p:cNvSpPr/>
            <p:nvPr/>
          </p:nvSpPr>
          <p:spPr>
            <a:xfrm>
              <a:off x="4133880" y="3676680"/>
              <a:ext cx="214200" cy="4698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TextBox 24"/>
          <p:cNvSpPr/>
          <p:nvPr/>
        </p:nvSpPr>
        <p:spPr>
          <a:xfrm>
            <a:off x="357120" y="5286240"/>
            <a:ext cx="82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 сообщающихся сосудах любой формы и сечения поверхности однородной жидкости устанавливаются на одном уров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" descr="E:\Мое\Физика\7 класс\Сообщающиеся сосуды\IMG_2640_enl.jpg"/>
          <p:cNvPicPr/>
          <p:nvPr/>
        </p:nvPicPr>
        <p:blipFill>
          <a:blip r:embed="rId7"/>
          <a:stretch/>
        </p:blipFill>
        <p:spPr>
          <a:xfrm>
            <a:off x="357120" y="214200"/>
            <a:ext cx="234324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Pic 107.jpg"/>
          <p:cNvPicPr/>
          <p:nvPr/>
        </p:nvPicPr>
        <p:blipFill>
          <a:blip r:embed="rId1"/>
          <a:stretch/>
        </p:blipFill>
        <p:spPr>
          <a:xfrm>
            <a:off x="285840" y="357120"/>
            <a:ext cx="3382920" cy="5500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Файл:Formula 19.jpg"/>
          <p:cNvPicPr/>
          <p:nvPr/>
        </p:nvPicPr>
        <p:blipFill>
          <a:blip r:embed="rId2"/>
          <a:stretch/>
        </p:blipFill>
        <p:spPr>
          <a:xfrm>
            <a:off x="3857760" y="928800"/>
            <a:ext cx="5143320" cy="4857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Scan10177"/>
          <p:cNvPicPr/>
          <p:nvPr/>
        </p:nvPicPr>
        <p:blipFill>
          <a:blip r:embed="rId1"/>
          <a:stretch/>
        </p:blipFill>
        <p:spPr>
          <a:xfrm>
            <a:off x="1424160" y="1095480"/>
            <a:ext cx="6295680" cy="466704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3"/>
          <p:cNvSpPr/>
          <p:nvPr/>
        </p:nvSpPr>
        <p:spPr>
          <a:xfrm>
            <a:off x="858960" y="260280"/>
            <a:ext cx="79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Водомерное стекло парового кот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Картинка 580 из 428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1071720"/>
            <a:ext cx="4418280" cy="30002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3" descr="C:\Users\Директор\Documents\Давление\ph147123.jpg"/>
          <p:cNvPicPr/>
          <p:nvPr/>
        </p:nvPicPr>
        <p:blipFill>
          <a:blip r:embed="rId3"/>
          <a:stretch/>
        </p:blipFill>
        <p:spPr>
          <a:xfrm>
            <a:off x="5000760" y="1071720"/>
            <a:ext cx="3984480" cy="29923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4" descr="C:\Users\Директор\Documents\Давление\SCHLUZ.jpg"/>
          <p:cNvPicPr/>
          <p:nvPr/>
        </p:nvPicPr>
        <p:blipFill>
          <a:blip r:embed="rId4"/>
          <a:stretch/>
        </p:blipFill>
        <p:spPr>
          <a:xfrm>
            <a:off x="214200" y="4143240"/>
            <a:ext cx="4429080" cy="26434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5" descr="C:\Users\Директор\Documents\Давление\Cr1-26_1.jpg"/>
          <p:cNvPicPr/>
          <p:nvPr/>
        </p:nvPicPr>
        <p:blipFill>
          <a:blip r:embed="rId5"/>
          <a:stretch/>
        </p:blipFill>
        <p:spPr>
          <a:xfrm>
            <a:off x="5000760" y="4143240"/>
            <a:ext cx="4000320" cy="2643480"/>
          </a:xfrm>
          <a:prstGeom prst="rect">
            <a:avLst/>
          </a:prstGeom>
          <a:ln w="0">
            <a:noFill/>
          </a:ln>
        </p:spPr>
      </p:pic>
      <p:sp>
        <p:nvSpPr>
          <p:cNvPr id="457" name="TextBox 6"/>
          <p:cNvSpPr/>
          <p:nvPr/>
        </p:nvSpPr>
        <p:spPr>
          <a:xfrm>
            <a:off x="3286080" y="214200"/>
            <a:ext cx="242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Franklin Gothic Book"/>
              </a:rPr>
              <a:t>ШЛЮ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Группа 1"/>
          <p:cNvGrpSpPr/>
          <p:nvPr/>
        </p:nvGrpSpPr>
        <p:grpSpPr>
          <a:xfrm>
            <a:off x="142920" y="214200"/>
            <a:ext cx="8786880" cy="6429600"/>
            <a:chOff x="142920" y="214200"/>
            <a:chExt cx="8786880" cy="6429600"/>
          </a:xfrm>
        </p:grpSpPr>
        <p:pic>
          <p:nvPicPr>
            <p:cNvPr id="459" name="Picture 5" descr="F:\Физика - 7. Уроки\Картинки\Облака\Облако2.jpg"/>
            <p:cNvPicPr/>
            <p:nvPr/>
          </p:nvPicPr>
          <p:blipFill>
            <a:blip r:embed="rId1"/>
            <a:stretch/>
          </p:blipFill>
          <p:spPr>
            <a:xfrm>
              <a:off x="142920" y="214200"/>
              <a:ext cx="8786880" cy="495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35" descr="C:\Users\Директор\Documents\Давление\Рисунок1ыыыы.png"/>
            <p:cNvPicPr/>
            <p:nvPr/>
          </p:nvPicPr>
          <p:blipFill>
            <a:blip r:embed="rId2"/>
            <a:srcRect l="2250" t="4111" r="1717" b="0"/>
            <a:stretch/>
          </p:blipFill>
          <p:spPr>
            <a:xfrm>
              <a:off x="142920" y="2559240"/>
              <a:ext cx="8786880" cy="10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33" descr="C:\Users\Директор\Documents\Давление\Корабль3.png"/>
            <p:cNvPicPr/>
            <p:nvPr/>
          </p:nvPicPr>
          <p:blipFill>
            <a:blip r:embed="rId3"/>
            <a:srcRect l="7145" t="0" r="7145" b="0"/>
            <a:stretch/>
          </p:blipFill>
          <p:spPr>
            <a:xfrm>
              <a:off x="142920" y="2981160"/>
              <a:ext cx="2471400" cy="27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Прямоугольник 5"/>
            <p:cNvSpPr/>
            <p:nvPr/>
          </p:nvSpPr>
          <p:spPr>
            <a:xfrm>
              <a:off x="7488360" y="5131080"/>
              <a:ext cx="1441440" cy="604800"/>
            </a:xfrm>
            <a:prstGeom prst="rect">
              <a:avLst/>
            </a:prstGeom>
            <a:solidFill>
              <a:srgbClr val="09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Прямоугольник 6"/>
            <p:cNvSpPr/>
            <p:nvPr/>
          </p:nvSpPr>
          <p:spPr>
            <a:xfrm>
              <a:off x="142920" y="3768840"/>
              <a:ext cx="2333520" cy="2043000"/>
            </a:xfrm>
            <a:prstGeom prst="rect">
              <a:avLst/>
            </a:prstGeom>
            <a:solidFill>
              <a:srgbClr val="09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Прямоугольник 7"/>
            <p:cNvSpPr/>
            <p:nvPr/>
          </p:nvSpPr>
          <p:spPr>
            <a:xfrm>
              <a:off x="4948200" y="4753080"/>
              <a:ext cx="2471760" cy="1663560"/>
            </a:xfrm>
            <a:prstGeom prst="rect">
              <a:avLst/>
            </a:prstGeom>
            <a:solidFill>
              <a:srgbClr val="0996ff"/>
            </a:solidFill>
            <a:ln w="57240">
              <a:solidFill>
                <a:srgbClr val="099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Прямоугольник 8"/>
            <p:cNvSpPr/>
            <p:nvPr/>
          </p:nvSpPr>
          <p:spPr>
            <a:xfrm>
              <a:off x="7350480" y="3164040"/>
              <a:ext cx="137880" cy="278460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Прямоугольник 9"/>
            <p:cNvSpPr/>
            <p:nvPr/>
          </p:nvSpPr>
          <p:spPr>
            <a:xfrm>
              <a:off x="2476440" y="3768840"/>
              <a:ext cx="2471760" cy="1892160"/>
            </a:xfrm>
            <a:prstGeom prst="rect">
              <a:avLst/>
            </a:prstGeom>
            <a:solidFill>
              <a:srgbClr val="09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Прямоугольник 10"/>
            <p:cNvSpPr/>
            <p:nvPr/>
          </p:nvSpPr>
          <p:spPr>
            <a:xfrm>
              <a:off x="4948200" y="3618000"/>
              <a:ext cx="617400" cy="2117880"/>
            </a:xfrm>
            <a:prstGeom prst="rect">
              <a:avLst/>
            </a:prstGeom>
            <a:gradFill rotWithShape="0">
              <a:gsLst>
                <a:gs pos="0">
                  <a:srgbClr val="484848"/>
                </a:gs>
                <a:gs pos="100000">
                  <a:srgbClr val="7f7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8" name="Picture 47" descr="Рисунок1д"/>
            <p:cNvPicPr/>
            <p:nvPr/>
          </p:nvPicPr>
          <p:blipFill>
            <a:blip r:embed="rId4"/>
            <a:stretch/>
          </p:blipFill>
          <p:spPr>
            <a:xfrm>
              <a:off x="6321240" y="1947240"/>
              <a:ext cx="274320" cy="104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47" descr="Рисунок1д"/>
            <p:cNvPicPr/>
            <p:nvPr/>
          </p:nvPicPr>
          <p:blipFill>
            <a:blip r:embed="rId5"/>
            <a:stretch/>
          </p:blipFill>
          <p:spPr>
            <a:xfrm>
              <a:off x="4193280" y="1816200"/>
              <a:ext cx="274320" cy="104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7" descr="Рисунок1д"/>
            <p:cNvPicPr/>
            <p:nvPr/>
          </p:nvPicPr>
          <p:blipFill>
            <a:blip r:embed="rId6"/>
            <a:stretch/>
          </p:blipFill>
          <p:spPr>
            <a:xfrm>
              <a:off x="5909400" y="1796040"/>
              <a:ext cx="274320" cy="104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47" descr="Рисунок1д"/>
            <p:cNvPicPr/>
            <p:nvPr/>
          </p:nvPicPr>
          <p:blipFill>
            <a:blip r:embed="rId7"/>
            <a:stretch/>
          </p:blipFill>
          <p:spPr>
            <a:xfrm>
              <a:off x="8106120" y="2434680"/>
              <a:ext cx="205920" cy="78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47" descr="Рисунок1д"/>
            <p:cNvPicPr/>
            <p:nvPr/>
          </p:nvPicPr>
          <p:blipFill>
            <a:blip r:embed="rId8"/>
            <a:stretch/>
          </p:blipFill>
          <p:spPr>
            <a:xfrm flipH="1">
              <a:off x="3206160" y="2111760"/>
              <a:ext cx="231840" cy="88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47" descr="Рисунок1д"/>
            <p:cNvPicPr/>
            <p:nvPr/>
          </p:nvPicPr>
          <p:blipFill>
            <a:blip r:embed="rId9"/>
            <a:stretch/>
          </p:blipFill>
          <p:spPr>
            <a:xfrm>
              <a:off x="6801840" y="2303640"/>
              <a:ext cx="205920" cy="78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Прямоугольник 17"/>
            <p:cNvSpPr/>
            <p:nvPr/>
          </p:nvSpPr>
          <p:spPr>
            <a:xfrm>
              <a:off x="2476440" y="4299120"/>
              <a:ext cx="2471760" cy="1436760"/>
            </a:xfrm>
            <a:prstGeom prst="rect">
              <a:avLst/>
            </a:prstGeom>
            <a:solidFill>
              <a:srgbClr val="0996ff"/>
            </a:solidFill>
            <a:ln w="57240">
              <a:solidFill>
                <a:srgbClr val="099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Прямоугольник 18"/>
            <p:cNvSpPr/>
            <p:nvPr/>
          </p:nvSpPr>
          <p:spPr>
            <a:xfrm>
              <a:off x="2476440" y="3618000"/>
              <a:ext cx="617400" cy="2043000"/>
            </a:xfrm>
            <a:prstGeom prst="rect">
              <a:avLst/>
            </a:prstGeom>
            <a:gradFill rotWithShape="0">
              <a:gsLst>
                <a:gs pos="0">
                  <a:srgbClr val="484848"/>
                </a:gs>
                <a:gs pos="100000">
                  <a:srgbClr val="7f7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Прямоугольник 19"/>
            <p:cNvSpPr/>
            <p:nvPr/>
          </p:nvSpPr>
          <p:spPr>
            <a:xfrm>
              <a:off x="2408040" y="3164040"/>
              <a:ext cx="136440" cy="278460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Прямоугольник 20"/>
            <p:cNvSpPr/>
            <p:nvPr/>
          </p:nvSpPr>
          <p:spPr>
            <a:xfrm>
              <a:off x="4880160" y="3164040"/>
              <a:ext cx="136440" cy="278460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Прямоугольник 21"/>
            <p:cNvSpPr/>
            <p:nvPr/>
          </p:nvSpPr>
          <p:spPr>
            <a:xfrm>
              <a:off x="142920" y="5661360"/>
              <a:ext cx="8786880" cy="9824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Круговая стрелка 22"/>
            <p:cNvSpPr/>
            <p:nvPr/>
          </p:nvSpPr>
          <p:spPr>
            <a:xfrm flipV="1">
              <a:off x="2065320" y="5206320"/>
              <a:ext cx="892080" cy="85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Круговая стрелка 23"/>
            <p:cNvSpPr/>
            <p:nvPr/>
          </p:nvSpPr>
          <p:spPr>
            <a:xfrm flipV="1">
              <a:off x="4537080" y="5206320"/>
              <a:ext cx="892080" cy="85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Арка 24"/>
            <p:cNvSpPr/>
            <p:nvPr/>
          </p:nvSpPr>
          <p:spPr>
            <a:xfrm flipV="1">
              <a:off x="7007400" y="5207040"/>
              <a:ext cx="879480" cy="846000"/>
            </a:xfrm>
            <a:prstGeom prst="pie">
              <a:avLst/>
            </a:prstGeom>
            <a:solidFill>
              <a:srgbClr val="09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Трапеция 25"/>
            <p:cNvSpPr/>
            <p:nvPr/>
          </p:nvSpPr>
          <p:spPr>
            <a:xfrm flipV="1">
              <a:off x="1996920" y="5433480"/>
              <a:ext cx="342720" cy="30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Трапеция 26"/>
            <p:cNvSpPr/>
            <p:nvPr/>
          </p:nvSpPr>
          <p:spPr>
            <a:xfrm flipV="1">
              <a:off x="4467240" y="5433480"/>
              <a:ext cx="342720" cy="30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Трапеция 27"/>
            <p:cNvSpPr/>
            <p:nvPr/>
          </p:nvSpPr>
          <p:spPr>
            <a:xfrm flipV="1">
              <a:off x="6939000" y="5433480"/>
              <a:ext cx="342720" cy="30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8:44:38Z</dcterms:created>
  <dc:creator>Андрей</dc:creator>
  <dc:description/>
  <dc:language>en-US</dc:language>
  <cp:lastModifiedBy>Андрей</cp:lastModifiedBy>
  <dcterms:modified xsi:type="dcterms:W3CDTF">2012-02-13T19:52:28Z</dcterms:modified>
  <cp:revision>8</cp:revision>
  <dc:subject/>
  <dc:title>Сообщающиеся сосуды.</dc:title>
</cp:coreProperties>
</file>