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hammer.wav" ContentType="audio/x-wav"/>
  <Override PartName="/ppt/media/cashreg.wav" ContentType="audio/x-wav"/>
  <Override PartName="/ppt/media/image12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laser.wav" ContentType="audio/x-wav"/>
  <Override PartName="/ppt/media/image4.jpeg" ContentType="image/jpeg"/>
  <Override PartName="/ppt/media/image13.jpeg" ContentType="image/jpeg"/>
  <Override PartName="/ppt/media/image11.jpeg" ContentType="image/jpeg"/>
  <Override PartName="/ppt/media/chimes.wav" ContentType="audio/x-wav"/>
  <Override PartName="/ppt/media/image9.png" ContentType="image/png"/>
  <Override PartName="/ppt/media/image6.jpeg" ContentType="image/jpeg"/>
  <Override PartName="/ppt/media/applause.wav" ContentType="audio/x-wav"/>
  <Override PartName="/ppt/media/image1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6A75-1661-4102-8D9C-A4A0F2E272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лрдршнршгророоор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513-C02F-4E3D-BB08-595F5351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C0E-E772-46EB-9CC3-6FE4E85A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1BB-112C-49BA-AA0B-EFF22E86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8DE-348C-45BE-A8C0-069AA595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23FD-94F7-46DF-910D-B94C11EA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A713-75E4-42E5-8399-2270E7DF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E2D5-882A-4C85-8FD2-22DB9FCE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D441-FA02-4D33-B972-116534D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6250-B362-4D7E-9CF2-283E3610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5C1C-3F29-429F-B63B-D8B58CD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238D-0499-4D76-A027-4D42768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A71-D950-40A5-A590-F9F9F8C8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335C-A55C-45B3-BBCF-1E88A703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BB38-6E74-4430-B5DA-7F203903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31B9-9416-4A5B-BFFB-C06AD7BB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ACB5-69B0-4940-AEC0-8189DBBA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0C8F-DA09-4EDE-A7BA-719454B7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32DE-85DE-415E-AF5B-4B47D67A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35D0-3ABA-4472-B51D-4DECE56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89CB-40FF-4E5F-B4F8-41454866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C2FC-5714-4029-B780-4CF914B3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F570-C95C-4037-8E42-12130AE9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BE7-890F-43AB-A495-750A383A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9E52-1E1C-43C6-9528-4D97598E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CE15-B7F3-406C-9ED3-B0DEACE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7D4F-EBD7-43D0-8F15-8DC7D7C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C5E1-FF7B-47B6-B199-8391F661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4069-D986-4ABB-8019-8DE15320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E9B3-88BF-490D-8198-1ED66E3F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7BFE-6C8F-4CF3-B36A-69C8C574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3DCDF-84D1-46A0-8983-D3923465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4714-374A-467B-AA79-A5EE6B59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53216-EDC6-43C7-821B-6743F46E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EE3-B02C-4334-8E8E-95C4C7FF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8360-2B76-4C7E-8BA3-1845361C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A78B7-A912-47B2-8F36-4CCF2F2A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7C493-F645-4661-9260-345B7CEC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0DDC8-6B53-4324-99FA-1F005BC6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4CB8-E433-40A1-86EA-41DB5EAD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00B00-8247-4CA0-8D8F-7A62149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9DA0C-B48F-45EB-9D02-E32DA39F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4A7BE-FCA4-4C6B-A8F8-BB91F0D9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57ADD-1230-446B-8821-303BFEA7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DA8A-9143-4CA0-946E-B6BC753A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EBD-B36E-4D27-B1DA-C97A1AF7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26FFB-6A06-4AF8-A069-CB39120B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F7C7E-BB06-4117-93EF-236D5590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6143-5D54-4E47-8D30-5F37B696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2437A-4D5F-4DA7-A1C2-98EAA044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7F967-305B-4B31-B999-027EC295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DA41-F4F9-4105-A4F3-3C763D6C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89E5-7C68-4359-AD32-2ED15451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2DA8-BC3B-45B6-9FD1-B061945F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407D0-39BA-481E-A29C-35A41E8E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AA150-C6E7-4E79-B66C-50C6A291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84B-A8F7-4315-A9BC-A448B715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2529-ACB8-478F-9361-5EA960A7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F1514-6A45-4AAE-BDAC-D03D73EA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ED677-A4CA-4785-81F2-EEE0322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7497-0A34-439A-8F0D-68F3F0A9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8AE37-5E17-4E65-9AD9-E05A19F1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44CB-6DC3-494E-AA8E-B866DAA7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62C4-3306-4DC8-861E-D01B55D5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F4933-2018-41C0-B2B8-1DA8C14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A5CEB-4F5E-4E19-9553-B27E7236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F0D6-A89F-4501-B8F2-0AD703D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549-DD4B-4C33-B509-082D508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556E3-926B-4075-B22F-7CF2D601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FE7AA-2110-49FF-90A4-885A99FC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A3D4B-F4BC-489D-98F8-B549BBB2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3C063-5DE6-4DA8-863C-253EC306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F767-7DA9-476F-A110-D9DFE6FF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4243-3FCF-47C0-9550-55DA562F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D186-7264-42FF-919C-35E0EC0A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F6C1F-A76F-4F42-9693-05591349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F366C-3030-41F9-A1F0-BBCFEF49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90C29-9170-4812-B1FD-E24ECD0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512-5774-4369-A6BA-3925C9AC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CEF95-E8FC-4C91-97B2-70322B1A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13F8-9A4F-484C-AABF-EEE6B83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4CA12-5C71-448D-BE4E-D4FD91A6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E853A-6F1F-49D7-89DE-8BC78F22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915A0-A7C5-4692-9661-8DF3A320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617A1-C73F-4EC3-B4B4-8044FBB2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6C64D-DEB4-413E-ADAC-FCBC4AF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A7F0-6EE3-4120-BF79-DFBB5900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20F53-59DE-4D4A-96FD-2A956BA8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301CD-0AC3-4909-9197-FF76BD22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5D2-CAB8-4B9B-8040-A02C4DFA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F0AE9-4632-4053-9387-773EB090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7CC8-C3A4-4244-B10B-5E421F34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7F7CB-0D78-4319-A16D-376DE08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E8B46-FCA1-4BC7-832C-234EC86D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727B7-D04B-4F0E-93C3-870D93AE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FE7B2-754E-4872-96A2-280C1BD0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9666-DB79-4565-A68D-48D06D5A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ABA0-9D48-47B1-A105-39BD8F120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52D9-C581-4335-B6C5-0E0806468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44A5-E826-4A1C-B46D-5FA04E3B0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E8BB-E030-41BB-BF95-885DB2D18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8E98-D3F9-415E-A6DD-BE0D2FF64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9660-8852-4240-A41B-6F76CEFF7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6E0C-BFC5-4FD5-B9EB-676BA7020A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5D07-2CEA-4BF4-8058-625733456D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7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ите среду обитания животного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940360" y="1904760"/>
            <a:ext cx="290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водо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5472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ите среду обитания живот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rcRect l="33347" t="0" r="0" b="49806"/>
          <a:stretch/>
        </p:blipFill>
        <p:spPr>
          <a:xfrm>
            <a:off x="395280" y="1916280"/>
            <a:ext cx="5905440" cy="36734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12000" y="2492280"/>
            <a:ext cx="2760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дная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земно-воздуш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пределите среду обитания  животного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516360" y="3141720"/>
            <a:ext cx="2328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ч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rcRect l="0" t="50005" r="33370" b="0"/>
          <a:stretch/>
        </p:blipFill>
        <p:spPr>
          <a:xfrm>
            <a:off x="395280" y="2421000"/>
            <a:ext cx="604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лияние абиотического фактора (света) на организ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50560" y="5300640"/>
            <a:ext cx="8569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ногие животные днем спят, а ночью проявляют активность. Они обладают приспособлениями для ночной ох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4596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ите среду обитания 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84720" y="2133360"/>
            <a:ext cx="305928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земно-воздушная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пустын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59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пределите среду обитания животного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0" y="2852640"/>
            <a:ext cx="51134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дная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земно-воздуш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75241" b="0"/>
          <a:stretch/>
        </p:blipFill>
        <p:spPr>
          <a:xfrm>
            <a:off x="826920" y="2421000"/>
            <a:ext cx="3745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лияние абиотического фактора (температуры)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на организ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26560" y="5414760"/>
            <a:ext cx="77058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т и размножение  членистоногих может регулироваться температурой окружающе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0728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ите среду обитания живот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796000" y="3284280"/>
            <a:ext cx="334800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Водная, наземно-воздушная (водоем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maggedImage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56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" dur="2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йствие биотических  фактор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житель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йств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ямое вли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ицатель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йств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свенное влия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484000" y="1557360"/>
            <a:ext cx="1582920" cy="13669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76720" y="1628640"/>
            <a:ext cx="1224000" cy="14400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059280" y="1557360"/>
            <a:ext cx="1296720" cy="3384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16360" y="1628640"/>
            <a:ext cx="1152720" cy="3313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ложительное действие биотического факт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635280" y="1699920"/>
            <a:ext cx="46339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Дождевые чер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чительно улучшают почву: снабжают ее кислородом, перемешивают органически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rcRect l="0" t="50006" r="0" b="0"/>
          <a:stretch/>
        </p:blipFill>
        <p:spPr>
          <a:xfrm>
            <a:off x="971640" y="1916280"/>
            <a:ext cx="2158920" cy="23763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rcRect l="0" t="0" r="33472" b="0"/>
          <a:stretch/>
        </p:blipFill>
        <p:spPr>
          <a:xfrm>
            <a:off x="324000" y="4437000"/>
            <a:ext cx="4176720" cy="2016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4788000" y="45813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ишайники служат осн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образования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1042560" y="260280"/>
            <a:ext cx="74329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 осла и соловья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 лисы и журавл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 стрекоз и мурав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Жизнь у каждого сво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ждый соблюдает точ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вой режим и дня и ноч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 у каждого своё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блюбовано жильё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рицательное действие биотического факт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216400" y="1915920"/>
            <a:ext cx="3927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да копытных разрушают структуру почвы, вытаптывая ее, способствуют ветровой и водной эроз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5184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ямое  влияние биотического факт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16000" y="4869000"/>
            <a:ext cx="7308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ызуны, питаясь зерновыми культурами, снижают тем самым их урожай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775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свенное влияние биотического факт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651280" y="1915920"/>
            <a:ext cx="349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ничтожение или уменьшение кормовой базы (например мышей) вынуждает животных покидать свои привычные места обитания в поисках пищ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5761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838080" y="333360"/>
            <a:ext cx="8006760" cy="5760720"/>
            <a:chOff x="838080" y="333360"/>
            <a:chExt cx="8006760" cy="5760720"/>
          </a:xfrm>
        </p:grpSpPr>
        <p:cxnSp>
          <p:nvCxnSpPr>
            <p:cNvPr id="595" name="_s125958"/>
            <p:cNvCxnSpPr>
              <a:stCxn id="596" idx="0"/>
              <a:endCxn id="597" idx="2"/>
            </p:cNvCxnSpPr>
            <p:nvPr/>
          </p:nvCxnSpPr>
          <p:spPr>
            <a:xfrm flipV="1" rot="16200000">
              <a:off x="5666400" y="1811880"/>
              <a:ext cx="1152720" cy="2802960"/>
            </a:xfrm>
            <a:prstGeom prst="bentConnector3">
              <a:avLst>
                <a:gd name="adj1" fmla="val 87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8" name="_s125959"/>
            <p:cNvCxnSpPr>
              <a:stCxn id="599" idx="0"/>
              <a:endCxn id="597" idx="2"/>
            </p:cNvCxnSpPr>
            <p:nvPr/>
          </p:nvCxnSpPr>
          <p:spPr>
            <a:xfrm flipV="1">
              <a:off x="4841280" y="2637360"/>
              <a:ext cx="3240" cy="115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0" name="_s125960"/>
            <p:cNvCxnSpPr>
              <a:stCxn id="601" idx="0"/>
              <a:endCxn id="597" idx="2"/>
            </p:cNvCxnSpPr>
            <p:nvPr/>
          </p:nvCxnSpPr>
          <p:spPr>
            <a:xfrm flipH="1" flipV="1" rot="5400000">
              <a:off x="2863800" y="1812240"/>
              <a:ext cx="1152720" cy="2802960"/>
            </a:xfrm>
            <a:prstGeom prst="bentConnector3">
              <a:avLst>
                <a:gd name="adj1" fmla="val 87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7" name="_s125961"/>
            <p:cNvSpPr/>
            <p:nvPr/>
          </p:nvSpPr>
          <p:spPr>
            <a:xfrm>
              <a:off x="3640320" y="333360"/>
              <a:ext cx="2401920" cy="2304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Экологически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фактор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5962"/>
            <p:cNvSpPr/>
            <p:nvPr/>
          </p:nvSpPr>
          <p:spPr>
            <a:xfrm>
              <a:off x="838080" y="3789720"/>
              <a:ext cx="2401920" cy="230436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Фактор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живой прир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л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Абиотические факто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_s125963"/>
            <p:cNvSpPr/>
            <p:nvPr/>
          </p:nvSpPr>
          <p:spPr>
            <a:xfrm>
              <a:off x="3640320" y="3789720"/>
              <a:ext cx="2401920" cy="230436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Фактор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живой прир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л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Биотические факто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_s125964"/>
            <p:cNvSpPr/>
            <p:nvPr/>
          </p:nvSpPr>
          <p:spPr>
            <a:xfrm>
              <a:off x="6442920" y="3789720"/>
              <a:ext cx="2401920" cy="23043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челове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еятельность челове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48880" y="2924280"/>
            <a:ext cx="378324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ложительн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храна исчезающих видов растений и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заповедников и заказ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6360" y="2997000"/>
            <a:ext cx="403704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рицательн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создании водохранилищ выводятся огромные территории плодородных поч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ребление редких растений и живот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255600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00720" y="1341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971640" y="1125000"/>
            <a:ext cx="78739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Что такое среда обитан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На какие группы делят экологические фактор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Почему так важны знания об экологических факторах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Это интересно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13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Семена черники и брусники прорастают лишь в том случае, если прошли через пищеварительную систему съевшего ягоды живот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Для прорастания семян вороники и голубики необходимо, чтобы они попали на почву с экскрементами п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Примером влияния какого вида экологических факторов являются данные факты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биотического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Это интересно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У крокодилов при насиживании яиц разница температуры в один градус определяет пол будущего детёныш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Примером влияния какого вида экологических факторов являются данные факт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(абиотического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Castellar"/>
              </a:rPr>
              <a:t>Домашнее задани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Изучить § 54, ответить на вопросы в конце параграф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овторить § 53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ворческое домашнее зад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думать план своего ответа в следующей ситу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 работник экологической службы – ваши предложения по улучшению рационального природо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Тема: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«Среда обитания организмов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88455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Что такое среда обитани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ДЕСЯТЬ ЗАПОВЕДЕЙ ДРУЗЕЙ ЛЕС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храните леса такими, чтобы они могли радовать нас, наших детей и внуков наших вну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храняйте «зелёное равновесие» - новые посадки должны полностью восполнять срубленные и погибшие дере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иходите в лес с любовью к прир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еса несут успокоение нашему перегруженному мозгу, они успокаивают душу. Слушайте таинственную музыку ле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носитесь к старым, полувысохшим деревьям как к выполнившим свой долг солдатам – пусть их участь ещё раз напомнит вам о необходимости беречь л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сли вы видите новое, неизвестное растение или животное, то старайтесь узнать его наз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важайте жизнь в лесу, даже ту, что невидима вам, включая микроорганиз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сли вы собираете дикие плоды и грибы, не уничтожайте то, на чём они росли: деревья, кустарники, грибн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тноситесь к животным в лесу без жестокости, не мешайте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роме ягод и грибов уносите из леса только приятные воспоминания и восхищение его красо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20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324000" y="476280"/>
            <a:ext cx="8495280" cy="5565600"/>
            <a:chOff x="324000" y="476280"/>
            <a:chExt cx="8495280" cy="5565600"/>
          </a:xfrm>
        </p:grpSpPr>
        <p:cxnSp>
          <p:nvCxnSpPr>
            <p:cNvPr id="527" name="_s121874"/>
            <p:cNvCxnSpPr>
              <a:stCxn id="528" idx="0"/>
              <a:endCxn id="529" idx="2"/>
            </p:cNvCxnSpPr>
            <p:nvPr/>
          </p:nvCxnSpPr>
          <p:spPr>
            <a:xfrm flipV="1" rot="16200000">
              <a:off x="5501160" y="1771920"/>
              <a:ext cx="1113840" cy="2973960"/>
            </a:xfrm>
            <a:prstGeom prst="bentConnector3">
              <a:avLst>
                <a:gd name="adj1" fmla="val 10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0" name="_s121873"/>
            <p:cNvCxnSpPr>
              <a:stCxn id="531" idx="0"/>
              <a:endCxn id="529" idx="2"/>
            </p:cNvCxnSpPr>
            <p:nvPr/>
          </p:nvCxnSpPr>
          <p:spPr>
            <a:xfrm flipV="1">
              <a:off x="4571280" y="2702160"/>
              <a:ext cx="3240" cy="1113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2" name="_s121872"/>
            <p:cNvCxnSpPr>
              <a:stCxn id="533" idx="0"/>
              <a:endCxn id="529" idx="2"/>
            </p:cNvCxnSpPr>
            <p:nvPr/>
          </p:nvCxnSpPr>
          <p:spPr>
            <a:xfrm flipH="1" flipV="1" rot="5400000">
              <a:off x="2527560" y="1771920"/>
              <a:ext cx="1113840" cy="2973960"/>
            </a:xfrm>
            <a:prstGeom prst="bentConnector3">
              <a:avLst>
                <a:gd name="adj1" fmla="val 10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9" name="_s121868"/>
            <p:cNvSpPr/>
            <p:nvPr/>
          </p:nvSpPr>
          <p:spPr>
            <a:xfrm>
              <a:off x="3297240" y="476280"/>
              <a:ext cx="2548440" cy="2226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Виды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сред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обитания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121869"/>
            <p:cNvSpPr/>
            <p:nvPr/>
          </p:nvSpPr>
          <p:spPr>
            <a:xfrm>
              <a:off x="324000" y="3815640"/>
              <a:ext cx="2548440" cy="2226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земно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_s121870"/>
            <p:cNvSpPr/>
            <p:nvPr/>
          </p:nvSpPr>
          <p:spPr>
            <a:xfrm>
              <a:off x="3297240" y="3815640"/>
              <a:ext cx="2548440" cy="2226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121871"/>
            <p:cNvSpPr/>
            <p:nvPr/>
          </p:nvSpPr>
          <p:spPr>
            <a:xfrm>
              <a:off x="6270840" y="3815640"/>
              <a:ext cx="2548440" cy="2226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ма: </a:t>
            </a:r>
            <a:br>
              <a:rPr sz="40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«Среда обитания организмов. Экологические факторы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"/>
          <p:cNvSpPr/>
          <p:nvPr/>
        </p:nvSpPr>
        <p:spPr>
          <a:xfrm>
            <a:off x="179280" y="2349360"/>
            <a:ext cx="859500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то такое экологические фактор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789360"/>
            <a:ext cx="89787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Экологические факторы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– это компоненты среды, которые оказывают воздействие на организм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Среда обитания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– это совокупность условий жизни (экологических факторов), прямо или косвенно действующая на живые организм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748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логия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ойкос – д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гос – наука, уч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логия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– наука, изучающая условия существования живых организмов и взаимосвязи между живыми организмами и средой, в которой они обитаю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468360" y="165240"/>
            <a:ext cx="8350920" cy="6357600"/>
            <a:chOff x="468360" y="165240"/>
            <a:chExt cx="8350920" cy="6357600"/>
          </a:xfrm>
        </p:grpSpPr>
        <p:cxnSp>
          <p:nvCxnSpPr>
            <p:cNvPr id="541" name="_s11288"/>
            <p:cNvCxnSpPr>
              <a:stCxn id="542" idx="0"/>
              <a:endCxn id="543" idx="2"/>
            </p:cNvCxnSpPr>
            <p:nvPr/>
          </p:nvCxnSpPr>
          <p:spPr>
            <a:xfrm flipV="1" rot="16200000">
              <a:off x="5469120" y="1882440"/>
              <a:ext cx="1271880" cy="2923560"/>
            </a:xfrm>
            <a:prstGeom prst="bentConnector3">
              <a:avLst>
                <a:gd name="adj1" fmla="val 87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4" name="_s11287"/>
            <p:cNvCxnSpPr>
              <a:stCxn id="545" idx="0"/>
              <a:endCxn id="543" idx="2"/>
            </p:cNvCxnSpPr>
            <p:nvPr/>
          </p:nvCxnSpPr>
          <p:spPr>
            <a:xfrm flipV="1">
              <a:off x="4643640" y="2708280"/>
              <a:ext cx="3240" cy="1271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11286"/>
            <p:cNvCxnSpPr>
              <a:stCxn id="547" idx="0"/>
              <a:endCxn id="543" idx="2"/>
            </p:cNvCxnSpPr>
            <p:nvPr/>
          </p:nvCxnSpPr>
          <p:spPr>
            <a:xfrm flipH="1" flipV="1" rot="5400000">
              <a:off x="2546280" y="1882440"/>
              <a:ext cx="1271880" cy="2923560"/>
            </a:xfrm>
            <a:prstGeom prst="bentConnector3">
              <a:avLst>
                <a:gd name="adj1" fmla="val 87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3" name="_s11282"/>
            <p:cNvSpPr/>
            <p:nvPr/>
          </p:nvSpPr>
          <p:spPr>
            <a:xfrm>
              <a:off x="3391200" y="165240"/>
              <a:ext cx="2505240" cy="2543040"/>
            </a:xfrm>
            <a:custGeom>
              <a:avLst/>
              <a:gdLst>
                <a:gd name="textAreaLeft" fmla="*/ 122040 w 2505240"/>
                <a:gd name="textAreaRight" fmla="*/ 2383200 w 2505240"/>
                <a:gd name="textAreaTop" fmla="*/ 122040 h 2543040"/>
                <a:gd name="textAreaBottom" fmla="*/ 2421000 h 254304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Экологические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факторы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11283"/>
            <p:cNvSpPr/>
            <p:nvPr/>
          </p:nvSpPr>
          <p:spPr>
            <a:xfrm>
              <a:off x="468360" y="3979800"/>
              <a:ext cx="2505240" cy="2543040"/>
            </a:xfrm>
            <a:custGeom>
              <a:avLst/>
              <a:gdLst>
                <a:gd name="textAreaLeft" fmla="*/ 122040 w 2505240"/>
                <a:gd name="textAreaRight" fmla="*/ 2383200 w 2505240"/>
                <a:gd name="textAreaTop" fmla="*/ 122040 h 2543040"/>
                <a:gd name="textAreaBottom" fmla="*/ 2421000 h 254304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Факторы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неживой природ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ил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ffffff"/>
                  </a:solidFill>
                  <a:uFillTx/>
                  <a:latin typeface="Arial"/>
                </a:rPr>
                <a:t>Абиотические фактор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11284"/>
            <p:cNvSpPr/>
            <p:nvPr/>
          </p:nvSpPr>
          <p:spPr>
            <a:xfrm>
              <a:off x="3391200" y="3979800"/>
              <a:ext cx="2505240" cy="2543040"/>
            </a:xfrm>
            <a:custGeom>
              <a:avLst/>
              <a:gdLst>
                <a:gd name="textAreaLeft" fmla="*/ 122040 w 2505240"/>
                <a:gd name="textAreaRight" fmla="*/ 2383200 w 2505240"/>
                <a:gd name="textAreaTop" fmla="*/ 122040 h 2543040"/>
                <a:gd name="textAreaBottom" fmla="*/ 2421000 h 254304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Факторы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живой природ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ил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ffffff"/>
                  </a:solidFill>
                  <a:uFillTx/>
                  <a:latin typeface="Arial"/>
                </a:rPr>
                <a:t>Биотические фактор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11285"/>
            <p:cNvSpPr/>
            <p:nvPr/>
          </p:nvSpPr>
          <p:spPr>
            <a:xfrm>
              <a:off x="6314040" y="3979800"/>
              <a:ext cx="2505240" cy="2543040"/>
            </a:xfrm>
            <a:custGeom>
              <a:avLst/>
              <a:gdLst>
                <a:gd name="textAreaLeft" fmla="*/ 122040 w 2505240"/>
                <a:gd name="textAreaRight" fmla="*/ 2383200 w 2505240"/>
                <a:gd name="textAreaTop" fmla="*/ 122040 h 2543040"/>
                <a:gd name="textAreaBottom" fmla="*/ 2421000 h 254304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человек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8989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 влияют экологические факторы на организ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5:22:10Z</dcterms:created>
  <dc:creator>comp</dc:creator>
  <dc:description/>
  <dc:language>en-US</dc:language>
  <cp:lastModifiedBy>comp</cp:lastModifiedBy>
  <dcterms:modified xsi:type="dcterms:W3CDTF">2007-04-17T16:11:45Z</dcterms:modified>
  <cp:revision>17</cp:revision>
  <dc:subject/>
  <dc:title>Слайд 1</dc:title>
</cp:coreProperties>
</file>