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FD3-3327-4E4E-A2B4-4CE03960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30A-33EA-42A2-816D-6CA5B0A4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50FF-88DD-43DE-ACA3-0A151649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F21-1686-47F5-B148-0DE26B02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8BB7-4AF1-4176-AC41-5CC65F6A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B0A5-1832-4219-846F-A77C62E1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F1B7-E684-43AD-A7DD-4CB43F7C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56D1-27A2-4462-B936-6A1CEFCE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2684-13CB-46A7-B218-A417F871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01BB-0833-44AD-AC95-2A749C59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DA71-50F1-4F95-867C-E59D1D68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9DF7-4CA0-4E18-A9E9-7339C81F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D5D4-E575-4B30-8E9A-15659D65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3D74-8ECD-4B46-B0A8-C266346F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C9A6-339D-4BC8-BC46-0D8BB2EB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3A55-CE7E-41CA-B499-E1324CD1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E89B-3E22-48DB-8067-6E3ED1DC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2D76-6F28-4E95-85A4-C8EDE8E1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549-93AF-4443-A3D4-5CAEC5E4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586-93DB-4F07-87D1-2B98FF53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CC7-2CAC-424C-B8DB-D01830F8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172-9014-456E-9200-C3956188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766-2778-4DAC-9C13-914D864E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944-5491-44C5-B090-BDCF98BD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AD7E-8A03-4097-9430-A9C5E59A789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84E1-C28B-4FCA-BE12-9DAC2270166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69656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4bc40"/>
                </a:solidFill>
                <a:uFillTx/>
                <a:latin typeface="Times New Roman"/>
              </a:rPr>
              <a:t>Тема проекта:</a:t>
            </a:r>
            <a:endParaRPr b="0" lang="en-US" sz="28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00000" y="292428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и сумочка из фетра украшенная бисером для украшения комнаты девуш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4788000" y="5305320"/>
            <a:ext cx="302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полнил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ченица 8 класса 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ондаренко Кс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DOVE2[1]"/>
          <p:cNvPicPr/>
          <p:nvPr/>
        </p:nvPicPr>
        <p:blipFill>
          <a:blip r:embed="rId1"/>
          <a:stretch/>
        </p:blipFill>
        <p:spPr>
          <a:xfrm flipH="1" rot="1465800">
            <a:off x="6442920" y="404280"/>
            <a:ext cx="1276200" cy="942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4bc40"/>
                </a:solidFill>
                <a:latin typeface="Times New Roman"/>
              </a:rPr>
              <a:t>Расчёт себестоимости.</a:t>
            </a:r>
            <a:endParaRPr b="0" lang="en-US" sz="2800" spc="-1" strike="noStrike">
              <a:solidFill>
                <a:srgbClr val="f4bc4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63520" y="1598760"/>
          <a:ext cx="7386480" cy="385416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с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8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4bc40"/>
                </a:solidFill>
                <a:latin typeface="Arial"/>
              </a:rPr>
              <a:t>Оценка проделанной работы.</a:t>
            </a:r>
            <a:endParaRPr b="0" lang="en-US" sz="28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готовив изделие, была выполнена главная цель проекта ,,Качественно изготовить издел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’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читаю, что изделие выполнено качественно, имеет эстетичный вид, а также правильно изготовлена пояснительная запи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мочки из фет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4bc40"/>
                </a:solidFill>
                <a:latin typeface="Times New Roman"/>
              </a:rPr>
              <a:t>Обоснование выбора темы.</a:t>
            </a:r>
            <a:endParaRPr b="0" lang="en-US" sz="28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брала такую тему, так как сумочка из фетра выполненная в такой цветовой гамме (оранжевый, красный, жёлтый) будет прекрасно сочетаться в цвете с интерьером комнаты и будет служить изюминкой в этом интерье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DOVE2[1]"/>
          <p:cNvPicPr/>
          <p:nvPr/>
        </p:nvPicPr>
        <p:blipFill>
          <a:blip r:embed="rId2"/>
          <a:stretch/>
        </p:blipFill>
        <p:spPr>
          <a:xfrm flipH="1" rot="1465800">
            <a:off x="6155640" y="404280"/>
            <a:ext cx="1276200" cy="94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4bc40"/>
                </a:solidFill>
                <a:latin typeface="Times New Roman"/>
              </a:rPr>
              <a:t>Цели и задачи проекта.</a:t>
            </a:r>
            <a:endParaRPr b="0" lang="en-US" sz="28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чественно изготовить сум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обрать матери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обрать инструмен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ить рабочее мест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учить виды интерь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яснить, чем лучше всего украсить сум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ь конкур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яснить вопрос себестоим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яснить вопрос покупательского спро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4bc40"/>
                </a:solidFill>
                <a:latin typeface="Times New Roman"/>
              </a:rPr>
              <a:t>Выбор материалов.</a:t>
            </a:r>
            <a:endParaRPr b="0" lang="en-US" sz="28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изготовления изделия были использованы такие материалы ка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ет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яж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лопчатобумажные ни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4"/>
          <a:stretch/>
        </p:blipFill>
        <p:spPr>
          <a:xfrm>
            <a:off x="5508720" y="3357720"/>
            <a:ext cx="1873080" cy="2447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5"/>
          <a:stretch/>
        </p:blipFill>
        <p:spPr>
          <a:xfrm>
            <a:off x="1835280" y="4653000"/>
            <a:ext cx="1800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4bc40"/>
                </a:solidFill>
                <a:latin typeface="Times New Roman"/>
              </a:rPr>
              <a:t>Инструменты и оборудование.</a:t>
            </a:r>
            <a:endParaRPr b="0" lang="en-US" sz="28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7386480" cy="27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л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жниц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нкие спиц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4"/>
          <a:stretch/>
        </p:blipFill>
        <p:spPr>
          <a:xfrm>
            <a:off x="4859280" y="1628640"/>
            <a:ext cx="2376720" cy="295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5"/>
          <a:stretch/>
        </p:blipFill>
        <p:spPr>
          <a:xfrm>
            <a:off x="4067280" y="3357720"/>
            <a:ext cx="2305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2:43:33Z</dcterms:created>
  <dc:creator>Ольга</dc:creator>
  <dc:description/>
  <dc:language>en-US</dc:language>
  <cp:lastModifiedBy>Admin</cp:lastModifiedBy>
  <dcterms:modified xsi:type="dcterms:W3CDTF">2012-02-19T13:40:05Z</dcterms:modified>
  <cp:revision>4</cp:revision>
  <dc:subject/>
  <dc:title>Тема проекта:</dc:title>
</cp:coreProperties>
</file>