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14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CAMERA.WAV" ContentType="audio/x-wav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3.jpeg" ContentType="image/jpeg"/>
  <Override PartName="/ppt/media/image4.png" ContentType="image/png"/>
  <Override PartName="/ppt/media/image5.jpeg" ContentType="image/jpeg"/>
  <Override PartName="/ppt/media/image20.wmf" ContentType="image/x-wmf"/>
  <Override PartName="/ppt/media/image12.jpeg" ContentType="image/jpeg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0E4-285E-4488-A764-349C526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86B-973A-4558-A109-BA1032B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58E-ADBE-40E1-B31D-EC6C1184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DE5-5E66-4948-A0B5-786B41C9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F7AE-B59C-44DE-9B27-96DDE1E0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B898-563B-4DF6-8A3B-EB6BE5F3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50F-39FE-4778-8BCE-B9667D7A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431-0112-4B66-9121-F91D8419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841B-78B7-469E-A87E-DEB75A5F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96B4-5253-4E6E-BE04-DF35EB1F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D6F-D54E-48D1-AF79-F10BC627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D5E-7F2D-4F5A-94E0-6362691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5962-024E-44ED-8C3A-CC41FC0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DF24-3EC3-4A19-B568-DE3A08A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22C-C45C-4AD0-9148-015D8C13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A73-881A-4ED5-9422-71187DBC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8FF3-6205-4044-9CB7-C9905535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1E6-05EB-4E2E-9F75-FB94CA2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BB8-12D6-46F8-80F9-A715907A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079-A19E-4A2F-903D-C96F647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3DF-E27C-4C27-B0C7-21125EA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FD2-E852-4BB5-B555-070CDC2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A48-4A77-4868-86A8-9668C04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895-0795-4792-B058-B086F8E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54A7-6E8F-4128-B2A5-15DA0FF8B437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A31D-BDF1-4DF7-851C-DC544B20A302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КУПАНИЕ ФАСОЛИ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Сравнение времени прорастания семян фасоли в разных условиях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51120" y="3933720"/>
            <a:ext cx="2079720" cy="230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51640" y="4005360"/>
            <a:ext cx="20383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ХОД РАБОТЫ  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7 февраля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2808360" cy="210672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30" name=""/>
          <p:cNvSpPr/>
          <p:nvPr/>
        </p:nvSpPr>
        <p:spPr>
          <a:xfrm rot="19354200">
            <a:off x="6011640" y="4149720"/>
            <a:ext cx="325440" cy="863640"/>
          </a:xfrm>
          <a:prstGeom prst="downArrow">
            <a:avLst>
              <a:gd name="adj1" fmla="val 50000"/>
              <a:gd name="adj2" fmla="val 66344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404200">
            <a:off x="3634920" y="4149720"/>
            <a:ext cx="330120" cy="938160"/>
          </a:xfrm>
          <a:prstGeom prst="downArrow">
            <a:avLst>
              <a:gd name="adj1" fmla="val 50000"/>
              <a:gd name="adj2" fmla="val 7104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01336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ухие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остались такие же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869000"/>
            <a:ext cx="4824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Замоченные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семена стали «пить» воду, посветлели, увеличились, стали мягче, кожица размокает, сморщивается, растягивается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34136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Через 5 дней мы осмотрели семена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68724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ХОД РАБОТЫ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7 февраля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6436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В этот же день мы посадили сухие семена в один стаканчик, а замоченные в другой стаканчик. Стаканчики подписали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5300640"/>
            <a:ext cx="6872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ХОД РАБОТЫ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7 марта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978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Просмотрели по одному семечку (вытащили из земли).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1904760" cy="19242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1403280" y="4027320"/>
            <a:ext cx="266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тало больше в размерах, появились красные полоски на семена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5280" y="2708280"/>
            <a:ext cx="1441080" cy="1871640"/>
            <a:chOff x="1835280" y="2708280"/>
            <a:chExt cx="1441080" cy="1871640"/>
          </a:xfrm>
        </p:grpSpPr>
        <p:sp>
          <p:nvSpPr>
            <p:cNvPr id="144" name=""/>
            <p:cNvSpPr/>
            <p:nvPr/>
          </p:nvSpPr>
          <p:spPr>
            <a:xfrm>
              <a:off x="1835280" y="2708280"/>
              <a:ext cx="1368360" cy="1871640"/>
            </a:xfrm>
            <a:prstGeom prst="flowChartMagneticDisk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79640" y="3355920"/>
              <a:ext cx="12967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660066"/>
                  </a:solidFill>
                  <a:latin typeface="Times New Roman"/>
                </a:rPr>
                <a:t>Сухие семена</a:t>
              </a:r>
              <a:endParaRPr b="0" lang="en-US" sz="2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020000" y="2708280"/>
            <a:ext cx="1511280" cy="1871640"/>
            <a:chOff x="7020000" y="2708280"/>
            <a:chExt cx="1511280" cy="1871640"/>
          </a:xfrm>
        </p:grpSpPr>
        <p:sp>
          <p:nvSpPr>
            <p:cNvPr id="147" name=""/>
            <p:cNvSpPr/>
            <p:nvPr/>
          </p:nvSpPr>
          <p:spPr>
            <a:xfrm>
              <a:off x="7020000" y="2708280"/>
              <a:ext cx="1368360" cy="1871640"/>
            </a:xfrm>
            <a:prstGeom prst="flowChartMagneticDisk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20000" y="3427560"/>
              <a:ext cx="15112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660066"/>
                  </a:solidFill>
                  <a:latin typeface="Times New Roman"/>
                </a:rPr>
                <a:t>Замочен. семена</a:t>
              </a:r>
              <a:endParaRPr b="0" lang="en-US" sz="2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659640" y="4005360"/>
            <a:ext cx="266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боку появилась дырочка с маленьким корешк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2760" y="5516640"/>
            <a:ext cx="644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ХОД РАБОТЫ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18 марта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7237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Сравнили, что получилось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02732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50920" y="3357720"/>
            <a:ext cx="1441080" cy="1871640"/>
            <a:chOff x="2050920" y="3357720"/>
            <a:chExt cx="1441080" cy="1871640"/>
          </a:xfrm>
        </p:grpSpPr>
        <p:sp>
          <p:nvSpPr>
            <p:cNvPr id="155" name=""/>
            <p:cNvSpPr/>
            <p:nvPr/>
          </p:nvSpPr>
          <p:spPr>
            <a:xfrm>
              <a:off x="2050920" y="3357720"/>
              <a:ext cx="1368360" cy="1871640"/>
            </a:xfrm>
            <a:prstGeom prst="flowChartMagneticDisk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5280" y="4005360"/>
              <a:ext cx="12967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660066"/>
                  </a:solidFill>
                  <a:latin typeface="Times New Roman"/>
                </a:rPr>
                <a:t>Сухие семена</a:t>
              </a:r>
              <a:endParaRPr b="0" lang="en-US" sz="2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67280" y="3357720"/>
            <a:ext cx="1511280" cy="1871640"/>
            <a:chOff x="5867280" y="3357720"/>
            <a:chExt cx="1511280" cy="1871640"/>
          </a:xfrm>
        </p:grpSpPr>
        <p:sp>
          <p:nvSpPr>
            <p:cNvPr id="158" name=""/>
            <p:cNvSpPr/>
            <p:nvPr/>
          </p:nvSpPr>
          <p:spPr>
            <a:xfrm>
              <a:off x="5867280" y="3357720"/>
              <a:ext cx="1368360" cy="1871640"/>
            </a:xfrm>
            <a:prstGeom prst="flowChartMagneticDisk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7280" y="4077000"/>
              <a:ext cx="15112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660066"/>
                  </a:solidFill>
                  <a:latin typeface="Times New Roman"/>
                </a:rPr>
                <a:t>Замочен. семена</a:t>
              </a:r>
              <a:endParaRPr b="0" lang="en-US" sz="2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619280" y="537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ка ничего не видно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537372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явился чуть-чуть стебелек и один листик!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404200">
            <a:off x="3419280" y="2421000"/>
            <a:ext cx="330120" cy="938160"/>
          </a:xfrm>
          <a:prstGeom prst="downArrow">
            <a:avLst>
              <a:gd name="adj1" fmla="val 50000"/>
              <a:gd name="adj2" fmla="val 7104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151400">
            <a:off x="5651640" y="2349000"/>
            <a:ext cx="330120" cy="938520"/>
          </a:xfrm>
          <a:prstGeom prst="downArrow">
            <a:avLst>
              <a:gd name="adj1" fmla="val 50000"/>
              <a:gd name="adj2" fmla="val 71074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644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ХОД РАБОТЫ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5 марта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380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Вот, что вышло: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402732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03640" y="5157720"/>
            <a:ext cx="1439280" cy="1476360"/>
            <a:chOff x="3203640" y="5157720"/>
            <a:chExt cx="1439280" cy="1476360"/>
          </a:xfrm>
        </p:grpSpPr>
        <p:sp>
          <p:nvSpPr>
            <p:cNvPr id="169" name=""/>
            <p:cNvSpPr/>
            <p:nvPr/>
          </p:nvSpPr>
          <p:spPr>
            <a:xfrm>
              <a:off x="3203640" y="5157720"/>
              <a:ext cx="1366560" cy="1476360"/>
            </a:xfrm>
            <a:prstGeom prst="flowChartMagneticDisk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8000" y="5667120"/>
              <a:ext cx="129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60066"/>
                  </a:solidFill>
                  <a:latin typeface="Times New Roman"/>
                </a:rPr>
                <a:t>Из сухих семян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292720" y="5157720"/>
            <a:ext cx="1584000" cy="1440000"/>
            <a:chOff x="5292720" y="5157720"/>
            <a:chExt cx="1584000" cy="1440000"/>
          </a:xfrm>
        </p:grpSpPr>
        <p:sp>
          <p:nvSpPr>
            <p:cNvPr id="172" name=""/>
            <p:cNvSpPr/>
            <p:nvPr/>
          </p:nvSpPr>
          <p:spPr>
            <a:xfrm>
              <a:off x="5292720" y="5157720"/>
              <a:ext cx="1434240" cy="1440000"/>
            </a:xfrm>
            <a:prstGeom prst="flowChartMagneticDisk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2720" y="570960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60066"/>
                  </a:solidFill>
                  <a:latin typeface="Times New Roman"/>
                </a:rPr>
                <a:t>Из замочен. семян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516720" y="2276640"/>
            <a:ext cx="1835280" cy="23763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1605240" cy="23763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76" name=""/>
          <p:cNvSpPr/>
          <p:nvPr/>
        </p:nvSpPr>
        <p:spPr>
          <a:xfrm rot="8385000">
            <a:off x="2555280" y="4797360"/>
            <a:ext cx="330120" cy="938160"/>
          </a:xfrm>
          <a:prstGeom prst="downArrow">
            <a:avLst>
              <a:gd name="adj1" fmla="val 50000"/>
              <a:gd name="adj2" fmla="val 7104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2729000">
            <a:off x="7036920" y="4636800"/>
            <a:ext cx="330480" cy="938160"/>
          </a:xfrm>
          <a:prstGeom prst="downArrow">
            <a:avLst>
              <a:gd name="adj1" fmla="val 50000"/>
              <a:gd name="adj2" fmla="val 70969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110484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348000" y="4365720"/>
            <a:ext cx="1060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вывод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Благодаря проведенным исследованиям мы убедились, что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замоченные семена фасоли прорастают быстрее, чем сухие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19280" y="4437000"/>
          <a:ext cx="468000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437000"/>
                    <a:ext cx="468000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172360" y="189000"/>
            <a:ext cx="598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АВТОРЫ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628640"/>
            <a:ext cx="441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Работу выполняли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Дмитриева Елена Валерьевна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еменова Аня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Русанец Маша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осквитин Миша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004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5445000"/>
            <a:ext cx="571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ПРОБЛЕМА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2 февраля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345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Она заключается в том, что мы не знаем какие семена прорастут быстрее: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сухие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 или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замоченные</a:t>
            </a: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2521080" cy="2124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72360" y="189000"/>
            <a:ext cx="7304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ГИПОТЕЗА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2 февраля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Мы полагаем, что замоченные семена прорастут быстрее, чем сухие.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72360" y="404640"/>
            <a:ext cx="73188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ПОДГОТОВКА 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2 февраля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0360" y="170028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Мы приготовили: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семена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тряпочки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тарелочки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стаканчики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воду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89920" y="260280"/>
            <a:ext cx="8334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ХОД РАБОТЫ 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(22 февраля 2010)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52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половину семян мы завернули в ткань и замочили в воде, а другую половину семян оставили сухой.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03960" y="4076640"/>
            <a:ext cx="1689120" cy="208908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95880" y="4111560"/>
            <a:ext cx="2581200" cy="20541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82680" y="4149720"/>
            <a:ext cx="264168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232840" y="404640"/>
            <a:ext cx="6858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8-04-08T05:17:13Z</dcterms:created>
  <dc:creator>ученик</dc:creator>
  <dc:description/>
  <dc:language>en-US</dc:language>
  <cp:lastModifiedBy>Admin</cp:lastModifiedBy>
  <dcterms:modified xsi:type="dcterms:W3CDTF">2005-01-06T19:18:32Z</dcterms:modified>
  <cp:revision>41</cp:revision>
  <dc:subject/>
  <dc:title>ЗАМАЧИВАНИЕ ФАСОЛИ</dc:title>
</cp:coreProperties>
</file>