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D98-FA4B-4E8C-8EBF-5AC5C243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1C9-8640-4E7A-9DD0-A5841C9C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DE5-D324-4A09-B6AB-F4EB2721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416-D31F-412C-8CCE-2AE4ECBF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097-E8DC-4ABF-8986-13E2BD5B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496-DCB9-4E37-9E5A-C039F804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EAD-2BEA-40EF-AB69-CD4386DF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673-BF0F-42DA-9FB5-15B15D1E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203-F663-4A72-B057-6C77BE11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920-1668-46D8-8820-719E8F9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F9E-4F6B-431A-9B5C-D3FADFA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7BA-46F4-4C3E-9525-2A7F28F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6A1D-0D2D-401C-8A4A-D7C8E4BDC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Учитель\Рабочий стол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кий проект на тему «Платье для сау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57480" y="2214720"/>
            <a:ext cx="4071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еница 11 класса МОУ «СОШ №33» Турханова По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а: Паранина И.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Учитель\Рабочий стол\Баня\Изображение 129.jpg"/>
          <p:cNvPicPr/>
          <p:nvPr/>
        </p:nvPicPr>
        <p:blipFill>
          <a:blip r:embed="rId2"/>
          <a:stretch/>
        </p:blipFill>
        <p:spPr>
          <a:xfrm>
            <a:off x="714240" y="1928880"/>
            <a:ext cx="3929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ла длину и раскроила халат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огнула и прогладила края ткани, сделала сги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делала закругление низа одного из краев  хала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езала ткань по косой, для обработки края изделия, ширина тка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5 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работала косую беечку зигза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Пришила рюшку к халатику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Обработала с изнаночной стороны края соединения рюши и основы зигзагом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Обработала верх халатика таким образом, чтобы в подгиб можно было продеть резинку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  Закрепила резинку зигзагообразной строчкой по бокам халати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Пришила липучку на  ткань.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Полина\18112011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29040" y="142920"/>
            <a:ext cx="5214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Процесс работы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E:\Полина\181120115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:\Полина\18112011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E:\Полина\18112011528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E:\Полина\181120115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E:\Полина\181120115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F:\Баня\Изображение 120.jpg"/>
          <p:cNvPicPr/>
          <p:nvPr/>
        </p:nvPicPr>
        <p:blipFill>
          <a:blip r:embed="rId2"/>
          <a:stretch/>
        </p:blipFill>
        <p:spPr>
          <a:xfrm>
            <a:off x="157176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6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е обосн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8760" y="1214280"/>
          <a:ext cx="8501040" cy="5286600"/>
        </p:xfrm>
        <a:graphic>
          <a:graphicData uri="http://schemas.openxmlformats.org/drawingml/2006/table">
            <a:tbl>
              <a:tblPr/>
              <a:tblGrid>
                <a:gridCol w="2530440"/>
                <a:gridCol w="1584360"/>
                <a:gridCol w="2558880"/>
                <a:gridCol w="1827360"/>
              </a:tblGrid>
              <a:tr h="662040"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териа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608120">
                <a:tc>
                  <a:txBody>
                    <a:bodyPr lIns="66600" rIns="6660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кань, хлопчатобумажная, ваф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ме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7 рубл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7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66600" rIns="6660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ирокая белая рези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ыла дома в остатк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6600" rIns="6660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пучка бе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ыла дома в остат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66600" rIns="6660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тки (голубы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катуш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ыли до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6600" rIns="666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57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Учитель\Рабочий стол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 в сауну – одна из самых приятных, релаксационных процедур в нашей жизни. Как приятно расслабиться во время принятии сауны, получить новые силы после изнурительных дней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тог:  Стоимость затрат составляет 117ру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в косвенные затраты входит только моя работ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о я работала 2 часа, днем.  Час моей работы 30руб.  Свою работу я оценила  в   60 руб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того…стоимость халатика для сауны составила  177 рубл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к издели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8760" y="1000080"/>
          <a:ext cx="8286480" cy="5572080"/>
        </p:xfrm>
        <a:graphic>
          <a:graphicData uri="http://schemas.openxmlformats.org/drawingml/2006/table">
            <a:tbl>
              <a:tblPr/>
              <a:tblGrid>
                <a:gridCol w="3143160"/>
                <a:gridCol w="5143320"/>
              </a:tblGrid>
              <a:tr h="492480"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латик для сауны или б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2144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Функциональное на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лнение гардероба аксессуа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Пользова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дая дев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Единичное или массовое производ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ичное, но поступил заказ от мамы и папы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Разме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Требования к материал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тур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Метод изготов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ш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Внешний вид, сти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дёжный ст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Требования с точки зрения безопасности исполь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но безвредный для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51120" rIns="51120" tIns="72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 Экологические треб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51120" rIns="51120" tIns="72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ована чистая хлопчатобумажная вафельная тк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404028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ожите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4280"/>
            <a:ext cx="40402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ла аксессуар к своему гардеробу, изготовив удобный, практичный и стильный хала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а много интересного из истории бани и халат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экономила большую сумму денег, ведь купить готовый халатик для сауны дороговато, он стоит в  районе 2 – 3 тысяч рубл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71388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рицате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4720" y="1285560"/>
            <a:ext cx="4041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ла некоторые трудности в пришивании рюши, которые, впрочем, не помешали достичь поставленной мною 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ила много времени на подбор  модели халатика для са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6760" y="1571400"/>
            <a:ext cx="82868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б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</a:t>
            </a:r>
            <a:r>
              <a:rPr b="1" lang="en-US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я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л</a:t>
            </a:r>
            <a:r>
              <a:rPr b="1" lang="en-US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м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щ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я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</a:t>
            </a:r>
            <a:r>
              <a:rPr b="1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)))))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Учитель\Рабочий стол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9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:\316596.jpg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лет назад мы переехали в свой дом, у нас есть баня и поэтому я её частый г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тем, что лето всё жарче и жарче, после бани чувствуешь себя не комфортно в махровом халате и поэтому я пришила сэкономить семейный бюджет и сшить платье для сау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F:\316596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57200" y="2143080"/>
            <a:ext cx="3828960" cy="341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648320" y="192888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готовление халата для саун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85748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знать историю хал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обрать матери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делать выкрой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шить халат для сау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F:\316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инструмен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и, ткань, резинка, липу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, ножницы, иг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928800" y="2857680"/>
            <a:ext cx="2928960" cy="36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Учитель\Рабочий стол\Полина\18112011528.jpg"/>
          <p:cNvPicPr/>
          <p:nvPr/>
        </p:nvPicPr>
        <p:blipFill>
          <a:blip r:embed="rId3"/>
          <a:stretch/>
        </p:blipFill>
        <p:spPr>
          <a:xfrm>
            <a:off x="4786200" y="2928960"/>
            <a:ext cx="3643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7" descr="F:\316596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285920"/>
          <a:ext cx="9144000" cy="4857840"/>
        </p:xfrm>
        <a:graphic>
          <a:graphicData uri="http://schemas.openxmlformats.org/drawingml/2006/table">
            <a:tbl>
              <a:tblPr/>
              <a:tblGrid>
                <a:gridCol w="1112760"/>
                <a:gridCol w="1479600"/>
                <a:gridCol w="1114560"/>
                <a:gridCol w="1731960"/>
                <a:gridCol w="1479600"/>
                <a:gridCol w="2225520"/>
              </a:tblGrid>
              <a:tr h="1222200"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риа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личие спроса и заказ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личие матери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личие инструментов, обору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зможность украсить интерье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полнение гардероб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804960">
                <a:tc>
                  <a:txBody>
                    <a:bodyPr lIns="62640" rIns="62640" tIns="864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б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2640" rIns="62640" tIns="864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алат махр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2640" rIns="62640" tIns="864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алат лет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2640" rIns="62640" tIns="864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алатик для сау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  <a:tc>
                  <a:txBody>
                    <a:bodyPr lIns="62640" rIns="62640" tIns="864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04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 w="18720">
                      <a:solidFill>
                        <a:srgbClr val="009ed6"/>
                      </a:solidFill>
                    </a:lnL>
                    <a:lnR w="18720">
                      <a:solidFill>
                        <a:srgbClr val="009ed6"/>
                      </a:solidFill>
                    </a:lnR>
                    <a:lnT w="18720">
                      <a:solidFill>
                        <a:srgbClr val="009ed6"/>
                      </a:solidFill>
                    </a:lnT>
                    <a:lnB w="18720">
                      <a:solidFill>
                        <a:srgbClr val="009e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9:52:05Z</dcterms:created>
  <dc:creator>Лёлик</dc:creator>
  <dc:description/>
  <dc:language>en-US</dc:language>
  <cp:lastModifiedBy>Admin</cp:lastModifiedBy>
  <dcterms:modified xsi:type="dcterms:W3CDTF">2012-02-18T18:09:29Z</dcterms:modified>
  <cp:revision>34</cp:revision>
  <dc:subject/>
  <dc:title>Творческий проект на тему «Платье для сауны»</dc:title>
</cp:coreProperties>
</file>