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CDD-29AA-43A6-8E5D-EC7EB0A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373-D1B2-4A95-9C73-1854FF6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9CD-3CB7-4B6B-BB61-B2B6DBC6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B3D-AB49-4DA6-B328-099BAFD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727-E38F-42F1-9FC1-6900A3F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2E8-937D-4149-A543-65CE546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2CE-7A19-4539-B452-27CCC42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2A3-0B5E-42D5-82D1-CF5E979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AEC-E430-4F3C-B9F5-6E3DA417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2E1-F6F2-4A85-BD3B-031E821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45D-A8C9-4143-A472-CB8A5D3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635-A4FF-4854-BFE9-596589B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E91-3DBA-4BAA-AC9D-5737DE9AF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7731360" cy="129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360" y="5429160"/>
            <a:ext cx="4500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готовила воспитатель ГПД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БОУ НОШ «Школа здоровья» № 1702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оршкова М.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600280" y="1714680"/>
            <a:ext cx="4041720" cy="30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572240" y="285840"/>
            <a:ext cx="1357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Спасибо за вним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643120" y="2647800"/>
            <a:ext cx="3143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обры не впадают в зимнюю спячку, поэтому, чтобы зимой не голодать, они в зависимости от величины семьи заготавливают кубометров 20-50 древес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5429160"/>
            <a:ext cx="83581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ерево толщиной в 5-7 см бобры спиливают за две минуты, толщиной 30-40 см за 15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936880" y="2214720"/>
            <a:ext cx="2913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сновная пища лисы – грызуны. Чтобы насытиться, лисице надо поймать и съесть не менее двух десятков мышей и полёвок в д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21496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лисица часто занимает барсучьи жилища, выгоняя чистоплотного хозяина из норы пачкотней. Однако это не совсем верно. Мусор и неприятные запахи бывают только у входа в лисью нору, в самой же норе всегда чис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75120" y="2071800"/>
            <a:ext cx="29224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голок у ежа  6-7 тысяч. Ёж ест очень много: обычно за ночь он съедает столько же пищи, сколько весит сам. Живут ежи около шести лет. У них замечательный слух, обоня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4928760"/>
            <a:ext cx="82155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ежи разоряют птичьи гнёзда, нападают на маленьких зайчат, лягушек, ящер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00240" y="2144880"/>
            <a:ext cx="2786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жорливость волка удивительна. Стая волков в семь-восемь зверей за ночь может съесть тушу лошади. Один зверь за присест пожирает лисицу или собаку в 10 кг. Вместе с тем хищник способен переносить и длительные голодовки – до двух недель и бо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4200" y="4357800"/>
            <a:ext cx="8715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рот причиняет определённый вред лесным питомникам, огородам и садам, нарушая корневую систему растений. Однако ущерб, наносимый кротом, с лихвой окупается пользой, которую он приносит, уничтожая личинки майских жуков, проволочных червей и многих других вредных насекомых. Кроме того, разрыхляя почву, крот повышает её плодород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79680" y="2214720"/>
            <a:ext cx="2341440" cy="176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279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баны любят тереться боками о смолистые стволы деревьев. Со временем смола, смешиваясь со щетиной и грязью, образует прочный панцирь, который не пробивает даже крупная дроб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5480" y="542916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з домашних зверей дольше всех живёт … осёл – до 50 лет. Он значительно переживает царя зверей – льва, у которого неспокойная жизнь длится не более 3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47640" y="2286000"/>
            <a:ext cx="277668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430960" y="2571840"/>
            <a:ext cx="2568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723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елка может распотрошить еловую шишку за 3-5 минут, а сосновую – за 1 минут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белки умеренных широт 2 раза в год линяют, но хвост линяет за этот период только раз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57120" y="57862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 белок тонкое чутьё – зимой они могут почувствовать орехи, находящиеся под снежным покровом толщиной в мет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1880" y="2714760"/>
            <a:ext cx="27860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арсук – обстоятельный и добросовестный строитель – является своеобразным поставщиком жилья и для других животных. Его норы часто занимают лисицы и енотовидные собаки, реже – шакалы, порой даже волки устраивают своё логово в старых расширенных барсучьих н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57120" y="485748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ишечник у барсука превышает длину туловища, что свидетельствует об исключительной всеядности зверя. Барсук любит раскапывать гнёзда ос, шмелей и лакомиться сладкими сотами. К укусам разъярённых насекомых он относится равнодушно – жёсткий и длинный мех, толстая кожа и слой жира надёжно защищают его  от ж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92560" y="2268360"/>
            <a:ext cx="255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осомаха редко попадает в капкан, а если такое случается, то обычно она перегрызает онемевшую лапу и уход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840" y="4357440"/>
            <a:ext cx="85726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ерблюд не боится жары,  у него толстая кожа. На ногах и на груди у него толстые мозоли. Им не страшен раскалённый песок. Поэтому ходит верблюд по песку совершенно спокойно. Если же надо лечь – опять-таки касается песка он только теми частями тела, которые покрыты мозо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7320" y="219708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143680" y="2263680"/>
            <a:ext cx="2428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6:29:06Z</dcterms:created>
  <dc:creator>Admin</dc:creator>
  <dc:description/>
  <dc:language>en-US</dc:language>
  <cp:lastModifiedBy>Admin</cp:lastModifiedBy>
  <dcterms:modified xsi:type="dcterms:W3CDTF">2012-02-19T14:28:00Z</dcterms:modified>
  <cp:revision>28</cp:revision>
  <dc:subject/>
  <dc:title>Слайд 1</dc:title>
</cp:coreProperties>
</file>