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557-EAFD-46BD-BD22-DBB99C29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39A-ECB9-4B33-8244-AE467003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E9E-0212-4EF8-88E9-17130F4F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F5E-CCBC-482B-A7D4-D30426E8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18D5-5623-4A03-A8ED-D76CF9BF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1931-F32D-4E16-90E1-F738994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D655-61BD-4151-8231-8E89AD20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929-C80D-4482-B9E8-AF91681B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8C31-E04F-456E-BA98-619EE0CF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7A53-66EB-4789-AFA6-446E36D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1584-65CE-492A-812B-630170D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F9B-32D2-498A-B1D7-5EE3D77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9787-333C-486B-A155-21BB0CFD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1000-FD7A-4030-BEAA-7002B3B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763-20B8-4821-9449-D79F3196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514-0A6A-4779-8F71-71DE67A5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1F1F-2821-4C6F-84E2-9701EE73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83B9-150B-474D-8902-058CA95C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A5B5-F34A-4419-9C1D-FC04F97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B42F-F645-41B9-9D1C-C9FE6F6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EE61-5B95-45C9-AA73-876B4BFC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EE9B-0C2F-4630-8334-EA9F3EDE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C52-A30A-4E7E-BB7C-B04FED97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F728-FB86-43E5-B5D2-C4EBA17F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0BA8-3039-42C7-AF89-0F5BB54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1917-7BFF-463B-AE3E-BDAF423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E618-7F1E-429C-864D-FCCD826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AE7E-D0B6-4BA5-B853-0B2331C2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382A-701E-4AF6-8CCE-F3E91D2C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A8C0-FE53-4B5F-8CDB-BA8CA56B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9CDD-2236-4DB0-A26C-393B3C60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84F14-CB75-46DB-98A7-AF20D86A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C8FE-5291-4EA0-8DD1-C759167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805-C550-41B3-96FE-C21EE9F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C160-B444-4429-BBC8-7DD69B55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4AC1-4148-4876-B30B-6C541DE9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B087-8FBD-4213-B7C6-1DC7837D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A69A-562C-4379-9484-06DFC2D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1F13-D967-4DBB-AC28-C64D4B1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238C-E783-432D-BFEB-F937AFB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CF95-7124-4163-94C6-D7B2E4D9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AEDC-E93D-42D2-9BE5-4CB8AAE2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4B2B-DDEE-4726-A033-7B0CB639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31B4-E8D7-4483-9E03-BE41AB24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5E7-D8EF-4E5E-8167-000395A6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742D-3EED-40EE-9763-0091C345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78E0D-849F-4D30-A8AE-EC420EC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E4E07-A598-4846-BF54-DBF7E467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625C-B892-4F20-8E7F-7C4963F3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44DD-CEF6-45E6-8D29-E5F89AAE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F606-6CDE-49C2-ABB3-8EBF525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4CF55-C72C-4F68-A7C4-B7E0753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995D-2ED4-4A07-ADD7-E0FC118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5128D-4B69-4745-832F-3BA06D42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5E30-4DE3-4F80-987D-98253AFC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F0B-1EA7-4476-83B2-8A06F016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8FA4-73D4-40DC-9EF9-B2F05F46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700A-1203-42F1-84A8-B9551F6F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14533-EBB3-4EBE-A18F-BCFC69A3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312FE-1898-49CB-8576-48243438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B05E3-3D7C-4A2B-A012-5C0BFAB0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5CED-EA30-44EF-A8E1-85D1581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DC43C-FF2F-4E3E-B226-BBECF94A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3078-5419-46A8-BA25-A246F1C9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5864-B6C4-43B5-A436-EAB8FCCE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C027E-B8FC-4D65-8AE2-32B0F0A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6D7-3014-464C-A89C-D79DB86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1AD9-7F2E-4137-AB6F-155FCA67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8F126-9A1A-405A-A62B-EB3AFEC7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73F2-DC99-4A2F-B40B-35A37759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F44-59B7-43EC-80CB-9181EEE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8F4-5D15-4279-9017-7B60E926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AA73-BB88-4625-A93A-57C592D7F12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5ECF-F4D8-43B8-BED6-F6E9BE1901F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9AB-3C68-4134-BFF9-CAE83DC4221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C15F-8C48-49DA-B8FF-7DFEFA5240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9145-AA00-4E23-AACB-90A662B197B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4EDD-F0E6-4B9D-928F-B0768BBF384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706320" y="738360"/>
            <a:ext cx="8413920" cy="3065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00720" y="4857480"/>
            <a:ext cx="4643280" cy="1252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аботу выполнил: Ершов Алексей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ученик  8 класс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МОУ «Октябрьская СОШ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уководитель: Куц Е.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Что такое алкоголизм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од термином «алкоголизм» объединяются все формы злоупотребление спиртными напитками, оказывающие отрицательное влияние на здоровье пьющего, его поведение, профессионально-трудовые установки и взаимоотношения с окружающ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Franklin Gothic Book"/>
              </a:rPr>
              <a:t>Пьянство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f0"/>
                </a:solidFill>
                <a:latin typeface="Arial"/>
              </a:rPr>
              <a:t>Пьянство -</a:t>
            </a:r>
            <a:r>
              <a:rPr b="1" lang="ru-RU" sz="3000" spc="-1" strike="noStrike">
                <a:solidFill>
                  <a:srgbClr val="00b0f0"/>
                </a:solidFill>
                <a:latin typeface="Arial"/>
              </a:rPr>
              <a:t> Потребление больших количеств спиртных напитков с последующим опьянением или же с целью опьянения в отличие от применения алкоголя, носящего церемониальный характер, связанного с получением удовольствия или являющегося своего рода средством общения, а также удовлетворения пищевых потребностей без намерения опьянеть. (по ВОЗ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171360" y="36360"/>
            <a:ext cx="7759800" cy="1390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8d8d8"/>
                </a:solidFill>
                <a:latin typeface="Arial"/>
              </a:rPr>
              <a:t>Среди симптомов алкоголизма ведущим является патологическое влечение к спиртным напиткам, содержащим</a:t>
            </a:r>
            <a:r>
              <a:rPr b="0" lang="ru-RU" sz="3000" spc="-1" strike="noStrike">
                <a:solidFill>
                  <a:srgbClr val="d8d8d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d8d8d8"/>
                </a:solidFill>
                <a:latin typeface="Arial"/>
              </a:rPr>
              <a:t>этиловый алкоголь</a:t>
            </a:r>
            <a:r>
              <a:rPr b="0" lang="ru-RU" sz="3000" spc="-1" strike="noStrike">
                <a:solidFill>
                  <a:srgbClr val="d8d8d8"/>
                </a:solidFill>
                <a:latin typeface="Arial"/>
              </a:rPr>
              <a:t>. Патологическое влечение к спиртным напиткам и его трансформация в динамике заболевания сближают алкоголизм с наркоманиями и токсикомания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195120" y="79200"/>
            <a:ext cx="773604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f56"/>
                </a:solidFill>
                <a:latin typeface="Arial"/>
              </a:rPr>
              <a:t>По данным ВОЗ, в настоящее время алкоголизм как причина смерти во всем мире занимает по частоте </a:t>
            </a:r>
            <a:r>
              <a:rPr b="1" lang="ru-RU" sz="2400" spc="-1" strike="noStrike" u="sng">
                <a:solidFill>
                  <a:srgbClr val="f7df56"/>
                </a:solidFill>
                <a:uFillTx/>
                <a:latin typeface="Arial"/>
              </a:rPr>
              <a:t>третье место,</a:t>
            </a:r>
            <a:r>
              <a:rPr b="1" lang="ru-RU" sz="2400" spc="-1" strike="noStrike">
                <a:solidFill>
                  <a:srgbClr val="f7df56"/>
                </a:solidFill>
                <a:latin typeface="Arial"/>
              </a:rPr>
              <a:t> уступая только злокачественным новообразованиям и сердечно-сосудистым заболеваниям. Высокий показатель смертности связан не только с большим травматизмом, но и с заболеваниями, обусловленными употреблением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j0090070"/>
          <p:cNvPicPr/>
          <p:nvPr/>
        </p:nvPicPr>
        <p:blipFill>
          <a:blip r:embed="rId2"/>
          <a:stretch/>
        </p:blipFill>
        <p:spPr>
          <a:xfrm>
            <a:off x="6767640" y="4941720"/>
            <a:ext cx="2376360" cy="171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b0f0"/>
                </a:solidFill>
                <a:latin typeface="Franklin Gothic Book"/>
              </a:rPr>
              <a:t>Вред алкоголизма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Алкоголизм и состояния острой алкогольной интоксикации часто становятся причинами несчастных случаев и скоропостижной смерти. По данным судебно-медицинских экспертов, 2/3 пострадавших от несчастных случаев находились в момент происшествия в состоянии алкогольного опьянения, причем более чем у половины из них опьянение было тяжелым. В каждом десятом случае насильственной смерти выявлялась острая алкогольная интоксикация. При смерти, связанной с воздействием низкой температуры, алкоголь в крови обнаружен в 82,2%, с механической асфиксией вследствие аспирации рвотных масс—в 66,2%, с повешением—в 58% и с утоплением— в 54,3% случае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Действие алкоголизма на потомство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f0"/>
                </a:solidFill>
                <a:latin typeface="Arial"/>
              </a:rPr>
              <a:t>Отрицательное действие алкоголизма на потомство наиболее отчетливо проявляется при злоупотреблении спиртными напитками в период беременности. Алкоголизм матери сказывается на потомстве в 2 раза чаще, чем алкоголизм отца. Злоупотребление беременной спиртными напитками способствует формированию комплекса психических и биологических отклонений у новорожденных, описываемого как алкогольный . синдром плода, или алкогольная эмбриопатия. Алкогольная эмбриопатия проявляется внутриутробным и постнатальным отставанием ребенка в физическом развит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Smert_s_kosoy"/>
          <p:cNvPicPr/>
          <p:nvPr/>
        </p:nvPicPr>
        <p:blipFill>
          <a:blip r:embed="rId1"/>
          <a:stretch/>
        </p:blipFill>
        <p:spPr>
          <a:xfrm>
            <a:off x="5867280" y="2205000"/>
            <a:ext cx="2880000" cy="31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-249120" y="-152280"/>
            <a:ext cx="8180280" cy="1579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1186920" y="1628640"/>
            <a:ext cx="6409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Arial"/>
              </a:rPr>
              <a:t>Алкоголизм является не только медицинской, но прежде всего социальной проблемой. Алкоголизм формируется постепенно, вырастая из эпизодического употребления алкоголя. В отличие от медицинских последствий алкоголизации, возникающих в большинстве случаев на фоне достаточно продолжительного злоупотребления спиртными напитками, многие социальные последствия могут формироваться уже на его ранних этапах. Это связано прежде всего с психотропным действием алкоголя и вызываемым им состоянием опьян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татистика употребления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имере США структура экономической убыточности от злоупотребления спиртными напитками оценивается следующим образ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33%</a:t>
            </a:r>
            <a:r>
              <a:rPr b="0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временная и постоянная нетрудоспособность, смертност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7%— </a:t>
            </a:r>
            <a:r>
              <a:rPr b="0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затраты на лече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19%—</a:t>
            </a:r>
            <a:r>
              <a:rPr b="0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 страховые сум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16%— </a:t>
            </a:r>
            <a:r>
              <a:rPr b="0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потери собственности по вине больных алкоголизмом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9%— </a:t>
            </a:r>
            <a:r>
              <a:rPr b="0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убытки от пожаров, возникающих по вине больных алкоголизмом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16%— </a:t>
            </a:r>
            <a:r>
              <a:rPr b="0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невыпущенная продук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4:01:52Z</dcterms:created>
  <dc:creator>Alex</dc:creator>
  <dc:description/>
  <dc:language>en-US</dc:language>
  <cp:lastModifiedBy>Админ</cp:lastModifiedBy>
  <dcterms:modified xsi:type="dcterms:W3CDTF">2012-02-20T02:58:04Z</dcterms:modified>
  <cp:revision>4</cp:revision>
  <dc:subject/>
  <dc:title>Алкоголизм- как медицинская проблема.</dc:title>
</cp:coreProperties>
</file>