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B2B9-F8EF-4CC8-9B11-AEA1C3FAE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702D-07BA-4CEF-ADC6-D8671A89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C729-AE74-471B-8AC4-FEEBDBBC5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5F75-5EC6-4BA2-A347-F8AECCED5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B1E3-7087-4DC8-88FF-66CBFAB9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4E4B-DA1F-4960-928C-2045FD216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44F8-52CA-4889-927C-F06020AE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9F7E-26D2-4366-8BDA-BEFC73DA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088D-5498-42E6-A139-4E173FE5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12E3-BB2C-415D-807F-CED8B491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7968-4250-41A3-910B-9C049332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879F-5448-4263-AACB-28E7528F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A722-979B-411F-B32F-1B413EE76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9640" y="544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За день до рождения </a:t>
            </a:r>
            <a:br>
              <a:rPr sz="4000"/>
            </a:b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Ребенок спросил у Бог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C:\Documents and Settings\User\Мои документы\день матери\с днем мамы .jpg"/>
          <p:cNvPicPr/>
          <p:nvPr/>
        </p:nvPicPr>
        <p:blipFill>
          <a:blip r:embed="rId1"/>
          <a:stretch/>
        </p:blipFill>
        <p:spPr>
          <a:xfrm>
            <a:off x="684360" y="-28440"/>
            <a:ext cx="7956360" cy="6886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00000" y="3789360"/>
            <a:ext cx="7869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Arial"/>
              </a:rPr>
              <a:t>«Не важно </a:t>
            </a:r>
            <a:br>
              <a:rPr sz="4400"/>
            </a:br>
            <a:r>
              <a:rPr b="1" i="1" lang="en-US" sz="4400" spc="-1" strike="noStrike">
                <a:solidFill>
                  <a:srgbClr val="000066"/>
                </a:solidFill>
                <a:latin typeface="Arial"/>
              </a:rPr>
              <a:t>            как его зовут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«Ты будешь </a:t>
            </a:r>
            <a:br>
              <a:rPr sz="4400"/>
            </a:b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         звать его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435640" y="5300640"/>
            <a:ext cx="370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empus Sans ITC"/>
              </a:rPr>
              <a:t>МАМА !"</a:t>
            </a:r>
            <a:endParaRPr b="1" i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47640" y="0"/>
            <a:ext cx="61912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914400" y="522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«Я не знаю, что я </a:t>
            </a:r>
            <a:br>
              <a:rPr sz="4000"/>
            </a:b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должен делать </a:t>
            </a:r>
            <a:br>
              <a:rPr sz="4000"/>
            </a:b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в этом Мире…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64612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2349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Бог ответил:</a:t>
            </a:r>
            <a:br>
              <a:rPr sz="4000"/>
            </a:b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«Я подарю тебе АНГЕЛА, который ВСЕГДА </a:t>
            </a:r>
            <a:br>
              <a:rPr sz="4000"/>
            </a:b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будет с тобой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46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260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«Но я не понимаю его язык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2565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«Ангел будет учить тебя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                           своему язык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9640" y="5157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«Он будет охранять тебя</a:t>
            </a:r>
            <a:br>
              <a:rPr sz="4000"/>
            </a:b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 от всех бед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68360" y="544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«Как и когда я должен </a:t>
            </a:r>
            <a:br>
              <a:rPr sz="4400"/>
            </a:b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вернуться к тебе?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324000" y="-66600"/>
            <a:ext cx="9937800" cy="6924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5300640"/>
            <a:ext cx="8902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«Твой ангел скажет тебе </a:t>
            </a:r>
            <a:br>
              <a:rPr sz="4400"/>
            </a:b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                                           всё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0" t="0" r="0" b="10482"/>
          <a:stretch/>
        </p:blipFill>
        <p:spPr>
          <a:xfrm>
            <a:off x="900000" y="-14400"/>
            <a:ext cx="7850160" cy="6872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14400" y="62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Arial"/>
              </a:rPr>
              <a:t>«А как зовут </a:t>
            </a:r>
            <a:br>
              <a:rPr sz="4400"/>
            </a:br>
            <a:r>
              <a:rPr b="1" i="1" lang="en-US" sz="4400" spc="-1" strike="noStrike">
                <a:solidFill>
                  <a:srgbClr val="000066"/>
                </a:solidFill>
                <a:latin typeface="Arial"/>
              </a:rPr>
              <a:t>             МОЕГО АНГЕЛА ??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5:56:00Z</dcterms:created>
  <dc:creator>зам по УВР</dc:creator>
  <dc:description/>
  <dc:language>en-US</dc:language>
  <cp:lastModifiedBy>зам по УВР</cp:lastModifiedBy>
  <dcterms:modified xsi:type="dcterms:W3CDTF">2012-02-20T07:48:09Z</dcterms:modified>
  <cp:revision>5</cp:revision>
  <dc:subject/>
  <dc:title>Слайд 1</dc:title>
</cp:coreProperties>
</file>