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19.jpeg" ContentType="image/jpeg"/>
  <Override PartName="/ppt/media/image21.jpeg" ContentType="image/jpeg"/>
  <Override PartName="/ppt/media/image16.png" ContentType="image/png"/>
  <Override PartName="/ppt/media/image20.wmf" ContentType="image/x-wmf"/>
  <Override PartName="/ppt/media/image18.png" ContentType="image/png"/>
  <Override PartName="/ppt/media/image17.wmf" ContentType="image/x-wmf"/>
  <Override PartName="/ppt/media/image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9.jpeg" ContentType="image/jpeg"/>
  <Override PartName="/ppt/media/image5.gif" ContentType="image/gi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E94-574F-4EB8-A6E1-DA67F845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A81-95A6-43A6-AFE7-51AC96EA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C87-E5F8-4EBB-87DD-D5DDC27F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A2E-9E05-49B0-B922-9C4DA697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AAB2-85D1-46EE-883F-09701ED0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A1C-A6CB-4773-934A-F753FD5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4CA2-935D-4D85-9094-52F4873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F27-8BC5-44AA-8A67-65D0C476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280D-7D02-4FFC-A3C0-3694B9C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A2E9-2B54-4B00-B8D3-254D1B7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C68E-C2E2-45F5-BD25-811F1A1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A96-42E8-4221-9D3E-379B8C77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88A3-BA56-4C76-BD99-8629642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8F2-6E93-466C-A31B-47D3341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FF1-FDCC-451A-8CC0-8F46209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662A-AEEA-4ACB-8BDD-7390C2EC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0C1C-CFCF-483C-B786-DB079996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747-665A-4D1C-9C1B-4A201B5A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E3B-901F-4B23-923E-A70474B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30C-8698-4234-A0F9-F69EBF0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0B4-947D-4992-965B-4282667C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0F-3E23-4884-BD71-0B96D4D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1FC-6C58-4F51-BD16-8F4DF97B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953-9AEF-4E21-98FC-3EFF0B5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06E-C115-4D38-9F28-088AC5B34C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317A-54AF-43FE-B7B7-791C529595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Л.Петрушевская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«Борьба и победа»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урок-мастерская)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рассказ о «правде жизни»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предполагает неоднозначность трактовки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нет анализа рассказа (мотивация – интерес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71800" y="38862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Цель урока (для учител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создание условий для формирования навыков самопознания, ценностных ориентаций, для приобретения обучающимися собственного духовного опыта через анализ содержательной стороны произведения (осмысления философских и нравственных проблем, поднятых в рассказе «Борьба и победа»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Содержимое 3" descr="pics.1.jpg"/>
          <p:cNvPicPr/>
          <p:nvPr/>
        </p:nvPicPr>
        <p:blipFill>
          <a:blip r:embed="rId1"/>
          <a:stretch/>
        </p:blipFill>
        <p:spPr>
          <a:xfrm>
            <a:off x="228600" y="35812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362320" y="762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81280" y="76212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4876920"/>
            <a:ext cx="798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да бредёшь,  победная головушка?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79132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Бедовый, несчастный, невезучий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0720" y="2362320"/>
            <a:ext cx="75722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бда (древнерусский язык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пора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342900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бда (старославянский)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«…всё, что надо было сделать, уже сделано…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1295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было сдела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б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и чув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«Реконструкция»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работа в парах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а цель борьбы героин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ди кого она борола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игнута ли цел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лагодарны ли ей собственные де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езультате больше побед или бед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96080" y="4876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нонимы к слов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00800" y="1066680"/>
            <a:ext cx="19051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бе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82600" y="2017800"/>
          <a:ext cx="7772400" cy="4236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увствует ли героиня побед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пе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рж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иум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в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 txBox="1"/>
          <p:nvPr/>
        </p:nvSpPr>
        <p:spPr>
          <a:xfrm>
            <a:off x="1981080" y="2286000"/>
            <a:ext cx="2266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ноним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1160" y="2295000"/>
            <a:ext cx="7342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Борьб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созидательная функция, основа диалектического развития общества: синтез (единство) может быть достигнут только через внутреннюю работу человека - борьбу противоположностей и их снят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лософский словар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812960" cy="1239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0600" y="17604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Формулировка первоначальной гипоте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Так была ли побе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8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Жена осталась совершенно одна…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ая жизненная ситуация может перейти в собственную противоположнос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жно ли эти слова отнести к героине рассказ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лько ли близких людей лишилась героин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изменилась её жизнь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нилась ли она сам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местно ли здесь говорить об антитез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 чём свидетельствует факт, что на надгробной плите рядом с портретом мужа и его дочери и её собственный портре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97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амая большая победа – это победа над собой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носятся ли эти слова к герои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шло ли к ней осознание ви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йдите ключевые фразы, подтверждающие ваше мн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поняла героиня? Когда можно было остановиться и начать жить по- друго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кончательная формулировка гипотезы (индивидуально или в парах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чём смысл названия рассказ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бы вы теперь его озаглавил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й вопрос можно поставить в качестве заглав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971800" cy="3124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4647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                                    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4 этап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оциоконструкция» – работа в группах по подготовке к выступлению-ответу на проблемный вопрос (создание группового интеллектуального продукта: устной защиты гипотезы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5 этап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Социализация» – защита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гипотез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вопросы, обсуждение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                                  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1 этап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«Актуализация»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«Индукция» - («наведение» - проблемная ситуация, вопрос) включение чувств, создание эмоционального настроя, личного отношения к предмету обсужд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6 этап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Разрыв» (прочувствование)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Качества героини рассказ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665440" cy="386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28600" y="2286000"/>
          <a:ext cx="8726400" cy="3581280"/>
        </p:xfrm>
        <a:graphic>
          <a:graphicData uri="http://schemas.openxmlformats.org/drawingml/2006/table">
            <a:tbl>
              <a:tblPr/>
              <a:tblGrid>
                <a:gridCol w="4403880"/>
                <a:gridCol w="43225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01840" cy="344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95280" y="762120"/>
            <a:ext cx="744876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 не ладится в этой квартир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этом городе, в этой стран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этом блёклом, развинченном мир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ечальней всего, что во мн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митрий Боков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омашнее задание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по выбору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цензия на рассказ Л.Петрушевской «Борьба и побед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чинение-рассуждение на основе прочитанного тек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ссе «Смысл жизни… В чём он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ложить эскиз обложки к рассказу или нарисовать к нему иллюст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778120"/>
            <a:ext cx="712476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то было важно на уроке именно для теб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то тебе особенно понравилось, запомнилось в рабо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гласился ли ты с большинством в решении проблемного вопрос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ие виды работы тебе особенно удались? Что было трудно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думался ли ты о себ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10280" y="502920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762120" y="2133720"/>
            <a:ext cx="76197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рмонии вашим душа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571480" cy="2971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76520" y="3886200"/>
            <a:ext cx="6095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РЬБА  И  ПОБЕД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26035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9880" y="762120"/>
            <a:ext cx="484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дмила Стефанов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трушев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257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УРОК - МАСТЕР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изведения Л.Петрушевской рассчитаны на серьёзного читате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на даёт примеры социальных конфликтов, «прозы жизни», заставляя читателя самостоятельно постигать противоречия реальности и искать вых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Г.И. Пушкарь «Типология и поэтизация    женской прозы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10480" y="184320"/>
            <a:ext cx="514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Литература не прокур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Она призвана влиять на развитие Душ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читателя, который волен выби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«карать или миловать»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Л. Петруш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32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24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62120" y="3886200"/>
            <a:ext cx="744840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 не ладится в этой квартир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этом городе, в этой стран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этом блёклом, развинченном мире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ечальней всего, что во мн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митрий Боков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800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активное столкновение противоположных интересов, деятельность, направленная на преодоление, уничтожение чего-либ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295280" y="350532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бе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121932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рьб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1960" y="3505320"/>
            <a:ext cx="5642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пех в борьбе за что-либ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еодоление чего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Академический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усского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2096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                                    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2 этап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Формулировка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темы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целей урока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проблемного вопрос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21004200">
            <a:off x="7009920" y="4190760"/>
            <a:ext cx="14544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304920"/>
            <a:ext cx="44956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рьб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6920" y="10238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 что? С кем? К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4120" y="1066680"/>
            <a:ext cx="3276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бе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806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ыла ли победа? Над к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чём она заключала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09680" y="2666880"/>
            <a:ext cx="548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мысл названия рассказ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.Петрушевск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Борьба и победа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1832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792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                                   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3 этап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амоконструкция» –индивидуальное создание гипотезы (решения проблемного вопроса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419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ыскать, перечитать и проанализировать ключевые эпизоды рассказа, раскрывающие смысл названия произве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0T16:51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