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media/image22.png" ContentType="image/png"/>
  <Override PartName="/ppt/media/image2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6DB9-EA74-4971-A95A-38F8065FEF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757D-6249-4560-9DF8-E46C318E34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642-CAB7-4C6B-9895-220B7546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70B-3100-46AC-B0BD-2AC8B46A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967-6F17-455B-B191-38DEC204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2D6-A9EC-4C28-AAF0-B25FD14B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0C6E-840B-4D62-B4A5-4FE48525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B5E3-187B-4BF4-AF18-2A371697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DDA2-E235-4023-98D9-43FB516E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8E4F-A790-4864-9514-B9C13807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B49D-F902-45BC-9DA4-45DBFEB1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F15E-2678-4B25-9EB2-B9F9187F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5C3D-0D4B-4E3B-86B9-A1D49D91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4125-069B-4221-B4F3-4B4D55A8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00EF-1746-4674-9268-280227FA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1592-3819-4F57-867D-2CE960DC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AA07-A6FC-4859-A064-BAE74BEE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04F4-E2C4-4313-B363-8415632D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CD58-3F45-49E5-80BD-D189B852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841D8-8078-49AE-A429-4E85A1D2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83B9C-8A72-4D93-9FD5-4615F15F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304C0-39C4-4BA1-8B39-3D651678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EFD53-8A34-46FB-907F-131B6D3B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B7547-658D-475D-99B7-6BDD7EC5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B74-A337-4479-BD45-FA351F08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C3A37-09D0-4880-A7A8-D9ADB256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464E-7C13-4FE0-8C93-88DB68AB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343F-BF9E-4B7C-BEE7-FDE053AA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0E150-722A-4639-B574-B639FF16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A079-BF67-4CD6-BBA1-75D94B51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810B-08C7-4049-96CB-0D86ED95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21647-3451-4818-856D-05A3279C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36056-C24A-4DEC-8C67-97999B6D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AA432-9FC9-4EED-B2C0-DB233C3D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E6286-9EF5-4CDD-9667-DA1D83F9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0B2-564A-46E6-A6BD-7B183E22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C1639-5454-4215-88D7-E14D35A6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FA822-B613-450C-8677-10C8A905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AD822-CED7-4E79-B999-1BE30937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2D86F-84EC-46D8-9098-836A1DD2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BE435-9F37-4F68-B065-BF0FCC69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E8C0F-A111-464A-9BC3-C9DD6E52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F14EE-3F10-46A4-A81A-49638294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3CAE0-02E6-4D6D-B295-8AD0CA7F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7B015-57A2-4DC6-87E7-AE4FEC4A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84C5C-A259-4DB4-9EED-93B566AA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D45-990D-4777-8537-67AEF17C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50A05-4692-4F42-9511-EEB3AB5A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7F17A-6637-4637-A0C0-03480854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0A95D-2850-4F87-8DE8-27182841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8F8E5-AF3F-469D-A980-AD7CAE3E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320D8-5BA7-421A-8CCA-42EEB107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CC99F-1592-4973-B208-F33FAD64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93B5D-0D56-4DE4-B3A6-0F504985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17E16-4158-4E4C-8BF3-F736ABD0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098D7-10F4-41F7-904E-DD1E3672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6DB1D-12DD-4B9E-931E-948E0C1E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9DB-1F51-4D7F-B629-9E514032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989E1-1F5A-4A55-BBC4-5D65366E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A0A33-BC4B-4A3A-82FC-F6464F5F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BB76A-058C-42B4-B385-B8192416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97E30-93BE-49C8-9F42-D60EFF0A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87EEA-392C-4C34-A615-B670E01E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477CB-08D7-4A98-933D-E0ACB424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E7739-9817-4784-8A6C-39C93E03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ADDCB-2F57-4747-B437-B55E34D2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B8E99-30B9-4A43-96EB-96DCDE83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3EA48-7A50-446C-A58B-61928772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FAC1-B964-44AA-9D67-98D3CAC3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30FD5-ACE0-4B1C-A319-EA790F14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DAC52-663F-49BE-A37D-99795171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B1005-105D-4270-BE11-A61EF9D7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96441-1A50-4014-A6EE-911A2BE8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D9D91-8A2E-40FF-8EDE-E70AF5CC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921BA-2130-4F22-B248-18A5CE6F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08D7E-8CD4-4EA8-B43E-F0570FBC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DF904-5BEC-496A-9F0A-7BD115BD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B5DF2-A533-4AEB-A6CB-BCB6A52C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AEA1F-22DE-47A1-855A-2C4C6753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2C3-C72E-4D0D-BE14-1E8628D9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7C2CC-530C-412C-AD0A-609E9C8B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F3DE3-19EC-4571-BD74-B881D328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806D3-35B7-4967-89D9-43750A96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DC9E2-C686-4232-9EE3-B6519DD5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B8745-058D-4276-B730-E1D74E4F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B57-AE50-4CBC-A9CD-BEFA47D3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EDE7-366D-4D03-BB70-06438D9D638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65DB-4127-43F4-9D25-55E9BD372CD6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7058-F79F-4ED2-ACED-AD98A30A24B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80AE-12AD-48D1-83BA-831059B8DF4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D942-BBB5-4C30-B18F-AB5996C668E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430D-99EF-43B0-A071-53B332AFB6F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3107-24E6-422A-A4CD-3AE56E515FB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jpe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572314"/>
                </a:solidFill>
                <a:latin typeface="Arial Narrow"/>
              </a:rPr>
              <a:t>Что такое йогурты?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2080" y="3933360"/>
            <a:ext cx="7711920" cy="2714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20e04"/>
                </a:solidFill>
                <a:latin typeface="Corbel"/>
              </a:rPr>
              <a:t>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20e04"/>
                </a:solidFill>
                <a:latin typeface="Corbel"/>
              </a:rPr>
              <a:t>по биолог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20e04"/>
                </a:solidFill>
                <a:latin typeface="Corbel"/>
              </a:rPr>
              <a:t>учащихся 9 «б» класс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20e04"/>
                </a:solidFill>
                <a:latin typeface="Corbel"/>
              </a:rPr>
              <a:t>гимназии №44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20e04"/>
                </a:solidFill>
                <a:latin typeface="Corbel"/>
              </a:rPr>
              <a:t>Козловой Натальи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20e04"/>
                </a:solidFill>
                <a:latin typeface="Corbel"/>
              </a:rPr>
              <a:t>Сергеевой Екатерин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Рисунок 3" descr="йог.jpg"/>
          <p:cNvPicPr/>
          <p:nvPr/>
        </p:nvPicPr>
        <p:blipFill>
          <a:blip r:embed="rId2"/>
          <a:stretch/>
        </p:blipFill>
        <p:spPr>
          <a:xfrm>
            <a:off x="1214280" y="2071800"/>
            <a:ext cx="2786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Прямоугольник 2" descr=""/>
          <p:cNvPicPr/>
          <p:nvPr/>
        </p:nvPicPr>
        <p:blipFill>
          <a:blip r:embed="rId2"/>
          <a:stretch/>
        </p:blipFill>
        <p:spPr>
          <a:xfrm>
            <a:off x="920880" y="146160"/>
            <a:ext cx="8229600" cy="1444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2449800" cy="2448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1795680" cy="2376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"/>
          <p:cNvPicPr/>
          <p:nvPr/>
        </p:nvPicPr>
        <p:blipFill>
          <a:blip r:embed="rId5"/>
          <a:stretch/>
        </p:blipFill>
        <p:spPr>
          <a:xfrm>
            <a:off x="4716360" y="1484280"/>
            <a:ext cx="1886040" cy="2665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6"/>
          <a:stretch/>
        </p:blipFill>
        <p:spPr>
          <a:xfrm>
            <a:off x="1116000" y="4076640"/>
            <a:ext cx="2973240" cy="2529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"/>
          <p:cNvPicPr/>
          <p:nvPr/>
        </p:nvPicPr>
        <p:blipFill>
          <a:blip r:embed="rId7"/>
          <a:stretch/>
        </p:blipFill>
        <p:spPr>
          <a:xfrm>
            <a:off x="3924360" y="414972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"/>
          <p:cNvPicPr/>
          <p:nvPr/>
        </p:nvPicPr>
        <p:blipFill>
          <a:blip r:embed="rId8"/>
          <a:stretch/>
        </p:blipFill>
        <p:spPr>
          <a:xfrm>
            <a:off x="6588000" y="3716280"/>
            <a:ext cx="2086200" cy="2808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"/>
          <p:cNvPicPr/>
          <p:nvPr/>
        </p:nvPicPr>
        <p:blipFill>
          <a:blip r:embed="rId9"/>
          <a:stretch/>
        </p:blipFill>
        <p:spPr>
          <a:xfrm>
            <a:off x="6443640" y="1700280"/>
            <a:ext cx="23558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Прямоугольник 1" descr=""/>
          <p:cNvPicPr/>
          <p:nvPr/>
        </p:nvPicPr>
        <p:blipFill>
          <a:blip r:embed="rId2"/>
          <a:stretch/>
        </p:blipFill>
        <p:spPr>
          <a:xfrm>
            <a:off x="920880" y="146160"/>
            <a:ext cx="8229600" cy="828720"/>
          </a:xfrm>
          <a:prstGeom prst="rect">
            <a:avLst/>
          </a:prstGeom>
          <a:ln w="0">
            <a:noFill/>
          </a:ln>
        </p:spPr>
      </p:pic>
      <p:sp>
        <p:nvSpPr>
          <p:cNvPr id="385" name="Содержимое 2"/>
          <p:cNvSpPr/>
          <p:nvPr/>
        </p:nvSpPr>
        <p:spPr>
          <a:xfrm>
            <a:off x="1116000" y="1413000"/>
            <a:ext cx="792000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ставе йогуртов присутствуют пищевые добавки, которые не оказывают отрицательного воздействия на организм человека - желатин и антоци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йогуртах содержатся пищевые добавки, которые усиливают вкусовые качества и продлевают срок хранения продукта, но могут отрицательно воздействовать на состояние здоровья человека. Пищевая добавка Е-1442, модифицированный крахмал, может вызвать заболевание поджелудочной железы - панкреонекроз. Онкологические заболевания  может вызвать  лимонная кислота, так же  встречается индивидуальная непереносимость лимонной кислоты. Пектин в индивидуальных случаях может вызвать аллергическую реак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Содержимое 3" descr=""/>
          <p:cNvPicPr/>
          <p:nvPr/>
        </p:nvPicPr>
        <p:blipFill>
          <a:blip r:embed="rId2"/>
          <a:stretch/>
        </p:blipFill>
        <p:spPr>
          <a:xfrm>
            <a:off x="731880" y="-6480"/>
            <a:ext cx="87105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2"/>
          <a:stretch/>
        </p:blipFill>
        <p:spPr>
          <a:xfrm>
            <a:off x="901800" y="566640"/>
            <a:ext cx="7821360" cy="539604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оугольник 5" descr=""/>
          <p:cNvPicPr/>
          <p:nvPr/>
        </p:nvPicPr>
        <p:blipFill>
          <a:blip r:embed="rId3"/>
          <a:stretch/>
        </p:blipFill>
        <p:spPr>
          <a:xfrm>
            <a:off x="1133640" y="-171360"/>
            <a:ext cx="8016840" cy="109836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6" descr="yogurt.jpg"/>
          <p:cNvPicPr/>
          <p:nvPr/>
        </p:nvPicPr>
        <p:blipFill>
          <a:blip r:embed="rId4"/>
          <a:stretch/>
        </p:blipFill>
        <p:spPr>
          <a:xfrm>
            <a:off x="5148360" y="981000"/>
            <a:ext cx="3625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Прямоугольник 1" descr=""/>
          <p:cNvPicPr/>
          <p:nvPr/>
        </p:nvPicPr>
        <p:blipFill>
          <a:blip r:embed="rId2"/>
          <a:stretch/>
        </p:blipFill>
        <p:spPr>
          <a:xfrm>
            <a:off x="993600" y="-171360"/>
            <a:ext cx="8156880" cy="109836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2" descr="йог.JPG"/>
          <p:cNvPicPr/>
          <p:nvPr/>
        </p:nvPicPr>
        <p:blipFill>
          <a:blip r:embed="rId3"/>
          <a:stretch/>
        </p:blipFill>
        <p:spPr>
          <a:xfrm>
            <a:off x="1100160" y="1357200"/>
            <a:ext cx="78138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2" descr="олрлыц.JPG"/>
          <p:cNvPicPr/>
          <p:nvPr/>
        </p:nvPicPr>
        <p:blipFill>
          <a:blip r:embed="rId2"/>
          <a:stretch/>
        </p:blipFill>
        <p:spPr>
          <a:xfrm>
            <a:off x="1187280" y="2060640"/>
            <a:ext cx="7643880" cy="424800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оугольник 4" descr=""/>
          <p:cNvPicPr/>
          <p:nvPr/>
        </p:nvPicPr>
        <p:blipFill>
          <a:blip r:embed="rId3"/>
          <a:stretch/>
        </p:blipFill>
        <p:spPr>
          <a:xfrm>
            <a:off x="865080" y="-92160"/>
            <a:ext cx="84916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Прямоугольник 1" descr=""/>
          <p:cNvPicPr/>
          <p:nvPr/>
        </p:nvPicPr>
        <p:blipFill>
          <a:blip r:embed="rId2"/>
          <a:stretch/>
        </p:blipFill>
        <p:spPr>
          <a:xfrm>
            <a:off x="658800" y="-133200"/>
            <a:ext cx="8753400" cy="96840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2"/>
          <p:cNvSpPr/>
          <p:nvPr/>
        </p:nvSpPr>
        <p:spPr>
          <a:xfrm>
            <a:off x="3000240" y="928800"/>
            <a:ext cx="3643560" cy="7858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коровье мол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вниз 3"/>
          <p:cNvSpPr/>
          <p:nvPr/>
        </p:nvSpPr>
        <p:spPr>
          <a:xfrm>
            <a:off x="4714920" y="1785960"/>
            <a:ext cx="28584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4"/>
          <p:cNvSpPr/>
          <p:nvPr/>
        </p:nvSpPr>
        <p:spPr>
          <a:xfrm>
            <a:off x="3071880" y="2571840"/>
            <a:ext cx="3571920" cy="428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йогуртовые бакт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Прямая со стрелкой 8"/>
          <p:cNvCxnSpPr/>
          <p:nvPr/>
        </p:nvCxnSpPr>
        <p:spPr>
          <a:xfrm flipH="1">
            <a:off x="3000240" y="3142080"/>
            <a:ext cx="643320" cy="429480"/>
          </a:xfrm>
          <a:prstGeom prst="straightConnector1">
            <a:avLst/>
          </a:prstGeom>
          <a:ln w="9360">
            <a:solidFill>
              <a:srgbClr val="35436a"/>
            </a:solidFill>
            <a:miter/>
            <a:tailEnd len="med" type="arrow" w="med"/>
          </a:ln>
        </p:spPr>
      </p:cxnSp>
      <p:cxnSp>
        <p:nvCxnSpPr>
          <p:cNvPr id="340" name="Прямая со стрелкой 10"/>
          <p:cNvCxnSpPr/>
          <p:nvPr/>
        </p:nvCxnSpPr>
        <p:spPr>
          <a:xfrm>
            <a:off x="6000840" y="3142800"/>
            <a:ext cx="643320" cy="429480"/>
          </a:xfrm>
          <a:prstGeom prst="straightConnector1">
            <a:avLst/>
          </a:prstGeom>
          <a:ln w="9360">
            <a:solidFill>
              <a:srgbClr val="35436a"/>
            </a:solidFill>
            <a:miter/>
            <a:tailEnd len="med" type="arrow" w="med"/>
          </a:ln>
        </p:spPr>
      </p:cxnSp>
      <p:sp>
        <p:nvSpPr>
          <p:cNvPr id="341" name="TextBox 15"/>
          <p:cNvSpPr/>
          <p:nvPr/>
        </p:nvSpPr>
        <p:spPr>
          <a:xfrm>
            <a:off x="1214280" y="3643200"/>
            <a:ext cx="30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Болгарская па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6"/>
          <p:cNvSpPr/>
          <p:nvPr/>
        </p:nvSpPr>
        <p:spPr>
          <a:xfrm>
            <a:off x="4786200" y="364320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Термофильный стрептокок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Рисунок 17" descr="бп.jpeg"/>
          <p:cNvPicPr/>
          <p:nvPr/>
        </p:nvPicPr>
        <p:blipFill>
          <a:blip r:embed="rId3"/>
          <a:stretch/>
        </p:blipFill>
        <p:spPr>
          <a:xfrm>
            <a:off x="1214280" y="4286160"/>
            <a:ext cx="3357720" cy="225900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8" descr="тс.jpg"/>
          <p:cNvPicPr/>
          <p:nvPr/>
        </p:nvPicPr>
        <p:blipFill>
          <a:blip r:embed="rId4"/>
          <a:stretch/>
        </p:blipFill>
        <p:spPr>
          <a:xfrm>
            <a:off x="5143680" y="4286160"/>
            <a:ext cx="3429000" cy="22226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9"/>
          <p:cNvSpPr/>
          <p:nvPr/>
        </p:nvSpPr>
        <p:spPr>
          <a:xfrm>
            <a:off x="5143680" y="1928880"/>
            <a:ext cx="21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закваш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Прямоугольник 1" descr=""/>
          <p:cNvPicPr/>
          <p:nvPr/>
        </p:nvPicPr>
        <p:blipFill>
          <a:blip r:embed="rId2"/>
          <a:stretch/>
        </p:blipFill>
        <p:spPr>
          <a:xfrm>
            <a:off x="1133640" y="-122400"/>
            <a:ext cx="8016840" cy="157320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2" descr="стамен.jpg"/>
          <p:cNvPicPr/>
          <p:nvPr/>
        </p:nvPicPr>
        <p:blipFill>
          <a:blip r:embed="rId3"/>
          <a:stretch/>
        </p:blipFill>
        <p:spPr>
          <a:xfrm>
            <a:off x="1332000" y="1484280"/>
            <a:ext cx="3141720" cy="446076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3" descr="мечников.JPG"/>
          <p:cNvPicPr/>
          <p:nvPr/>
        </p:nvPicPr>
        <p:blipFill>
          <a:blip r:embed="rId4"/>
          <a:stretch/>
        </p:blipFill>
        <p:spPr>
          <a:xfrm>
            <a:off x="5549760" y="1643040"/>
            <a:ext cx="2872080" cy="4233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349" name="TextBox 5"/>
          <p:cNvSpPr/>
          <p:nvPr/>
        </p:nvSpPr>
        <p:spPr>
          <a:xfrm>
            <a:off x="5219640" y="60930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Илья Ильич Меч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6"/>
          <p:cNvSpPr/>
          <p:nvPr/>
        </p:nvSpPr>
        <p:spPr>
          <a:xfrm>
            <a:off x="1332000" y="60930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Стамен Григ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4" descr=""/>
          <p:cNvPicPr/>
          <p:nvPr/>
        </p:nvPicPr>
        <p:blipFill>
          <a:blip r:embed="rId2"/>
          <a:stretch/>
        </p:blipFill>
        <p:spPr>
          <a:xfrm>
            <a:off x="963720" y="60480"/>
            <a:ext cx="8015040" cy="90324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ая соединительная линия 6"/>
          <p:cNvSpPr/>
          <p:nvPr/>
        </p:nvSpPr>
        <p:spPr>
          <a:xfrm>
            <a:off x="4932360" y="907920"/>
            <a:ext cx="0" cy="433440"/>
          </a:xfrm>
          <a:prstGeom prst="line">
            <a:avLst/>
          </a:prstGeom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12"/>
          <p:cNvSpPr/>
          <p:nvPr/>
        </p:nvSpPr>
        <p:spPr>
          <a:xfrm flipH="1">
            <a:off x="2555640" y="1341360"/>
            <a:ext cx="2376360" cy="0"/>
          </a:xfrm>
          <a:prstGeom prst="line">
            <a:avLst/>
          </a:prstGeom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Прямая со стрелкой 15"/>
          <p:cNvCxnSpPr/>
          <p:nvPr/>
        </p:nvCxnSpPr>
        <p:spPr>
          <a:xfrm flipH="1">
            <a:off x="2555640" y="1341360"/>
            <a:ext cx="2160" cy="50400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triangle" w="med"/>
          </a:ln>
        </p:spPr>
      </p:cxnSp>
      <p:sp>
        <p:nvSpPr>
          <p:cNvPr id="355" name="Скругленный прямоугольник 18"/>
          <p:cNvSpPr/>
          <p:nvPr/>
        </p:nvSpPr>
        <p:spPr>
          <a:xfrm>
            <a:off x="1619280" y="1916280"/>
            <a:ext cx="1873080" cy="504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Жи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19"/>
          <p:cNvSpPr/>
          <p:nvPr/>
        </p:nvSpPr>
        <p:spPr>
          <a:xfrm>
            <a:off x="6372360" y="191628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Мерт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Прямая со стрелкой 16"/>
          <p:cNvCxnSpPr/>
          <p:nvPr/>
        </p:nvCxnSpPr>
        <p:spPr>
          <a:xfrm flipH="1">
            <a:off x="7308000" y="1341360"/>
            <a:ext cx="2520" cy="50400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triangle" w="med"/>
          </a:ln>
        </p:spPr>
      </p:cxnSp>
      <p:sp>
        <p:nvSpPr>
          <p:cNvPr id="358" name="Прямая соединительная линия 21"/>
          <p:cNvSpPr/>
          <p:nvPr/>
        </p:nvSpPr>
        <p:spPr>
          <a:xfrm flipH="1">
            <a:off x="4932000" y="1341360"/>
            <a:ext cx="2376360" cy="0"/>
          </a:xfrm>
          <a:prstGeom prst="line">
            <a:avLst/>
          </a:prstGeom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Прямая со стрелкой 22"/>
          <p:cNvCxnSpPr/>
          <p:nvPr/>
        </p:nvCxnSpPr>
        <p:spPr>
          <a:xfrm flipH="1">
            <a:off x="2555640" y="2491920"/>
            <a:ext cx="2160" cy="36108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triangle" w="med"/>
          </a:ln>
        </p:spPr>
      </p:cxnSp>
      <p:cxnSp>
        <p:nvCxnSpPr>
          <p:cNvPr id="360" name="Прямая со стрелкой 25"/>
          <p:cNvCxnSpPr/>
          <p:nvPr/>
        </p:nvCxnSpPr>
        <p:spPr>
          <a:xfrm flipH="1">
            <a:off x="7308000" y="2491920"/>
            <a:ext cx="2520" cy="36108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triangle" w="med"/>
          </a:ln>
        </p:spPr>
      </p:cxnSp>
      <p:sp>
        <p:nvSpPr>
          <p:cNvPr id="361" name="Скругленный прямоугольник 28"/>
          <p:cNvSpPr/>
          <p:nvPr/>
        </p:nvSpPr>
        <p:spPr>
          <a:xfrm>
            <a:off x="1258920" y="2924280"/>
            <a:ext cx="2592360" cy="1081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Заквасочные микроорганизмы после пастер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кругленный прямоугольник 29"/>
          <p:cNvSpPr/>
          <p:nvPr/>
        </p:nvSpPr>
        <p:spPr>
          <a:xfrm>
            <a:off x="6012000" y="2924280"/>
            <a:ext cx="2592360" cy="1081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Заквасочные микроорганизмы до пастер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Прямая со стрелкой 30"/>
          <p:cNvCxnSpPr/>
          <p:nvPr/>
        </p:nvCxnSpPr>
        <p:spPr>
          <a:xfrm flipH="1">
            <a:off x="2555640" y="4076280"/>
            <a:ext cx="2160" cy="36108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triangle" w="med"/>
          </a:ln>
        </p:spPr>
      </p:cxnSp>
      <p:sp>
        <p:nvSpPr>
          <p:cNvPr id="364" name="Скругленный прямоугольник 31"/>
          <p:cNvSpPr/>
          <p:nvPr/>
        </p:nvSpPr>
        <p:spPr>
          <a:xfrm>
            <a:off x="1476360" y="4508640"/>
            <a:ext cx="2158920" cy="936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био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ебио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2"/>
          <p:cNvSpPr/>
          <p:nvPr/>
        </p:nvSpPr>
        <p:spPr>
          <a:xfrm flipH="1">
            <a:off x="1475640" y="4437000"/>
            <a:ext cx="18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Содержимое 3"/>
          <p:cNvSpPr/>
          <p:nvPr/>
        </p:nvSpPr>
        <p:spPr>
          <a:xfrm>
            <a:off x="1042920" y="1197000"/>
            <a:ext cx="810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Пищевые добавк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вещества природного или искусственного происхождения, используемые для усовершенствования технологий получения продуктов питания, сохранения или придания им необходимых свойств, увеличения сроков хран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Задачи пищевых добаво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увеличивают срок хранения продуктов питания, что необходимо для их транспортировки в разные уголки земного шар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идают продуктам питания необходимые и приятные свойства – красивый цвет, привлекательный вкус и аромат, густую консистенц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Прямоугольник 2" descr=""/>
          <p:cNvPicPr/>
          <p:nvPr/>
        </p:nvPicPr>
        <p:blipFill>
          <a:blip r:embed="rId2"/>
          <a:stretch/>
        </p:blipFill>
        <p:spPr>
          <a:xfrm>
            <a:off x="963720" y="60480"/>
            <a:ext cx="801504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Прямоугольник 10" descr=""/>
          <p:cNvPicPr/>
          <p:nvPr/>
        </p:nvPicPr>
        <p:blipFill>
          <a:blip r:embed="rId2"/>
          <a:stretch/>
        </p:blipFill>
        <p:spPr>
          <a:xfrm>
            <a:off x="895320" y="122400"/>
            <a:ext cx="8272440" cy="974520"/>
          </a:xfrm>
          <a:prstGeom prst="rect">
            <a:avLst/>
          </a:prstGeom>
          <a:ln w="0">
            <a:noFill/>
          </a:ln>
        </p:spPr>
      </p:pic>
      <p:sp>
        <p:nvSpPr>
          <p:cNvPr id="369" name="Скругленный прямоугольник 9"/>
          <p:cNvSpPr/>
          <p:nvPr/>
        </p:nvSpPr>
        <p:spPr>
          <a:xfrm>
            <a:off x="1116000" y="1413000"/>
            <a:ext cx="2462400" cy="1368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Снижает уровень холес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28"/>
          <p:cNvSpPr/>
          <p:nvPr/>
        </p:nvSpPr>
        <p:spPr>
          <a:xfrm>
            <a:off x="3780000" y="1413000"/>
            <a:ext cx="2462040" cy="1368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Активизирует витамины группы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кругленный прямоугольник 29"/>
          <p:cNvSpPr/>
          <p:nvPr/>
        </p:nvSpPr>
        <p:spPr>
          <a:xfrm>
            <a:off x="1116000" y="3141720"/>
            <a:ext cx="2462400" cy="13669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Снабжает организм кальц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ый прямоугольник 30"/>
          <p:cNvSpPr/>
          <p:nvPr/>
        </p:nvSpPr>
        <p:spPr>
          <a:xfrm>
            <a:off x="3780000" y="3141720"/>
            <a:ext cx="2462040" cy="13669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Борется с вредными бактер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кругленный прямоугольник 31"/>
          <p:cNvSpPr/>
          <p:nvPr/>
        </p:nvSpPr>
        <p:spPr>
          <a:xfrm>
            <a:off x="6443640" y="3141720"/>
            <a:ext cx="2463840" cy="13669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Помогает в  толстом кишеч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кругленный прямоугольник 32"/>
          <p:cNvSpPr/>
          <p:nvPr/>
        </p:nvSpPr>
        <p:spPr>
          <a:xfrm>
            <a:off x="3780000" y="4869000"/>
            <a:ext cx="2462040" cy="1368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Успокаивает расстроенный кише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кругленный прямоугольник 33"/>
          <p:cNvSpPr/>
          <p:nvPr/>
        </p:nvSpPr>
        <p:spPr>
          <a:xfrm>
            <a:off x="6443640" y="1413000"/>
            <a:ext cx="2463840" cy="1368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Укрепляет иммунную сис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08:21:41Z</dcterms:created>
  <dc:creator>Антон Чернов</dc:creator>
  <dc:description/>
  <dc:language>en-US</dc:language>
  <cp:lastModifiedBy>user</cp:lastModifiedBy>
  <dcterms:modified xsi:type="dcterms:W3CDTF">2012-02-20T20:36:11Z</dcterms:modified>
  <cp:revision>25</cp:revision>
  <dc:subject/>
  <dc:title>Что такое йогурты?</dc:title>
</cp:coreProperties>
</file>