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E17-07F1-40B3-ADD3-29489D6EEB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5AA-6C7A-455E-B968-50CA138E66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208-EA1D-4A9C-9C30-E3B4E992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9E4-7CC2-4303-8F26-86C9AF5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D4A-BDB7-466B-87FB-896B408B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6A1-F216-4EEF-93FE-801953D2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AB1-0ABF-4300-8E33-B601E7C4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C2F-AAC8-4CE2-A504-BADBD712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AA3-B5A0-4A96-906F-83A2A64F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58B-AE49-4819-A96E-83EB0AF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59E-0E57-4C20-B688-31E64D61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9FD-9065-4BB1-92B8-C25DFB54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A30-58A0-4130-B0BB-67C9D32F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60C-A649-46A5-8072-3B8E4EE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EFD2-0686-47D5-8730-DE30A284A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6520_angel.pps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file:///&#1040;&#1053;&#1043;&#1045;&#1051;%20-%20&#1084;&#1072;&#1084;&#1072;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1194714092_fludilkaru-cveti_oboi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9113760" cy="240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er\Мои документы\день матери\мама1.jpg"/>
          <p:cNvPicPr/>
          <p:nvPr/>
        </p:nvPicPr>
        <p:blipFill>
          <a:blip r:embed="rId5"/>
          <a:stretch/>
        </p:blipFill>
        <p:spPr>
          <a:xfrm>
            <a:off x="281160" y="2779560"/>
            <a:ext cx="4510080" cy="408492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6"/>
          </p:cNvPr>
          <p:cNvSpPr/>
          <p:nvPr/>
        </p:nvSpPr>
        <p:spPr>
          <a:xfrm>
            <a:off x="250920" y="18900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10800" y="55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5078">
                <a:moveTo>
                  <a:pt x="10800" y="590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5078">
                <a:moveTo>
                  <a:pt x="8224" y="9962"/>
                </a:moveTo>
                <a:lnTo>
                  <a:pt x="12088" y="9962"/>
                </a:lnTo>
                <a:lnTo>
                  <a:pt x="12088" y="16960"/>
                </a:lnTo>
                <a:lnTo>
                  <a:pt x="13376" y="16960"/>
                </a:lnTo>
                <a:lnTo>
                  <a:pt x="13376" y="17883"/>
                </a:lnTo>
                <a:lnTo>
                  <a:pt x="8224" y="17883"/>
                </a:lnTo>
                <a:lnTo>
                  <a:pt x="8224" y="16960"/>
                </a:lnTo>
                <a:lnTo>
                  <a:pt x="9512" y="16960"/>
                </a:lnTo>
                <a:lnTo>
                  <a:pt x="9512" y="10868"/>
                </a:lnTo>
                <a:lnTo>
                  <a:pt x="8224" y="1086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«Мать носит дитя девять месяцев под сердцем и всю жизнь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 серд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погов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400560" cy="537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21520" y="3142080"/>
            <a:ext cx="534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ПОМНИ О МАТ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оль обидел мать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оси прощен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Грех её родную, оби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И пока она жива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оропись ей доброе сказ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Мои документы\день матери\с днем мамы .jpg"/>
          <p:cNvPicPr/>
          <p:nvPr/>
        </p:nvPicPr>
        <p:blipFill>
          <a:blip r:embed="rId2"/>
          <a:stretch/>
        </p:blipFill>
        <p:spPr>
          <a:xfrm>
            <a:off x="0" y="28440"/>
            <a:ext cx="5508720" cy="411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0000" y="550800"/>
            <a:ext cx="35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 тебе никто так не печалитс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Как она, страдая день и ноч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И сердечко беспокойно мается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бы в трудный час тебе помоч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64080" y="4002120"/>
            <a:ext cx="457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асто ты того не замечаеш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она печальна и груст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Как порою словом обижаеш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И всё ниже клонится сп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4186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А родной ведь надо очень мало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уточку вниманья и любв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Позови её как в детстве: «ма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И за плечи нежно об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19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3497040"/>
            <a:ext cx="397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Коль обидел мать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Проси прощен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Грех её, родную обиж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Бог ей дал великое терпен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За тебя всю жизнь переж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Мои документы\фото ко дню матери\подарок маме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User\Мои документы\фото ко дню матери\поздравл мамам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User\Мои документы\день матери\сднем мамы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Мои документы\день матери\с днем матери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Мои документы\фото ко дню матери\мам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User\Мои документы\день матери\маме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flow_0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714920" y="500040"/>
            <a:ext cx="4125960" cy="497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marL="368280" indent="-368280"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39303"/>
                </a:solidFill>
                <a:latin typeface="Calibri"/>
              </a:rPr>
              <a:t>Есть самое нежное слово на свете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8280" indent="-368280"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39303"/>
                </a:solidFill>
                <a:latin typeface="Calibri"/>
              </a:rPr>
              <a:t>Его произносят в младенчестве де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8280" indent="-368280"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39303"/>
                </a:solidFill>
                <a:latin typeface="Calibri"/>
              </a:rPr>
              <a:t>Его вспоминают в разлуке и муке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8280" indent="-368280"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>
                <a:solidFill>
                  <a:srgbClr val="039303"/>
                </a:solidFill>
                <a:latin typeface="Calibri"/>
              </a:rPr>
              <a:t>«Мама!»</a:t>
            </a:r>
            <a:r>
              <a:rPr b="1" i="1" lang="en-US" sz="3000" spc="-1" strike="noStrike">
                <a:solidFill>
                  <a:srgbClr val="039303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Мои документы\фото ко дню матери\мама3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98840" y="333360"/>
            <a:ext cx="4745160" cy="6524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62480" cy="5505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57:42Z</dcterms:created>
  <dc:creator>User</dc:creator>
  <dc:description/>
  <dc:language>en-US</dc:language>
  <cp:lastModifiedBy>зам по УВР</cp:lastModifiedBy>
  <dcterms:modified xsi:type="dcterms:W3CDTF">2012-02-20T08:01:34Z</dcterms:modified>
  <cp:revision>95</cp:revision>
  <dc:subject/>
  <dc:title>           Самая прекрасная из женщин –женщина с ребенком на руках</dc:title>
</cp:coreProperties>
</file>