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12.png" ContentType="image/png"/>
  <Override PartName="/ppt/media/image20.jpeg" ContentType="image/jpeg"/>
  <Override PartName="/ppt/media/image25.gif" ContentType="image/gif"/>
  <Override PartName="/ppt/media/image2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3.gif" ContentType="image/gif"/>
  <Override PartName="/ppt/media/image16.jpeg" ContentType="image/jpeg"/>
  <Override PartName="/ppt/media/image7.png" ContentType="image/png"/>
  <Override PartName="/ppt/media/image15.wmf" ContentType="image/x-wmf"/>
  <Override PartName="/ppt/media/image21.jpeg" ContentType="image/jpeg"/>
  <Override PartName="/ppt/media/image17.gif" ContentType="image/gif"/>
  <Override PartName="/ppt/media/image14.png" ContentType="image/png"/>
  <Override PartName="/ppt/media/image22.gif" ContentType="image/gi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935-D8AC-47A1-9C7C-DB5FE72E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B67-551B-476F-912F-4914A944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5A5-8CDD-4AD6-A55C-152AF16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46A-3D95-4CC6-A0D8-3ABBA896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7A1-F582-41B8-B229-5368D1C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9D7-2DDD-4E75-85C4-C1218CA5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C47-8C95-423E-AB03-AE2C592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D67-B800-43E7-8962-AC7AE45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663-989C-4048-9573-E66CAA89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7C1-E376-4896-865F-CC0BF26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44B-67B4-441E-9051-82B6E12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10E-1C37-4BC2-876A-76E3693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168-D987-4B2D-8206-BF68585E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amart.su/shop/pictures/mum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523880" y="914400"/>
            <a:ext cx="597708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вательная резинка: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вать или не жевать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52280"/>
            <a:ext cx="64818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униципа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Фабричн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21560" y="5715000"/>
            <a:ext cx="24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Автор: Фельгер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еница 8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4080" y="5943600"/>
            <a:ext cx="10098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г. Тур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1230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99"/>
                </a:solidFill>
                <a:latin typeface="Arial"/>
              </a:rPr>
              <a:t>«Осознанный выбор  превыше сиюминутного удовольствия»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Сен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2133720" cy="16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7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395360"/>
          <a:ext cx="6096240" cy="26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590920" y="439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Так что же мы ед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  <a:ea typeface="Times New Roman"/>
              </a:rPr>
              <a:t>Количество «химии» в жва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066680"/>
          <a:ext cx="6534000" cy="2649600"/>
        </p:xfrm>
        <a:graphic>
          <a:graphicData uri="http://schemas.openxmlformats.org/drawingml/2006/table">
            <a:tbl>
              <a:tblPr/>
              <a:tblGrid>
                <a:gridCol w="1744560"/>
                <a:gridCol w="1989000"/>
                <a:gridCol w="1135080"/>
                <a:gridCol w="1665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уш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м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ос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 ж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, попавших в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i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o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 «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Stimorol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.7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«Ужас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.78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619280" cy="2095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80" y="2133000"/>
            <a:ext cx="1976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уква «Е» - это Европ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 цифровой код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ищевой доб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 продук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33720" y="0"/>
          <a:ext cx="6781680" cy="6680160"/>
        </p:xfrm>
        <a:graphic>
          <a:graphicData uri="http://schemas.openxmlformats.org/drawingml/2006/table">
            <a:tbl>
              <a:tblPr/>
              <a:tblGrid>
                <a:gridCol w="1752480"/>
                <a:gridCol w="502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орган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иновая ос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92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жевательной резинки не является питательным веществом. Она нерастворима. Её состав подобран таким образом, чтобы обеспечить постепенное выделение ароматизаторов и подсластителей в процессе жевания. Для разных видов жевательной резинки подбирают разный состав основы, так, чтобы продукт был мягким или более упругим, или  чтобы из него можно было выдувать пузыри и т.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92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 основы жевательной резинки могут входить следующие вещест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04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792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е жевательные вещества растительного происхождения, добываемые из растений, произрастающих в тропичесих лесах Амазонки и Малайз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04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792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етические жевательные вещества - полимеры и вос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04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792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ягчители - такие, как глицерин, гидрогенизованные растительные масла, терпеневые смолы и т. д. Он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воляют резинке долго сохранять эластичность. Вредная жевательная резинка более жесткая и быстро теряет вкус, начиная горчить, т.к. содержит бутадиен – стирольный каучу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04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792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урирующие агенты (придают резинке форму и жесткость) - карбонаты кальция и магния, таль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озамените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нит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тит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илит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мальт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9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би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42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эти вещества встречаются в природе. Их можно обнаружить, например, во многих фруктах, таких, как груши, яблоки, а также в ягодах (например, вишне или клубнике). Сахарозаменители обладают меньшей сладостью, чем сахар (от 0,9 до 0,4, если принять сладость сахарозы за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естны не только сладостью, но еще и способностью оказывать слабительный эффек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ного влияния на организм человека не выявле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2095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5120" y="0"/>
          <a:ext cx="7238880" cy="6927840"/>
        </p:xfrm>
        <a:graphic>
          <a:graphicData uri="http://schemas.openxmlformats.org/drawingml/2006/table">
            <a:tbl>
              <a:tblPr/>
              <a:tblGrid>
                <a:gridCol w="2035080"/>
                <a:gridCol w="5203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ластит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артам Е95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относительно большое количество явных подтверждений опасности для здоровья и даже жизни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 на организм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стощение запасов серотонина в коре головного мозга;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витие маниакальной депрессии, припадков паники, насилия (при чрезмерном употреблен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сульфам калия.E-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0 раз слаще сахарозы. Содержит метиловый эфир, который ухудшает работу сердечно-сосудистой системы, и аспарагиновую кислоту - она оказывает возбуждающее действие на нервную систему и может, со временем, вызвать привыкание. Продукты с этим подсластителем не рекомендуется употреблять детям, беременным и кормящим женщина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71-титановые бел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102 тарт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Затеряный мир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ьма сомнителен. В справочнике пищевых добавок Булдакова А. С. (С-Пб, 1996 г) указано, что его применение в пищевой промышленности РФ запреще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т краситель вызывает заболевания печени и поче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едко вызывают пищевую аллерг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монная кислот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33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е и неконтролируемое употребление кислоты Е330 может вызвать серьезные заболевания кров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гоудерживающий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абилизатор)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ин Е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сасывании в кровь обладает токсическими свойствами, вызывая серьезные заболевания крови, такие, как гемолиз, гемоглобинурию, а также метгемоглобиновые инфаркты почек. Большие количества могут вызывать головные боли, жажду, тошноту, высокий уровень сахара в к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2095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152280"/>
          <a:ext cx="7467480" cy="6243840"/>
        </p:xfrm>
        <a:graphic>
          <a:graphicData uri="http://schemas.openxmlformats.org/drawingml/2006/table">
            <a:tbl>
              <a:tblPr/>
              <a:tblGrid>
                <a:gridCol w="2286000"/>
                <a:gridCol w="5181480"/>
              </a:tblGrid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лецитины и фосфатид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322, Е4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бочные эффекты неизвестн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иро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903 - это карнаубский вос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гативной реакции на организм не выявле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32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тилгидрокситолуо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илгидрооксианизо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лергикам и астматикам нельзя употреблять антиокислитель Е-321. Приступ астмы могут спровоцировать эти  добавки. Е-320 к тому же задерживает воду в организме и повышает содержание холестерина. А это, в свою очередь, отрицательно сказывается на работе печени и сердечно-сосудистой системы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уст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ммиарабик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Е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а некоторых видов ак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цирующий заболевания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илалан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д ученых утверждает, что, попадая в организм человека, он может вызвать нарушение гормонального баланса, что особенно опасно для детей и беременных женщин. Последствия могут быть не предсказуемы - замедление роста, различные нарушения в деятельности нервной системы. Забавно, но в группу особого риска входят также голубоглазые блондины, так как в их организме содержится недостаточное количество ферментов, способных расщепить и преобразовать фенилаланин. Зато негры могут жевать резинку с данным подсластителем в неограниченном колич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i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62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уанила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ониз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ены для детского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209520"/>
            <a:ext cx="9296280" cy="721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 rot="19915800">
            <a:off x="5943240" y="5105160"/>
            <a:ext cx="1857240" cy="154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 rot="2202600">
            <a:off x="3580920" y="5028840"/>
            <a:ext cx="176868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752480" y="2133720"/>
          <a:ext cx="7094520" cy="2666880"/>
        </p:xfrm>
        <a:graphic>
          <a:graphicData uri="http://schemas.openxmlformats.org/drawingml/2006/table">
            <a:tbl>
              <a:tblPr/>
              <a:tblGrid>
                <a:gridCol w="2089440"/>
                <a:gridCol w="1250640"/>
                <a:gridCol w="938520"/>
                <a:gridCol w="938160"/>
                <a:gridCol w="938160"/>
                <a:gridCol w="939600"/>
              </a:tblGrid>
              <a:tr h="39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зу  после 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употребления жв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5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10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20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0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o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i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Stimorol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жаст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терянный ми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800" y="310140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70826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384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пределение рН слю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Функциональное состояние ротовой полости зависит от кислотно – щелочного балан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Он характеризуется специальным показателем свободных атомов водорода в раствор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рН переводится с латинского  «сила водор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В нейтральной среде рН =7, в кислой среде - меньше 7, а в щелочной – больше 7</a:t>
            </a:r>
            <a:r>
              <a:rPr b="0" lang="ru-RU" sz="1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952880" y="4962600"/>
            <a:ext cx="1352520" cy="1895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620120" y="4962600"/>
            <a:ext cx="135252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86000" y="4962600"/>
            <a:ext cx="1352520" cy="189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686800" y="652140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6320" y="0"/>
          <a:ext cx="9067680" cy="6629400"/>
        </p:xfrm>
        <a:graphic>
          <a:graphicData uri="http://schemas.openxmlformats.org/drawingml/2006/table">
            <a:tbl>
              <a:tblPr/>
              <a:tblGrid>
                <a:gridCol w="3671640"/>
                <a:gridCol w="539604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 положительных мо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 употреблении жв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(мнение стоматолог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атологические изме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 первые час-полтора после приема пищи жвачка способствует выработке желудочного сока, что помогает перевариванию пищи. А некоторые жвачки еще и восстанавливают кислотно – щелочной баланс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Жвачка вычищает жевательную       поверхность зубов.   Но и только!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Если жевать ее с детства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ереставая, то мож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ь у себ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лепную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ериканску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ную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рду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ачанных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вательных мышц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 стороны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стриты, язвы желуд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 наиболее опасным явля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требление жвачки на голодный желудо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 стороны слюнных желез – развиваетс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зистой оболоч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ергические реак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пух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юнных желез, дисфункция височно-челюстного суста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адувные жвачки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ают прикус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На прилепленной под школьную парту жвачк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колько дней живут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б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ольного школьник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вавшего 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громный процент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льной жвачки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ы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Из-за нее ломаются зубы и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адают  пломб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ызывает привык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 самое главное, необходимо помнить: ни од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вательная резинка (что бы там ни обещала рекла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меняет обязательную двухразову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ку зубов щет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Красит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ывают заболевания печени и поче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Сахар способствует появлению карие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7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3880" y="1395360"/>
          <a:ext cx="6096240" cy="26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Динамика производства жевательной резинки"/>
          <p:cNvPicPr/>
          <p:nvPr/>
        </p:nvPicPr>
        <p:blipFill>
          <a:blip r:embed="rId4"/>
          <a:stretch/>
        </p:blipFill>
        <p:spPr>
          <a:xfrm>
            <a:off x="2133720" y="2514600"/>
            <a:ext cx="5486400" cy="2819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15228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Динамика произво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жевательной резинки в Р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с 2002 г. по 2004 г (в тон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7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52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 напоследок я скажу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640" y="1294200"/>
            <a:ext cx="918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ашему вниманию предлаг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молка жевательная – продукт без добав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веренный вековым опытом пред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имевших крепкие, здоровые з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Смола сибирской лиственницы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альтернатива  жевательной резин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Здоровые зубы - жевательная лечебная смол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312336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отивопоказания: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 не выявле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3581280"/>
            <a:ext cx="5791320" cy="30481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120" y="4191120"/>
            <a:ext cx="464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Знаете ли вы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телей блокадного Ленин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ыне Санкт-Петербур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спасла" от повального авитамин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лиственница: смолу жев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хвои делали экстрак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совали "таблетки", заваривали "ча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71600" y="1447920"/>
          <a:ext cx="6095880" cy="26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0958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 txBox="1"/>
          <p:nvPr/>
        </p:nvSpPr>
        <p:spPr>
          <a:xfrm>
            <a:off x="609480" y="838080"/>
            <a:ext cx="81536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3086280" cy="2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276720" y="914400"/>
            <a:ext cx="3085920" cy="257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380880"/>
            <a:ext cx="59817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9 декабря 2009 год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0 лет жевательной резинк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0800000">
            <a:off x="7000560" y="30456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7525400">
            <a:off x="1571400" y="307620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16052400">
            <a:off x="4086360" y="277092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2242800">
            <a:off x="0" y="76176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rot="15033000">
            <a:off x="6524280" y="2390400"/>
            <a:ext cx="2143080" cy="14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90720" y="1447920"/>
          <a:ext cx="7715160" cy="43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447920"/>
                    <a:ext cx="771516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523880" y="457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Как часто вы употребляете жва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19200" y="1390680"/>
          <a:ext cx="6877080" cy="43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9200" y="1390680"/>
                    <a:ext cx="687708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80880" y="45720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Интересуют ли вас надписи на оберт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где указан состав жва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189000"/>
            <a:ext cx="6481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28600"/>
            <a:ext cx="8381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Monotype Corsiva"/>
              </a:rPr>
              <a:t>Цель моей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сти исследование жевательной резинки и определ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влияние оказывает употребление жвачки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85345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Monotype Corsiva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литературу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ить самые популярные жвачки среди наших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ть информацию о составе жевательных резинок, котор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опулярны у учащихся нашей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экспериментальные исследования состава разны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ов жвачек и их способности  регулировать кислотно–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очной баланс во р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ить направления воздействи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человека химических компон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вательных резин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рекомендации по применению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вательных  рези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"/>
          <p:cNvPicPr/>
          <p:nvPr/>
        </p:nvPicPr>
        <p:blipFill>
          <a:blip r:embed="rId2"/>
          <a:stretch/>
        </p:blipFill>
        <p:spPr>
          <a:xfrm>
            <a:off x="6781680" y="4343400"/>
            <a:ext cx="1908360" cy="2514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3886200"/>
            <a:ext cx="4038480" cy="1295280"/>
          </a:xfrm>
          <a:prstGeom prst="downArrowCallout">
            <a:avLst>
              <a:gd name="adj1" fmla="val 77953"/>
              <a:gd name="adj2" fmla="val 7794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ски еловой смолы продавались в восто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единенных штатах с начал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0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Эволюция жевательной рез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433000">
            <a:off x="304920" y="213336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2743200"/>
            <a:ext cx="5257800" cy="1066680"/>
          </a:xfrm>
          <a:prstGeom prst="downArrowCallout">
            <a:avLst>
              <a:gd name="adj1" fmla="val 123239"/>
              <a:gd name="adj2" fmla="val 12322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че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0 лет наза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Амери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ейцы Майя жевали чик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й является со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рева Саподил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2920" y="2362320"/>
            <a:ext cx="143640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 rot="1709400">
            <a:off x="0" y="0"/>
            <a:ext cx="1714680" cy="147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5257800"/>
            <a:ext cx="7010280" cy="1371600"/>
          </a:xfrm>
          <a:prstGeom prst="downArrowCallout">
            <a:avLst>
              <a:gd name="adj1" fmla="val 127787"/>
              <a:gd name="adj2" fmla="val 12777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примером промышле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а некоего подобия сов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вательной резинки считается небольшое дело Джона Б. Кертиса из штата Мэ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зводству сосновой резинки, организованное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48 год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838080"/>
            <a:ext cx="6095880" cy="1828800"/>
          </a:xfrm>
          <a:prstGeom prst="downArrowCallout">
            <a:avLst>
              <a:gd name="adj1" fmla="val 83339"/>
              <a:gd name="adj2" fmla="val 83332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ая старая жвачка в мире — окаменевший кусок березового дегт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 следами зубов, обнаруженный в Финляндии в августе 2007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раст находки — около 5000 лет. Содержит фено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вавший антисептически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0"/>
            <a:ext cx="3733560" cy="914400"/>
          </a:xfrm>
          <a:prstGeom prst="downArrowCallout">
            <a:avLst>
              <a:gd name="adj1" fmla="val 102086"/>
              <a:gd name="adj2" fmla="val 102077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50 – х годах 19 века получ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ространение подслащенный во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990720"/>
            <a:ext cx="4114800" cy="1295280"/>
          </a:xfrm>
          <a:prstGeom prst="downArrowCallout">
            <a:avLst>
              <a:gd name="adj1" fmla="val 79426"/>
              <a:gd name="adj2" fmla="val 7941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сахарных заменителе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950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ело к появл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вательных резинок без саха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19856400">
            <a:off x="380520" y="685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10280" y="380880"/>
            <a:ext cx="167652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мат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.Ф.Сэмп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1066680" cy="1857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00200" y="2362320"/>
            <a:ext cx="5410080" cy="1600200"/>
          </a:xfrm>
          <a:prstGeom prst="downArrowCallout">
            <a:avLst>
              <a:gd name="adj1" fmla="val 84530"/>
              <a:gd name="adj2" fmla="val 84522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ой изобретения современной жевательной резин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8 декабря 1869 го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ильям Финли Сэмпл из штата Огайо С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л патент на жевательную рез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038480"/>
            <a:ext cx="4953240" cy="1143000"/>
          </a:xfrm>
          <a:prstGeom prst="downArrowCallout">
            <a:avLst>
              <a:gd name="adj1" fmla="val 108349"/>
              <a:gd name="adj2" fmla="val 10833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28 г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олтер Димер из компании Фл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л удачный состав для надувной жвачки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бл-га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4"/>
          <a:stretch/>
        </p:blipFill>
        <p:spPr>
          <a:xfrm rot="1401600">
            <a:off x="7162560" y="3505320"/>
            <a:ext cx="143496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5257800"/>
            <a:ext cx="830592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торой половине 20 века появилась жевательная резинка, способная отбели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убы,глазированная жевательная резинка.  Aspergum — жвачка с аспири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уют также диетические, антитабачные, витаминные, антацидные жва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00 году компания  Wrigley запатентовала жвачку с силденил цитратом 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аче говоря, с виаг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 rot="21208200">
            <a:off x="380520" y="4114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57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Какую жвачку вы предпочит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81080" y="927000"/>
          <a:ext cx="7650000" cy="484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1080" y="927000"/>
                    <a:ext cx="7650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560" y="76212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04c"/>
                </a:solidFill>
                <a:latin typeface="Arial"/>
              </a:rPr>
              <a:t>Состав жевательных рез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995400">
            <a:off x="7086600" y="228240"/>
            <a:ext cx="2057400" cy="135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1523880" y="1752480"/>
          <a:ext cx="7620120" cy="4780080"/>
        </p:xfrm>
        <a:graphic>
          <a:graphicData uri="http://schemas.openxmlformats.org/drawingml/2006/table">
            <a:tbl>
              <a:tblPr/>
              <a:tblGrid>
                <a:gridCol w="2071800"/>
                <a:gridCol w="1987560"/>
                <a:gridCol w="1198440"/>
                <a:gridCol w="250920"/>
                <a:gridCol w="960480"/>
                <a:gridCol w="115092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«Затерянный ми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«Ужасти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«Orbit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«Stimorol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«Dirol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Ароматизатор (мя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расит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2, Е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лагоудерж.аг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абилизатор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ин Е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ислота Е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Сахарная пу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Жевательная ос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Пат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Регулятор кислотности Е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Жевательная ос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лагоудерж.аг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абилизат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ин Е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Натуральный ароматиз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Резиновая ос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Сахарозаменители: сорбит Е42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тит Е96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мальт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95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илит.Е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Подсластители: аспартам Е951,ацесульфам-К Е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Ароматиз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Загуститель Е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лагоудерживающий агент  (стабилизатор) Е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раситель Е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Эмульгаторы Е322, Е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Глазирователь Е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Антиоксидант Е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ислота Е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илала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 Е627,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8195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20598600">
            <a:off x="0" y="228600"/>
            <a:ext cx="1752480" cy="133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20:10:4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