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A85-0065-4A6B-BA53-B5CF667B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ABD-43B8-46C7-A41E-BE2FDB47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872-3DD7-473D-AC13-645636CF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5C5-34B5-4BE8-94A1-686E164A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080F-F5D8-4B19-99C8-925E09A3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3218-CEE7-4465-9CBB-6834A422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3103-7E1D-417B-B536-F3A0749A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744B-C86C-4592-8489-8BC4019A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2E81-3604-4FD4-AB8C-3B116147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9D97-0A8B-4AB3-A8A4-442EEA39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536A-26F6-47B7-B47E-BDA9A29C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3CA-F780-4405-81F6-128E12AF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C928-A1FD-4DD1-9EC0-C4DB9BCC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216D-3C2E-4095-8B4E-58160D2E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98E6-71A1-476B-AD80-593E8C32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98A2-472A-43AC-B832-F39F5922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5F3C-D878-47CB-8675-F1351D2B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08C-BDB1-4E6F-86FA-51E39448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FB1-71BD-4DC2-AA82-7A82AED3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3F7-9145-4FD1-B05E-34ED5A8E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04B-6F2B-4454-B725-C66A4BBA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9EF-671D-46BD-932A-46841B35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51E-FCF0-4CFA-A3C6-FDF3286C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D60-F43F-4B57-A35C-4D0D08C4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52CE-5901-4661-9218-95E351EE0E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54C4-F2E5-4562-BE4A-19A30F7052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ложение квадратного трёхчлена на множители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ахомова Елена Анатоль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КОУ СОШ с.Таеж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оверочная самостоятельная работа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в. № 533(б),  № 535(а),  № 538(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в. № 533(в),  № 535(б),  № 538(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очная табл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66680" y="3657600"/>
          <a:ext cx="6857640" cy="1635120"/>
        </p:xfrm>
        <a:graphic>
          <a:graphicData uri="http://schemas.openxmlformats.org/drawingml/2006/table">
            <a:tbl>
              <a:tblPr/>
              <a:tblGrid>
                <a:gridCol w="2286000"/>
                <a:gridCol w="2285640"/>
                <a:gridCol w="228600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зад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зад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зад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3.7,№531(б,г), №533(д,е) , №538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Arial"/>
              </a:rPr>
              <a:t>Спасибо за урок, 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кратить дробь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41560" y="232236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55760" y="2017800"/>
            <a:ext cx="108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6172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Назовите коэффициенты квадратного уравнения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419360" cy="1162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3886200" cy="107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2133720"/>
            <a:ext cx="380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4648320"/>
            <a:ext cx="38088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3094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4648320"/>
            <a:ext cx="4343400" cy="672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9320" y="34290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еобразуйте в приведённое квадратное уравнени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5120" y="2363760"/>
            <a:ext cx="59436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Квадратный трёхчле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дратным трёхчленом называется многочлен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71500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09680" y="3733920"/>
            <a:ext cx="4191120" cy="63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8120" y="4648320"/>
            <a:ext cx="22860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пределите, какие из следующих выражений являются квадратным трёхчленом; ответ объяснит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3581640" cy="1076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3276720" cy="741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-4320" y="3394440"/>
            <a:ext cx="80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047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1600" y="3581280"/>
            <a:ext cx="3048120" cy="1633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4174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523880" y="5257800"/>
            <a:ext cx="3429000" cy="857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38080" y="540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1326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нем квадратного трёхчлена называется значение переменной, при котором значение этого трёхчлена равно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иминантом квадратного трёхчлена                     называется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8120" y="4648320"/>
            <a:ext cx="2084400" cy="712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05520" y="5334120"/>
            <a:ext cx="167616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Разложение квадратного трёхчлена на множите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509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62320" y="2514600"/>
            <a:ext cx="4190760" cy="762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523880" y="3581280"/>
            <a:ext cx="61722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сли квадратный трёхчлен имеет корни, то он раскладывается на множител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сли квадратный трёхчлен раскладывается на линейные множители, то он имеет корн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сли квадратный трёхчлен не имеет корней, то его нельзя разложить на линейные мно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5T09:43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