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21.wmf" ContentType="image/x-wmf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20.png" ContentType="image/png"/>
  <Override PartName="/ppt/media/image7.jpeg" ContentType="image/jpeg"/>
  <Override PartName="/ppt/media/image10.jpeg" ContentType="image/jpeg"/>
  <Override PartName="/ppt/media/image2.gif" ContentType="image/gif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E7D4-0690-4513-A90D-F80233DA4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2A2-D693-4BB1-9B43-1E7237031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B86D-05F4-405D-A23F-C0BFD747E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7A5-ECE4-441A-84FF-052C3201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5F4-B2EA-42F6-93CE-1E2CF62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257-AA0C-48C9-B7C8-96D6C99A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FC2-858C-4D48-ABD2-E811433B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376-5BE7-4843-A3D5-9429459D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4D5-A778-4F40-8117-BE7B73CF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517-6A77-461E-9566-991F9DB4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ADE-24B0-4250-8098-19F9EE0F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1C3-AEC4-437E-8DA3-9E16791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99F-AC9C-4094-B3A4-5975559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BA0-1963-4E25-974D-6D3CD71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9A8-3BD3-41E6-9451-58960C3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1588-318C-482A-8AFA-AD62101E0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&#1089;&#1087;&#1080;&#1076;%20-%20&#1101;&#1090;&#1086;....ppt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733920"/>
            <a:ext cx="2438280" cy="2514600"/>
          </a:xfrm>
          <a:prstGeom prst="rect">
            <a:avLst/>
          </a:prstGeom>
          <a:solidFill>
            <a:srgbClr val="0033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04920"/>
            <a:ext cx="861048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ционно-компьютерных технологий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уроках биологии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9800" y="4343400"/>
            <a:ext cx="224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учителя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41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ларовой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2743200"/>
            <a:ext cx="624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– конференция «СПИД – это…» </a:t>
            </a:r>
            <a:endParaRPr b="0" i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2143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радиционные образовательные результаты, которые достигаются при применении ИК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262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ч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мулируется познавательный интер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показать процессы на моделях и провести виртуальный демонстрационный эксперимент (посмотреть то, чего бы никогда не увид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ая  и независимая диагностика результативности обучения, возможность провести оперативную коррекцию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индивидуальной  работы с сильными и слабыми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TKRITKA1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397240" cy="317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78560" y="4844880"/>
            <a:ext cx="1119240" cy="9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3440" y="503280"/>
            <a:ext cx="73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радиционные образовательные результаты, которые достигаются при применении ИК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уче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обретаются навыки использования ПК как современного обучающего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тся различным видам самостоя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ходят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ые способы получения знаний, Знакомятся с современными информационными технолог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яется возможность работать в индивидуальном темпе обучения и по своему образовательному маршр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я учащихся оцениваются объективно и независ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ают возможность индивидуальной исследовательской работы с моделями, могут выдвигать свои гипотезы и проверять их , устанавливать закономер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Задачи конференц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943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ировать учебно-познавательную деятельность учащихся через различные виды самостоя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комить с новыми информационными технолог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общать к научной работе на начальной стадии (поиск информации  в различных источниках и ее обрабо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овать дифференцированный подход к обу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ять индивидуальную работу с учащим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межпредмет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ть естественнонаучное мировозз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ворческ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ет самое главное и интересное  по данно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ит материал доступный  для понимания слуш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ена правильно оформленным рефератом и красочной презент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ащищается» публ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2422800" cy="18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2449440" cy="1722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8880" y="457200"/>
            <a:ext cx="1536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пользование ИКТ при выполнении творческих ра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5194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яет группу учащихся, выполняющих творчески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воляет чувствовать себя уверенно перед аудито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рывает творческие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является соревнователь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Слабым» учащимся позволяет повысить самооц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746440" cy="205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0360" y="4070520"/>
            <a:ext cx="2735280" cy="204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пользование ИКТ при проведении конферен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учшает зрительное восприятие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воляет показать процессы на моделях и провести виртуальный демонстрационный эксперимент( посмотреть то, чего бы никогда не увидел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ет мероприятие зрелищным и красо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иливает эмоцион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2895480" cy="218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2895480" cy="217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96080" y="2133720"/>
            <a:ext cx="77148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19920" y="2895480"/>
            <a:ext cx="2133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ff"/>
                </a:solidFill>
                <a:latin typeface="Arial"/>
              </a:rPr>
              <a:t>О, ночное воющее небо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ff"/>
                </a:solidFill>
                <a:latin typeface="Arial"/>
              </a:rPr>
              <a:t>Дрожь земли, обвал невдалеке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ff"/>
                </a:solidFill>
                <a:latin typeface="Arial"/>
              </a:rPr>
              <a:t>Бедный ленинградский ломтик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ff"/>
                </a:solidFill>
                <a:latin typeface="Arial"/>
              </a:rPr>
              <a:t>                                      </a:t>
            </a:r>
            <a:r>
              <a:rPr b="0" lang="en-US" sz="1000" spc="-1" strike="noStrike">
                <a:solidFill>
                  <a:srgbClr val="33ccff"/>
                </a:solidFill>
                <a:latin typeface="Arial"/>
              </a:rPr>
              <a:t>хлеба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ff"/>
                </a:solidFill>
                <a:latin typeface="Arial"/>
              </a:rPr>
              <a:t>Он почти не весит на руке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ворческая и исследовательская работа, участие в конференц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2895480" cy="2058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2895840" cy="2109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ют умение подбирать и анализировать материал, творчески работать с различными источниками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ют умения использовать известные методы исследования для решения конкрет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ют умения представлять информацию в различн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воляет приобретать опыт публичных вы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ет творчески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ют круг научных интересов, решают вопросы проф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ствуют повышению личност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лог успеха конферен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ьный подбор темы с учетом программного значения и интереса к ней самих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фференцированный под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видуальная работа с учащимися при подборе материала и оформлении творческо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етание добровольности выбора темы с обязательностью выполнения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современных мультимедийных средств для обеспечения нагля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1646280" cy="163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62720" y="464832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оки-конферен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2914560" cy="21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Физики в гостях у биологов» - 8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Братья наши меньши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отряды млекопитающих)        - 7 класс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«СПИД – это…»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715000" y="4191120"/>
            <a:ext cx="2895480" cy="217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" name=""/>
          <p:cNvSpPr txBox="1"/>
          <p:nvPr/>
        </p:nvSpPr>
        <p:spPr>
          <a:xfrm>
            <a:off x="5791320" y="5867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Times New Roman"/>
              </a:rPr>
              <a:t>Братья наши меньш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048120" y="3657600"/>
            <a:ext cx="2895480" cy="2171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380880" y="2133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жпредметные конферен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27672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95480"/>
            <a:ext cx="723888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Спасибо тебе Нева»                  - 9 –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Человек в блокадном городе»  - 8 –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af5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лавный результат проведения межпредметных конференций и уроков-конферен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сходит повторение, обобщение и расширение пройд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ется интерес к предм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ие межпредметных связей в познавательную деятельность раскрывает новые аспекты полученных знаний, приводит к осознанию целостности представлений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современных мультимедийных средств позволяет сделать мероприятие не только познавательным, но и зрелищным, отвечающим современному уровню представления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43800" y="1219320"/>
            <a:ext cx="1293840" cy="119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7542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0T01:14:3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