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FAB-6517-4FB0-A76B-47B56579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2C4-EE74-4A1A-BB02-B7C6FDC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EEA-2760-4374-9190-A026A15F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DE9-BC5E-4DFD-BC48-48D8F86A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A40-694A-4FC5-A867-B6AB5966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170-4011-47D8-B26A-34759521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543-D899-45B7-ACB2-2D5A3190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75A-8A14-4687-8786-0920ABEB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7E1-E703-4021-876C-759EDEEA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5C2-D460-459F-85E0-D1CA3382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3D4-1A9D-4261-A13B-4DA1F6A3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D3C-164E-41E4-ADA8-2743B8DC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2BB0-DD5E-4D1F-AC9B-283F4E1DE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2133720"/>
            <a:ext cx="6697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матика и здоровье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то сигару поджигает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знь на годы сокращает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ружающим, себе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жет быть, тебе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Admin\Мои документы\табак\1227071771_cigarette.jpg"/>
          <p:cNvPicPr/>
          <p:nvPr/>
        </p:nvPicPr>
        <p:blipFill>
          <a:blip r:embed="rId1"/>
          <a:stretch/>
        </p:blipFill>
        <p:spPr>
          <a:xfrm>
            <a:off x="2786040" y="500040"/>
            <a:ext cx="5715000" cy="54291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2987640" y="1468440"/>
            <a:ext cx="5381640" cy="27687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6"/>
          <p:cNvSpPr/>
          <p:nvPr/>
        </p:nvSpPr>
        <p:spPr>
          <a:xfrm>
            <a:off x="2786040" y="4572000"/>
            <a:ext cx="1428840" cy="13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1,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4214880" y="500040"/>
            <a:ext cx="1428840" cy="13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8"/>
          <p:cNvSpPr/>
          <p:nvPr/>
        </p:nvSpPr>
        <p:spPr>
          <a:xfrm>
            <a:off x="5643720" y="500040"/>
            <a:ext cx="1428480" cy="13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8,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7072200" y="500040"/>
            <a:ext cx="1428840" cy="13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0,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2786040" y="3214800"/>
            <a:ext cx="1428840" cy="13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2,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4214880" y="3214800"/>
            <a:ext cx="1428840" cy="13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4,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2"/>
          <p:cNvSpPr/>
          <p:nvPr/>
        </p:nvSpPr>
        <p:spPr>
          <a:xfrm>
            <a:off x="4214880" y="4572000"/>
            <a:ext cx="1428840" cy="13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1,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3"/>
          <p:cNvSpPr/>
          <p:nvPr/>
        </p:nvSpPr>
        <p:spPr>
          <a:xfrm>
            <a:off x="2786040" y="500040"/>
            <a:ext cx="1428840" cy="13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0,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4"/>
          <p:cNvSpPr/>
          <p:nvPr/>
        </p:nvSpPr>
        <p:spPr>
          <a:xfrm>
            <a:off x="5651640" y="3284640"/>
            <a:ext cx="1428480" cy="13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0,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5"/>
          <p:cNvSpPr/>
          <p:nvPr/>
        </p:nvSpPr>
        <p:spPr>
          <a:xfrm>
            <a:off x="5643720" y="4572000"/>
            <a:ext cx="1428480" cy="13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4,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2786040" y="1857240"/>
            <a:ext cx="1428840" cy="1357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6,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4214880" y="1857240"/>
            <a:ext cx="1428840" cy="1357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5,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8"/>
          <p:cNvSpPr/>
          <p:nvPr/>
        </p:nvSpPr>
        <p:spPr>
          <a:xfrm>
            <a:off x="5643720" y="1857240"/>
            <a:ext cx="1428480" cy="1357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4,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9"/>
          <p:cNvSpPr/>
          <p:nvPr/>
        </p:nvSpPr>
        <p:spPr>
          <a:xfrm>
            <a:off x="7072200" y="1857240"/>
            <a:ext cx="1428840" cy="1357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1,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0"/>
          <p:cNvSpPr/>
          <p:nvPr/>
        </p:nvSpPr>
        <p:spPr>
          <a:xfrm>
            <a:off x="7093080" y="4581360"/>
            <a:ext cx="1428480" cy="1357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0,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1"/>
          <p:cNvSpPr/>
          <p:nvPr/>
        </p:nvSpPr>
        <p:spPr>
          <a:xfrm>
            <a:off x="7072200" y="3214800"/>
            <a:ext cx="1428840" cy="13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3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3"/>
          <p:cNvSpPr/>
          <p:nvPr/>
        </p:nvSpPr>
        <p:spPr>
          <a:xfrm>
            <a:off x="214200" y="1357200"/>
            <a:ext cx="24289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6,4: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4"/>
          <p:cNvSpPr/>
          <p:nvPr/>
        </p:nvSpPr>
        <p:spPr>
          <a:xfrm>
            <a:off x="214200" y="1357200"/>
            <a:ext cx="24289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9-0,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5"/>
          <p:cNvSpPr/>
          <p:nvPr/>
        </p:nvSpPr>
        <p:spPr>
          <a:xfrm>
            <a:off x="214200" y="1357200"/>
            <a:ext cx="24289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,5 :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6"/>
          <p:cNvSpPr/>
          <p:nvPr/>
        </p:nvSpPr>
        <p:spPr>
          <a:xfrm>
            <a:off x="214200" y="1357200"/>
            <a:ext cx="24289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0,5+0,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7"/>
          <p:cNvSpPr/>
          <p:nvPr/>
        </p:nvSpPr>
        <p:spPr>
          <a:xfrm>
            <a:off x="214200" y="1285920"/>
            <a:ext cx="24289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7,32-1,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214200" y="1285920"/>
            <a:ext cx="24289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0,7 х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214200" y="1285920"/>
            <a:ext cx="24289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00 х 3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0"/>
          <p:cNvSpPr/>
          <p:nvPr/>
        </p:nvSpPr>
        <p:spPr>
          <a:xfrm>
            <a:off x="214200" y="1285920"/>
            <a:ext cx="24289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3 :6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1"/>
          <p:cNvSpPr/>
          <p:nvPr/>
        </p:nvSpPr>
        <p:spPr>
          <a:xfrm>
            <a:off x="214200" y="1285920"/>
            <a:ext cx="24289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,53+ 0,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2"/>
          <p:cNvSpPr/>
          <p:nvPr/>
        </p:nvSpPr>
        <p:spPr>
          <a:xfrm>
            <a:off x="214200" y="1285920"/>
            <a:ext cx="24289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0,0007 х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3"/>
          <p:cNvSpPr/>
          <p:nvPr/>
        </p:nvSpPr>
        <p:spPr>
          <a:xfrm>
            <a:off x="214200" y="1285920"/>
            <a:ext cx="24289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,48 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214200" y="1285920"/>
            <a:ext cx="24289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9 :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214200" y="1285920"/>
            <a:ext cx="24289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,5 Х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214200" y="1285920"/>
            <a:ext cx="2428920" cy="77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2,5 :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214200" y="1285920"/>
            <a:ext cx="242892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0,15 Х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214200" y="1285920"/>
            <a:ext cx="2428920" cy="77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3,1 +2,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39" descr=""/>
          <p:cNvPicPr/>
          <p:nvPr/>
        </p:nvPicPr>
        <p:blipFill>
          <a:blip r:embed="rId3"/>
          <a:stretch/>
        </p:blipFill>
        <p:spPr>
          <a:xfrm>
            <a:off x="-249120" y="2139840"/>
            <a:ext cx="34560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87280" y="1268280"/>
            <a:ext cx="7701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7720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рени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жегодн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осит жизни окол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 миллион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человек, что составляет 12 процентов всех смертей на план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же касается России, то наша страна является сегодня одной из самых курящих стран мира. Она занимает четвертое место после Китая, Японии и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астоящее время в России курят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муж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женщ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116000" y="3213000"/>
            <a:ext cx="77724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Выноска-облако 2"/>
          <p:cNvSpPr/>
          <p:nvPr/>
        </p:nvSpPr>
        <p:spPr>
          <a:xfrm>
            <a:off x="571680" y="0"/>
            <a:ext cx="7715160" cy="3857760"/>
          </a:xfrm>
          <a:prstGeom prst="cloudCallout">
            <a:avLst>
              <a:gd name="adj1" fmla="val -24861"/>
              <a:gd name="adj2" fmla="val 72930"/>
            </a:avLst>
          </a:prstGeom>
          <a:solidFill>
            <a:srgbClr val="ffffff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а №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, что в среднем 4/5 курящих страдают заболеванием легких. Найдите количество больных, если курят 500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428760" y="5000760"/>
            <a:ext cx="1996920" cy="15048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1042920" y="1052640"/>
            <a:ext cx="678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адача №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ждая выкуренная сигарета сокращает жизнь курильщика. В общем, курящие сокращают себе жизнь на 15%, что составляет 8,4 года. Какова средняя продолжительность жизни в Ро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1042920" y="981000"/>
            <a:ext cx="64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а №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 суточной потребности учащихся в различных витаминах составляет в среднем 125 мг. Одна выкуренная сигарета уничтожает 20% витаминов. Сколько мг витаминов ворует у себя тот, кто кур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40360" y="2349360"/>
            <a:ext cx="4464000" cy="435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4392360" cy="3382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5202360" y="620640"/>
            <a:ext cx="372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Сравни и сдел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1262160" y="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Легкие некуря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2916360" y="544500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Легкие куря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Выноска-облако 18"/>
          <p:cNvSpPr/>
          <p:nvPr/>
        </p:nvSpPr>
        <p:spPr>
          <a:xfrm>
            <a:off x="4175280" y="189000"/>
            <a:ext cx="4968720" cy="4176720"/>
          </a:xfrm>
          <a:prstGeom prst="cloudCallout">
            <a:avLst>
              <a:gd name="adj1" fmla="val -24282"/>
              <a:gd name="adj2" fmla="val 62125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делении больницы 20 человек с диагнозом рак легких. 0,9 всех больных – курильщики. Сколько человек могли бы избежать этого заболев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-облако 4"/>
          <p:cNvSpPr/>
          <p:nvPr/>
        </p:nvSpPr>
        <p:spPr>
          <a:xfrm flipH="1">
            <a:off x="-720" y="928800"/>
            <a:ext cx="5148360" cy="4516200"/>
          </a:xfrm>
          <a:prstGeom prst="cloudCallout">
            <a:avLst>
              <a:gd name="adj1" fmla="val -53824"/>
              <a:gd name="adj2" fmla="val 65532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 сигарета разрушает 25 мг витамина С. Известно, что если человек пробыл в накуренном помещении 1ч, то это равноценно 4 выкуренным сигаретам. Сколько человек потерял витамина С, если он пробыл в накуренном помещении 2ч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Выноска-облако 4"/>
          <p:cNvSpPr/>
          <p:nvPr/>
        </p:nvSpPr>
        <p:spPr>
          <a:xfrm>
            <a:off x="4786200" y="907920"/>
            <a:ext cx="4357800" cy="4643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ым от 1-ой сигареты содержит 5 мг яда никотина. Сколько яда примет человек выкурив в день 15 сигарет, если от каждой из них в организм поступает 20% никоти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носка-облако 4"/>
          <p:cNvSpPr/>
          <p:nvPr/>
        </p:nvSpPr>
        <p:spPr>
          <a:xfrm>
            <a:off x="0" y="692280"/>
            <a:ext cx="4357800" cy="4643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езультате курения получили различные заболевания 60 человек. Подростков среди них в 2 раза больше, чем взрослых. Сколько подростков могли остаться здоровы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Аргументы </a:t>
            </a: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против ку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263680"/>
            <a:ext cx="67816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урени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разруша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орг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урени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риводи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 неизлечимым болез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урени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снижает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ую 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урени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орт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цвет к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икотин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забира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свободу, человек становится его ра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Documents and Settings\Admin\Рабочий стол\табак\tumblr_ktlw4bSdn11qassn4o1_500.jpg"/>
          <p:cNvPicPr/>
          <p:nvPr/>
        </p:nvPicPr>
        <p:blipFill>
          <a:blip r:embed="rId1"/>
          <a:stretch/>
        </p:blipFill>
        <p:spPr>
          <a:xfrm>
            <a:off x="539640" y="404640"/>
            <a:ext cx="26463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0:05:51Z</dcterms:created>
  <dc:creator>*****</dc:creator>
  <dc:description/>
  <dc:language>en-US</dc:language>
  <cp:lastModifiedBy>*****</cp:lastModifiedBy>
  <dcterms:modified xsi:type="dcterms:W3CDTF">2012-01-15T19:03:53Z</dcterms:modified>
  <cp:revision>7</cp:revision>
  <dc:subject/>
  <dc:title>Слайд 1</dc:title>
</cp:coreProperties>
</file>