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857-A959-4578-9E6A-B2F627B5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BAF-6307-431A-9ED8-20B3C1D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A23-7AB5-40C5-9282-DDB6D65C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8D1-0DA4-4B0A-995F-135E3815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0C5-3B15-4CD5-92B7-C4C9A6F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69D23-6DC1-49B8-AB93-73B4EDB37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20B5-FF36-4A4C-97B2-B5384D8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1386F-AF34-4A55-A124-CC63184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953F1-882E-48F1-9B59-71E5440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D5B47-DC87-427E-B0BE-3D28E667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329-EED8-4B82-A7F0-18E5C2CE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B5FD-F677-45B9-839B-9DA41BD6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1451D-639C-4941-9BDE-07CC3B5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C1616-D0AB-49F8-B4C4-70D765F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64E29-9290-40F4-A2C2-F156DD31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E8F10-6DEA-41C1-9C8B-55B21D7C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20147-3185-4D65-9E16-3410C088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32BAB-E200-4340-BE3F-086114141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6A7-449B-40D1-A354-00310B96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C65-C414-4C8B-82A8-A35C0167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6D3-3281-418F-B6D0-2F5B81C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42A-19D5-4939-AEDC-3761BCAE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2F6-EB00-40EE-9029-6BF2511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AB1-0B7C-4178-83E7-79CB85B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40D97-DA1C-4D89-BAD9-670D5D1ACF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659880" y="0"/>
            <a:ext cx="1800" cy="7559640"/>
          </a:xfrm>
          <a:prstGeom prst="line">
            <a:avLst/>
          </a:prstGeom>
          <a:ln w="38160">
            <a:solidFill>
              <a:srgbClr val="fec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240" y="0"/>
            <a:ext cx="1440" cy="7559640"/>
          </a:xfrm>
          <a:prstGeom prst="line">
            <a:avLst/>
          </a:prstGeom>
          <a:ln w="57240">
            <a:solidFill>
              <a:srgbClr val="fec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0800" y="0"/>
            <a:ext cx="1440" cy="7559640"/>
          </a:xfrm>
          <a:prstGeom prst="line">
            <a:avLst/>
          </a:prstGeom>
          <a:ln w="1908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44120" y="0"/>
            <a:ext cx="336600" cy="7559640"/>
          </a:xfrm>
          <a:prstGeom prst="rect">
            <a:avLst/>
          </a:prstGeom>
          <a:solidFill>
            <a:srgbClr val="fec2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828360" y="0"/>
            <a:ext cx="1440" cy="7559640"/>
          </a:xfrm>
          <a:prstGeom prst="line">
            <a:avLst/>
          </a:prstGeom>
          <a:ln w="936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91720" y="6299280"/>
            <a:ext cx="604800" cy="6048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82278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8227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9686880" y="295200"/>
            <a:ext cx="2214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2.1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8961480" y="6321240"/>
            <a:ext cx="6681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193D63-CD7B-40BB-B672-EE32B11995D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7709040" y="4119480"/>
            <a:ext cx="35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ВНИМАНИЕ, ВНИМАНИЕ!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Вместо шапки на х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Он надел сковор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Вместо валенок 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перчат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Натянул себе на пя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Вот какой рассея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С улицы Бассей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8120" y="1936800"/>
            <a:ext cx="341028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8231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пражнение «Телеграмм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36600" y="755640"/>
            <a:ext cx="8820000" cy="61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Хозяйка оставила своего любимого           кота соседке и уехала на курорт.             Перед отъездом она попросила дать ей телеграмму, как поживает без нее любимый котик. Через неделю пришла странная телеграмма Попробуйте расшифрова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УД НОС КОТОМКА ПРИЗ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35960" y="311040"/>
            <a:ext cx="165420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5080" y="898560"/>
            <a:ext cx="8231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«Ленивые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                восьмер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1763640"/>
            <a:ext cx="82310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06f4"/>
                </a:solidFill>
                <a:latin typeface="Calibri"/>
                <a:ea typeface="Microsoft YaHei"/>
              </a:rPr>
              <a:t>Нарисуйте  восьмерку по три               раза каждой рукой, а затем обеими руками сразу. Такие упражнения открывают возможности и желание узнавать новое, улучшают память и внимате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020000" y="179280"/>
            <a:ext cx="2959200" cy="3468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9966"/>
                </a:solidFill>
                <a:latin typeface="Arial"/>
              </a:rPr>
              <a:t>УПРАЖНЕНИЯ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Проверка внимания соседа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Что изменилось?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Сверхвнимание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Напрвленное слуховое внимание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68680" y="4140360"/>
            <a:ext cx="399096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147600"/>
            <a:ext cx="860904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9966"/>
                </a:solidFill>
                <a:latin typeface="Arial"/>
              </a:rPr>
              <a:t>ТЕСТ «Насколько вы внимательны?»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1240" y="2879640"/>
            <a:ext cx="87724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ДА — 2, 3, 4, 5, 6, 8, 9, 13, 14, 15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НЕТ — 1, 7, 10, 11, 12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60360" y="539640"/>
            <a:ext cx="9539280" cy="63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2837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1 баллов и больше:</a:t>
            </a: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 вы удивительно внимательны и проницательны;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2837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5-10 баллов:</a:t>
            </a: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 вы достаточно внимательны и способны в ответственный момент сосредоточиться и не допускать ошибки;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2837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балла и меньше:</a:t>
            </a: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 вы очень рассеяны и в этом причина многих ваших неудач; вы упорно не придаёте значения «пустякам», из-за вашего невнимания страдают и окружающие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Упражнение «Я - внимание»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2880" y="1225440"/>
          <a:ext cx="9271080" cy="6139080"/>
        </p:xfrm>
        <a:graphic>
          <a:graphicData uri="http://schemas.openxmlformats.org/drawingml/2006/table">
            <a:tbl>
              <a:tblPr/>
              <a:tblGrid>
                <a:gridCol w="6615000"/>
                <a:gridCol w="2656080"/>
              </a:tblGrid>
              <a:tr h="71496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ё виж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71496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ё слыш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71496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теряю логики разгово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71496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огу сосредоточи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5920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нимательный по отношению к окружающи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5920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авливаю настроения и желания окружающи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59200">
                <a:tc>
                  <a:txBody>
                    <a:bodyPr lIns="90000" rIns="90000" tIns="223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Чуткий к внешним воздействия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Будьте всегда внимательны к окружающим вас людям!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60720" y="1800360"/>
            <a:ext cx="431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20680"/>
            <a:ext cx="86090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Внимание — состояние, при котором органы чувств, мышления полностью направлены на какой-либо объект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Внимание бавает: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произвольное и непроизвольное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Зрительное, слуховое, осязательное, обонятельное, вкусовое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0000" y="4859280"/>
            <a:ext cx="226368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9966"/>
                </a:solidFill>
                <a:latin typeface="Arial"/>
              </a:rPr>
              <a:t>Упражнение на непроизвольное внимание «Хромая обезъяна»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По преданию Ходжа Насредин пообещал вылечить хромого и кривого богача, но с условием: если он не будет думать о хромой обезъяне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Излечение не состоялось, так как богач не смог не думать о хромой обезъяне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41240" y="1963440"/>
            <a:ext cx="8772480" cy="52750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9000"/>
          </a:bodyPr>
          <a:p>
            <a:pPr marL="424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4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4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4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4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4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e6"/>
                </a:solidFill>
                <a:latin typeface="Times New Roman"/>
              </a:rPr>
              <a:t>Попробуйте и вы не думать о хромой обезъяне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40000" y="179280"/>
            <a:ext cx="540072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17928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9966"/>
                </a:solidFill>
                <a:latin typeface="Arial"/>
              </a:rPr>
              <a:t>Распределение внимания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41240" y="1260360"/>
          <a:ext cx="8772480" cy="5580000"/>
        </p:xfrm>
        <a:graphic>
          <a:graphicData uri="http://schemas.openxmlformats.org/drawingml/2006/table">
            <a:tbl>
              <a:tblPr/>
              <a:tblGrid>
                <a:gridCol w="1754280"/>
                <a:gridCol w="1754280"/>
                <a:gridCol w="1754280"/>
                <a:gridCol w="1753920"/>
                <a:gridCol w="1755720"/>
              </a:tblGrid>
              <a:tr h="123264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23264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23264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23264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23264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  <a:ea typeface="Microsoft YaHei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41240" y="360360"/>
            <a:ext cx="8772480" cy="65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Бсолнцеюьвлаоугкщрайондлсмшклаьбкновостьщшзщшкуцисмфактукгтсменртфылвшщггпроукропдлждлабетерояилждлащшщуахоккейптолодоыэвшкщетелевизорлэзнппвапангняпамятьдвщкшенгщъфтыпщиугцпремвыгарадостьжыдвшглывкад счмнароддлжщекывлспортгщжзавыфуцанпавскшщконкурсщзхрглтвыличностьъдгшщбриаюдплаваниеэхгозъунишкомедиятьюжэхваниеять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41240" y="360360"/>
            <a:ext cx="8772480" cy="65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олнце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юьвлаоугкщ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йон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длсмшклаьб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овость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щшзщшкуцисм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факт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укгтсменртфылвшщггпро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кроп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длждлабетерояилждлащшщу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хоккей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птолодоыэвшкще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елевизор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лэзнппвапангня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амять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двщкшенгщъфтыпщиугцпремвыг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дость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жыдвшглывкад счм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род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длжщекывл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гщжзавыфуцанпавскшщ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онкурс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щзхрглтвы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личность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ъдгшщбриаюд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вание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эхгозъуниш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омедия</a:t>
            </a:r>
            <a:r>
              <a:rPr b="1" lang="ru-RU" sz="4000" spc="-1" strike="noStrike">
                <a:solidFill>
                  <a:srgbClr val="e6e6e6"/>
                </a:solidFill>
                <a:latin typeface="Times New Roman"/>
              </a:rPr>
              <a:t>тьюжэхваниеять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Какое животное спрятолось в алфавите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e6e6e6"/>
                </a:solidFill>
                <a:latin typeface="Times New Roman"/>
              </a:rPr>
              <a:t>А Б В Г Д Е Ё Ж З И Й К Л М Н О П Р С Т У Ф Х Ц Ч Ш Щ Ъ Ы Ь Э Ю Я</a:t>
            </a:r>
            <a:endParaRPr b="0" lang="en-US" sz="7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7880" y="360360"/>
            <a:ext cx="6881760" cy="678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2Z</dcterms:created>
  <dc:creator/>
  <dc:description/>
  <dc:language>en-US</dc:language>
  <cp:lastModifiedBy/>
  <dcterms:modified xsi:type="dcterms:W3CDTF">2009-04-16T00:32:35Z</dcterms:modified>
  <cp:revision>2</cp:revision>
  <dc:subject/>
  <dc:title/>
</cp:coreProperties>
</file>