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107-74E4-46B1-AD94-605506D3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77A-DC5D-4D3A-8304-1096D09F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FC1-56D1-4A2C-92EF-8D35F076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BB9-E766-48CC-A032-DD2B6F7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F83-4E31-4DB1-85DA-BAC1A28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678-0372-49BB-8F0D-D51D19C8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D1E-9361-426C-BAC7-809822B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703-6C54-4E89-8732-450F251E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DF7-5DA7-481F-819E-E802DD8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C81-097C-49FD-A318-BD0DC1D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874-F5BC-43A1-8510-1654472F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1ED-69A9-4D6F-AFB1-CB6B3E8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A3F-45CB-4BF8-82A4-EEF5ED3D1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search_images?q=%E4%F0%EE%ED%F2&amp;fr=r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Hydrodamalis_gigas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ctopistes_migratoriusFCN2P29C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in.ru/Animalia/Coleoptera/images/redspb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zin.ru/Animalia/Coleoptera/images/redbru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60;&#1072;&#1081;&#1083;:Convallaria-oliv-r2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13716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ая книга</a:t>
            </a:r>
            <a:endParaRPr b="0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1"/>
          <p:cNvGrpSpPr/>
          <p:nvPr/>
        </p:nvGrpSpPr>
        <p:grpSpPr>
          <a:xfrm>
            <a:off x="2135160" y="380880"/>
            <a:ext cx="6684840" cy="6096240"/>
            <a:chOff x="2135160" y="380880"/>
            <a:chExt cx="6684840" cy="6096240"/>
          </a:xfrm>
        </p:grpSpPr>
        <p:pic>
          <p:nvPicPr>
            <p:cNvPr id="79" name="Picture 4" descr="Прострел весенний"/>
            <p:cNvPicPr/>
            <p:nvPr/>
          </p:nvPicPr>
          <p:blipFill>
            <a:blip r:embed="rId1"/>
            <a:stretch/>
          </p:blipFill>
          <p:spPr>
            <a:xfrm>
              <a:off x="4435560" y="380880"/>
              <a:ext cx="438444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5"/>
            <p:cNvSpPr/>
            <p:nvPr/>
          </p:nvSpPr>
          <p:spPr>
            <a:xfrm>
              <a:off x="2135160" y="5791320"/>
              <a:ext cx="21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остре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230040" y="380880"/>
            <a:ext cx="4113360" cy="3867120"/>
            <a:chOff x="230040" y="380880"/>
            <a:chExt cx="4113360" cy="3867120"/>
          </a:xfrm>
        </p:grpSpPr>
        <p:pic>
          <p:nvPicPr>
            <p:cNvPr id="82" name="Picture 6" descr="enc_2381"/>
            <p:cNvPicPr/>
            <p:nvPr/>
          </p:nvPicPr>
          <p:blipFill>
            <a:blip r:embed="rId2"/>
            <a:stretch/>
          </p:blipFill>
          <p:spPr>
            <a:xfrm>
              <a:off x="304920" y="1219320"/>
              <a:ext cx="40384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7"/>
            <p:cNvSpPr/>
            <p:nvPr/>
          </p:nvSpPr>
          <p:spPr>
            <a:xfrm>
              <a:off x="230040" y="380880"/>
              <a:ext cx="218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увшин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06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9"/>
          <p:cNvGrpSpPr/>
          <p:nvPr/>
        </p:nvGrpSpPr>
        <p:grpSpPr>
          <a:xfrm>
            <a:off x="4840200" y="304920"/>
            <a:ext cx="3908520" cy="6357600"/>
            <a:chOff x="4840200" y="304920"/>
            <a:chExt cx="3908520" cy="6357600"/>
          </a:xfrm>
        </p:grpSpPr>
        <p:pic>
          <p:nvPicPr>
            <p:cNvPr id="86" name="Picture 10" descr="ПАНДА"/>
            <p:cNvPicPr/>
            <p:nvPr/>
          </p:nvPicPr>
          <p:blipFill>
            <a:blip r:embed="rId1"/>
            <a:stretch/>
          </p:blipFill>
          <p:spPr>
            <a:xfrm>
              <a:off x="4840200" y="304920"/>
              <a:ext cx="39085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1"/>
            <p:cNvSpPr/>
            <p:nvPr/>
          </p:nvSpPr>
          <p:spPr>
            <a:xfrm>
              <a:off x="5792400" y="4648320"/>
              <a:ext cx="2783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анда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амбуков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едвед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8"/>
          <p:cNvGrpSpPr/>
          <p:nvPr/>
        </p:nvGrpSpPr>
        <p:grpSpPr>
          <a:xfrm>
            <a:off x="228600" y="2209680"/>
            <a:ext cx="4419720" cy="4429080"/>
            <a:chOff x="228600" y="2209680"/>
            <a:chExt cx="4419720" cy="4429080"/>
          </a:xfrm>
        </p:grpSpPr>
        <p:pic>
          <p:nvPicPr>
            <p:cNvPr id="89" name="Picture 13" descr="МЕДВЕДЬ БЕЛЫЙ"/>
            <p:cNvPicPr/>
            <p:nvPr/>
          </p:nvPicPr>
          <p:blipFill>
            <a:blip r:embed="rId2"/>
            <a:stretch/>
          </p:blipFill>
          <p:spPr>
            <a:xfrm>
              <a:off x="228600" y="3324240"/>
              <a:ext cx="441972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7"/>
            <p:cNvSpPr/>
            <p:nvPr/>
          </p:nvSpPr>
          <p:spPr>
            <a:xfrm>
              <a:off x="306000" y="2209680"/>
              <a:ext cx="351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елый медвед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2"/>
          <p:cNvGrpSpPr/>
          <p:nvPr/>
        </p:nvGrpSpPr>
        <p:grpSpPr>
          <a:xfrm>
            <a:off x="4038480" y="304920"/>
            <a:ext cx="4838760" cy="5610600"/>
            <a:chOff x="4038480" y="304920"/>
            <a:chExt cx="4838760" cy="5610600"/>
          </a:xfrm>
        </p:grpSpPr>
        <p:pic>
          <p:nvPicPr>
            <p:cNvPr id="92" name="Picture 11" descr="ИРБИС"/>
            <p:cNvPicPr/>
            <p:nvPr/>
          </p:nvPicPr>
          <p:blipFill>
            <a:blip r:embed="rId1"/>
            <a:stretch/>
          </p:blipFill>
          <p:spPr>
            <a:xfrm>
              <a:off x="4038480" y="304920"/>
              <a:ext cx="4838760" cy="40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2"/>
            <p:cNvSpPr/>
            <p:nvPr/>
          </p:nvSpPr>
          <p:spPr>
            <a:xfrm>
              <a:off x="4952880" y="4724280"/>
              <a:ext cx="318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рбис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нежный бар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228600" y="1371600"/>
            <a:ext cx="4184640" cy="5133960"/>
            <a:chOff x="228600" y="1371600"/>
            <a:chExt cx="4184640" cy="5133960"/>
          </a:xfrm>
        </p:grpSpPr>
        <p:pic>
          <p:nvPicPr>
            <p:cNvPr id="95" name="Picture 17" descr="olen2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418464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8"/>
            <p:cNvSpPr/>
            <p:nvPr/>
          </p:nvSpPr>
          <p:spPr>
            <a:xfrm>
              <a:off x="307080" y="1371600"/>
              <a:ext cx="241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ятнист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лен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28600" y="1523880"/>
            <a:ext cx="5029200" cy="5114880"/>
            <a:chOff x="228600" y="1523880"/>
            <a:chExt cx="5029200" cy="5114880"/>
          </a:xfrm>
        </p:grpSpPr>
        <p:pic>
          <p:nvPicPr>
            <p:cNvPr id="98" name="Picture 5" descr="МЕДВЕДЬ ГИМАЛАЙСКИЙ"/>
            <p:cNvPicPr/>
            <p:nvPr/>
          </p:nvPicPr>
          <p:blipFill>
            <a:blip r:embed="rId1"/>
            <a:stretch/>
          </p:blipFill>
          <p:spPr>
            <a:xfrm>
              <a:off x="228600" y="3206880"/>
              <a:ext cx="5029200" cy="34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6"/>
            <p:cNvSpPr/>
            <p:nvPr/>
          </p:nvSpPr>
          <p:spPr>
            <a:xfrm>
              <a:off x="304920" y="152388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ималайск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едвед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4038480" y="304920"/>
            <a:ext cx="4915080" cy="4952520"/>
            <a:chOff x="4038480" y="304920"/>
            <a:chExt cx="4915080" cy="4952520"/>
          </a:xfrm>
        </p:grpSpPr>
        <p:pic>
          <p:nvPicPr>
            <p:cNvPr id="101" name="Picture 4" descr="ТИГР"/>
            <p:cNvPicPr/>
            <p:nvPr/>
          </p:nvPicPr>
          <p:blipFill>
            <a:blip r:embed="rId2"/>
            <a:stretch/>
          </p:blipFill>
          <p:spPr>
            <a:xfrm>
              <a:off x="4038480" y="304920"/>
              <a:ext cx="4915080" cy="36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/>
            <p:cNvSpPr/>
            <p:nvPr/>
          </p:nvSpPr>
          <p:spPr>
            <a:xfrm>
              <a:off x="6005880" y="461484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иг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8"/>
          <p:cNvGrpSpPr/>
          <p:nvPr/>
        </p:nvGrpSpPr>
        <p:grpSpPr>
          <a:xfrm>
            <a:off x="152280" y="304920"/>
            <a:ext cx="5410440" cy="4986000"/>
            <a:chOff x="152280" y="304920"/>
            <a:chExt cx="5410440" cy="4986000"/>
          </a:xfrm>
        </p:grpSpPr>
        <p:pic>
          <p:nvPicPr>
            <p:cNvPr id="104" name="Picture 4" descr="ГЕПАРД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541044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5"/>
            <p:cNvSpPr/>
            <p:nvPr/>
          </p:nvSpPr>
          <p:spPr>
            <a:xfrm>
              <a:off x="230040" y="4648320"/>
              <a:ext cx="16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епар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4724280" y="1981080"/>
            <a:ext cx="4229280" cy="4648320"/>
            <a:chOff x="4724280" y="1981080"/>
            <a:chExt cx="4229280" cy="4648320"/>
          </a:xfrm>
        </p:grpSpPr>
        <p:pic>
          <p:nvPicPr>
            <p:cNvPr id="107" name="Picture 6" descr="ЛЕВ"/>
            <p:cNvPicPr/>
            <p:nvPr/>
          </p:nvPicPr>
          <p:blipFill>
            <a:blip r:embed="rId2"/>
            <a:stretch/>
          </p:blipFill>
          <p:spPr>
            <a:xfrm>
              <a:off x="4724280" y="2908440"/>
              <a:ext cx="4229280" cy="37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6631200" y="1981080"/>
              <a:ext cx="94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ле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7"/>
          <p:cNvGrpSpPr/>
          <p:nvPr/>
        </p:nvGrpSpPr>
        <p:grpSpPr>
          <a:xfrm>
            <a:off x="304920" y="152280"/>
            <a:ext cx="8582040" cy="6427800"/>
            <a:chOff x="304920" y="152280"/>
            <a:chExt cx="8582040" cy="6427800"/>
          </a:xfrm>
        </p:grpSpPr>
        <p:pic>
          <p:nvPicPr>
            <p:cNvPr id="110" name="Picture 5" descr="КРОКОДИЛ БОЛОТНЫЙ"/>
            <p:cNvPicPr/>
            <p:nvPr/>
          </p:nvPicPr>
          <p:blipFill>
            <a:blip r:embed="rId1"/>
            <a:stretch/>
          </p:blipFill>
          <p:spPr>
            <a:xfrm>
              <a:off x="4953240" y="3962160"/>
              <a:ext cx="3933720" cy="26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ЧЕРЕПАХА ИЛОВАЯ ГОЛОВАСТАЯ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3238560" cy="27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8"/>
          <p:cNvGrpSpPr/>
          <p:nvPr/>
        </p:nvGrpSpPr>
        <p:grpSpPr>
          <a:xfrm>
            <a:off x="228600" y="228240"/>
            <a:ext cx="8610120" cy="6423480"/>
            <a:chOff x="228600" y="228240"/>
            <a:chExt cx="8610120" cy="6423480"/>
          </a:xfrm>
        </p:grpSpPr>
        <p:pic>
          <p:nvPicPr>
            <p:cNvPr id="113" name="Picture 8" descr="ДЕЛЬФИН САРАВАКСКИЙ"/>
            <p:cNvPicPr/>
            <p:nvPr/>
          </p:nvPicPr>
          <p:blipFill>
            <a:blip r:embed="rId3"/>
            <a:stretch/>
          </p:blipFill>
          <p:spPr>
            <a:xfrm>
              <a:off x="2819520" y="191448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0" descr="БЕЛУХА"/>
            <p:cNvPicPr/>
            <p:nvPr/>
          </p:nvPicPr>
          <p:blipFill>
            <a:blip r:embed="rId4"/>
            <a:stretch/>
          </p:blipFill>
          <p:spPr>
            <a:xfrm>
              <a:off x="228600" y="4343400"/>
              <a:ext cx="342900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2" descr="КИТ СИНИЙ"/>
            <p:cNvPicPr/>
            <p:nvPr/>
          </p:nvPicPr>
          <p:blipFill>
            <a:blip r:embed="rId5"/>
            <a:stretch/>
          </p:blipFill>
          <p:spPr>
            <a:xfrm rot="10800000">
              <a:off x="4571640" y="227880"/>
              <a:ext cx="426708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/>
            <p:cNvSpPr/>
            <p:nvPr/>
          </p:nvSpPr>
          <p:spPr>
            <a:xfrm>
              <a:off x="6706440" y="249408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иний ки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228600" y="373392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белу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1"/>
          <p:cNvGrpSpPr/>
          <p:nvPr/>
        </p:nvGrpSpPr>
        <p:grpSpPr>
          <a:xfrm>
            <a:off x="228600" y="1143000"/>
            <a:ext cx="4876920" cy="5465880"/>
            <a:chOff x="228600" y="1143000"/>
            <a:chExt cx="4876920" cy="5465880"/>
          </a:xfrm>
        </p:grpSpPr>
        <p:pic>
          <p:nvPicPr>
            <p:cNvPr id="119" name="Picture 7" descr="ПИНГВИН ЗОЛОТОВОЛОСЫЙ"/>
            <p:cNvPicPr/>
            <p:nvPr/>
          </p:nvPicPr>
          <p:blipFill>
            <a:blip r:embed="rId1"/>
            <a:stretch/>
          </p:blipFill>
          <p:spPr>
            <a:xfrm>
              <a:off x="228600" y="2743200"/>
              <a:ext cx="487692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8"/>
            <p:cNvSpPr/>
            <p:nvPr/>
          </p:nvSpPr>
          <p:spPr>
            <a:xfrm>
              <a:off x="304920" y="1143000"/>
              <a:ext cx="34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ингви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олотоволос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2"/>
          <p:cNvGrpSpPr/>
          <p:nvPr/>
        </p:nvGrpSpPr>
        <p:grpSpPr>
          <a:xfrm>
            <a:off x="4699080" y="304920"/>
            <a:ext cx="4260600" cy="5824080"/>
            <a:chOff x="4699080" y="304920"/>
            <a:chExt cx="4260600" cy="5824080"/>
          </a:xfrm>
        </p:grpSpPr>
        <p:pic>
          <p:nvPicPr>
            <p:cNvPr id="122" name="Picture 10" descr="КАКАДУ ЧЁРНЫЙ БЕЛОУХИЙ"/>
            <p:cNvPicPr/>
            <p:nvPr/>
          </p:nvPicPr>
          <p:blipFill>
            <a:blip r:embed="rId2"/>
            <a:stretch/>
          </p:blipFill>
          <p:spPr>
            <a:xfrm>
              <a:off x="4699080" y="304920"/>
              <a:ext cx="42606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1"/>
            <p:cNvSpPr/>
            <p:nvPr/>
          </p:nvSpPr>
          <p:spPr>
            <a:xfrm>
              <a:off x="6478560" y="54864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кад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5452920" y="304920"/>
            <a:ext cx="3386160" cy="6204960"/>
            <a:chOff x="5452920" y="304920"/>
            <a:chExt cx="3386160" cy="6204960"/>
          </a:xfrm>
        </p:grpSpPr>
        <p:pic>
          <p:nvPicPr>
            <p:cNvPr id="125" name="Picture 5" descr="ПУСТЕЛЬГА МАВРИКИЙСКАЯ"/>
            <p:cNvPicPr/>
            <p:nvPr/>
          </p:nvPicPr>
          <p:blipFill>
            <a:blip r:embed="rId1"/>
            <a:stretch/>
          </p:blipFill>
          <p:spPr>
            <a:xfrm>
              <a:off x="5452920" y="304920"/>
              <a:ext cx="33861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6"/>
            <p:cNvSpPr/>
            <p:nvPr/>
          </p:nvSpPr>
          <p:spPr>
            <a:xfrm>
              <a:off x="6251040" y="5867280"/>
              <a:ext cx="227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устельг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304920" y="685800"/>
            <a:ext cx="4876560" cy="5781600"/>
            <a:chOff x="304920" y="685800"/>
            <a:chExt cx="4876560" cy="5781600"/>
          </a:xfrm>
        </p:grpSpPr>
        <p:pic>
          <p:nvPicPr>
            <p:cNvPr id="128" name="Picture 4" descr="ФЛАМИНГО ДЖЕЙМСА"/>
            <p:cNvPicPr/>
            <p:nvPr/>
          </p:nvPicPr>
          <p:blipFill>
            <a:blip r:embed="rId2"/>
            <a:stretch/>
          </p:blipFill>
          <p:spPr>
            <a:xfrm>
              <a:off x="304920" y="1687680"/>
              <a:ext cx="487656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763200" y="685800"/>
              <a:ext cx="23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фламин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"/>
          <p:cNvGrpSpPr/>
          <p:nvPr/>
        </p:nvGrpSpPr>
        <p:grpSpPr>
          <a:xfrm>
            <a:off x="5229360" y="228600"/>
            <a:ext cx="3628800" cy="6630120"/>
            <a:chOff x="5229360" y="228600"/>
            <a:chExt cx="3628800" cy="6630120"/>
          </a:xfrm>
        </p:grpSpPr>
        <p:pic>
          <p:nvPicPr>
            <p:cNvPr id="131" name="Picture 4" descr="ОРЛАН-ДОЛГОХВОСТ"/>
            <p:cNvPicPr/>
            <p:nvPr/>
          </p:nvPicPr>
          <p:blipFill>
            <a:blip r:embed="rId1"/>
            <a:stretch/>
          </p:blipFill>
          <p:spPr>
            <a:xfrm>
              <a:off x="5229360" y="228600"/>
              <a:ext cx="3628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5"/>
            <p:cNvSpPr/>
            <p:nvPr/>
          </p:nvSpPr>
          <p:spPr>
            <a:xfrm>
              <a:off x="5562720" y="566748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рла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олгохвос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9"/>
          <p:cNvGrpSpPr/>
          <p:nvPr/>
        </p:nvGrpSpPr>
        <p:grpSpPr>
          <a:xfrm>
            <a:off x="228600" y="304920"/>
            <a:ext cx="3595680" cy="6248160"/>
            <a:chOff x="228600" y="304920"/>
            <a:chExt cx="3595680" cy="6248160"/>
          </a:xfrm>
        </p:grpSpPr>
        <p:pic>
          <p:nvPicPr>
            <p:cNvPr id="134" name="Picture 6" descr="СОВА ХОХОЧУЩАЯ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359568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7"/>
            <p:cNvSpPr/>
            <p:nvPr/>
          </p:nvSpPr>
          <p:spPr>
            <a:xfrm>
              <a:off x="457200" y="304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охочущ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i?id=93963883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28600"/>
            <a:ext cx="5581800" cy="609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534960" y="533412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Дро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9"/>
          <p:cNvSpPr/>
          <p:nvPr/>
        </p:nvSpPr>
        <p:spPr>
          <a:xfrm>
            <a:off x="684216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0"/>
          <p:cNvGrpSpPr/>
          <p:nvPr/>
        </p:nvGrpSpPr>
        <p:grpSpPr>
          <a:xfrm>
            <a:off x="2971800" y="457200"/>
            <a:ext cx="5209200" cy="6108480"/>
            <a:chOff x="2971800" y="457200"/>
            <a:chExt cx="5209200" cy="6108480"/>
          </a:xfrm>
        </p:grpSpPr>
        <p:sp>
          <p:nvSpPr>
            <p:cNvPr id="138" name="Text Box 6"/>
            <p:cNvSpPr/>
            <p:nvPr/>
          </p:nvSpPr>
          <p:spPr>
            <a:xfrm>
              <a:off x="5414040" y="3225960"/>
              <a:ext cx="276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роткокрыл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а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8" descr="krasnredb020"/>
            <p:cNvPicPr/>
            <p:nvPr/>
          </p:nvPicPr>
          <p:blipFill>
            <a:blip r:embed="rId1"/>
            <a:stretch/>
          </p:blipFill>
          <p:spPr>
            <a:xfrm>
              <a:off x="2971800" y="457200"/>
              <a:ext cx="2514600" cy="35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1" descr="pol_her4"/>
            <p:cNvPicPr/>
            <p:nvPr/>
          </p:nvPicPr>
          <p:blipFill>
            <a:blip r:embed="rId2"/>
            <a:stretch/>
          </p:blipFill>
          <p:spPr>
            <a:xfrm>
              <a:off x="3276720" y="4191120"/>
              <a:ext cx="24098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3128040" y="6045120"/>
              <a:ext cx="207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ернот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9"/>
          <p:cNvGrpSpPr/>
          <p:nvPr/>
        </p:nvGrpSpPr>
        <p:grpSpPr>
          <a:xfrm>
            <a:off x="228600" y="304920"/>
            <a:ext cx="8846640" cy="6337080"/>
            <a:chOff x="228600" y="304920"/>
            <a:chExt cx="8846640" cy="6337080"/>
          </a:xfrm>
        </p:grpSpPr>
        <p:pic>
          <p:nvPicPr>
            <p:cNvPr id="143" name="Picture 14" descr="113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74320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5"/>
            <p:cNvSpPr/>
            <p:nvPr/>
          </p:nvSpPr>
          <p:spPr>
            <a:xfrm>
              <a:off x="7776000" y="6121440"/>
              <a:ext cx="12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шм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0" descr="067"/>
            <p:cNvPicPr/>
            <p:nvPr/>
          </p:nvPicPr>
          <p:blipFill>
            <a:blip r:embed="rId4"/>
            <a:stretch/>
          </p:blipFill>
          <p:spPr>
            <a:xfrm>
              <a:off x="228600" y="304920"/>
              <a:ext cx="2666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1"/>
            <p:cNvSpPr/>
            <p:nvPr/>
          </p:nvSpPr>
          <p:spPr>
            <a:xfrm>
              <a:off x="231480" y="2463840"/>
              <a:ext cx="18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жужели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8"/>
          <p:cNvGrpSpPr/>
          <p:nvPr/>
        </p:nvGrpSpPr>
        <p:grpSpPr>
          <a:xfrm>
            <a:off x="228600" y="384120"/>
            <a:ext cx="8969400" cy="6354360"/>
            <a:chOff x="228600" y="384120"/>
            <a:chExt cx="8969400" cy="6354360"/>
          </a:xfrm>
        </p:grpSpPr>
        <p:pic>
          <p:nvPicPr>
            <p:cNvPr id="148" name="Picture 17" descr="061"/>
            <p:cNvPicPr/>
            <p:nvPr/>
          </p:nvPicPr>
          <p:blipFill>
            <a:blip r:embed="rId5"/>
            <a:stretch/>
          </p:blipFill>
          <p:spPr>
            <a:xfrm>
              <a:off x="380880" y="373392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8"/>
            <p:cNvSpPr/>
            <p:nvPr/>
          </p:nvSpPr>
          <p:spPr>
            <a:xfrm>
              <a:off x="228600" y="57913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реко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зорщ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147"/>
            <p:cNvPicPr/>
            <p:nvPr/>
          </p:nvPicPr>
          <p:blipFill>
            <a:blip r:embed="rId6"/>
            <a:stretch/>
          </p:blipFill>
          <p:spPr>
            <a:xfrm>
              <a:off x="5943600" y="990720"/>
              <a:ext cx="25909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24"/>
            <p:cNvSpPr/>
            <p:nvPr/>
          </p:nvSpPr>
          <p:spPr>
            <a:xfrm>
              <a:off x="6860880" y="384120"/>
              <a:ext cx="23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ламут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embl_tig_3"/>
          <p:cNvPicPr/>
          <p:nvPr/>
        </p:nvPicPr>
        <p:blipFill>
          <a:blip r:embed="rId1"/>
          <a:stretch/>
        </p:blipFill>
        <p:spPr>
          <a:xfrm>
            <a:off x="228600" y="838080"/>
            <a:ext cx="327960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3809880" y="1600200"/>
            <a:ext cx="4953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оги нам!</a:t>
            </a:r>
            <a:endParaRPr b="0" lang="en-US" sz="5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ydrodamalis gigas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"/>
            <a:ext cx="8382240" cy="323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981080" y="32767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Стелле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(морская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ко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Ectopistes migratoriusFCN2P29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7315200" cy="5081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2898360" y="4937040"/>
            <a:ext cx="591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Странствующ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голуб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расная книга.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94360" y="1191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66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3"/>
          <p:cNvGrpSpPr/>
          <p:nvPr/>
        </p:nvGrpSpPr>
        <p:grpSpPr>
          <a:xfrm>
            <a:off x="304920" y="228600"/>
            <a:ext cx="4190760" cy="5943600"/>
            <a:chOff x="304920" y="228600"/>
            <a:chExt cx="4190760" cy="5943600"/>
          </a:xfrm>
        </p:grpSpPr>
        <p:sp>
          <p:nvSpPr>
            <p:cNvPr id="51" name="Rectangle 4"/>
            <p:cNvSpPr/>
            <p:nvPr/>
          </p:nvSpPr>
          <p:spPr>
            <a:xfrm>
              <a:off x="304920" y="228600"/>
              <a:ext cx="4190760" cy="5943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839520" y="1371600"/>
              <a:ext cx="344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исчезающи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1523880" y="685800"/>
            <a:ext cx="4495680" cy="5715000"/>
            <a:chOff x="1523880" y="685800"/>
            <a:chExt cx="4495680" cy="5715000"/>
          </a:xfrm>
        </p:grpSpPr>
        <p:sp>
          <p:nvSpPr>
            <p:cNvPr id="54" name="Rectangle 6"/>
            <p:cNvSpPr/>
            <p:nvPr/>
          </p:nvSpPr>
          <p:spPr>
            <a:xfrm>
              <a:off x="1523880" y="685800"/>
              <a:ext cx="4495680" cy="5715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1600200" y="2590560"/>
              <a:ext cx="437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сохраняющиес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2514600" y="304920"/>
            <a:ext cx="4343400" cy="5715000"/>
            <a:chOff x="2514600" y="304920"/>
            <a:chExt cx="4343400" cy="5715000"/>
          </a:xfrm>
        </p:grpSpPr>
        <p:sp>
          <p:nvSpPr>
            <p:cNvPr id="57" name="Rectangle 7"/>
            <p:cNvSpPr/>
            <p:nvPr/>
          </p:nvSpPr>
          <p:spPr>
            <a:xfrm>
              <a:off x="2514600" y="304920"/>
              <a:ext cx="4343400" cy="57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3735360" y="1447920"/>
              <a:ext cx="199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редки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3200400" y="685800"/>
            <a:ext cx="4343400" cy="5638680"/>
            <a:chOff x="3200400" y="685800"/>
            <a:chExt cx="4343400" cy="5638680"/>
          </a:xfrm>
        </p:grpSpPr>
        <p:sp>
          <p:nvSpPr>
            <p:cNvPr id="60" name="Rectangle 8"/>
            <p:cNvSpPr/>
            <p:nvPr/>
          </p:nvSpPr>
          <p:spPr>
            <a:xfrm>
              <a:off x="3276720" y="685800"/>
              <a:ext cx="4190760" cy="563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200400" y="175248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неопределённы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2"/>
          <p:cNvSpPr/>
          <p:nvPr/>
        </p:nvSpPr>
        <p:spPr>
          <a:xfrm>
            <a:off x="4800600" y="533520"/>
            <a:ext cx="4114800" cy="5790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станавлив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щие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redspb1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819520" cy="367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redbsu2"/>
          <p:cNvPicPr/>
          <p:nvPr/>
        </p:nvPicPr>
        <p:blipFill>
          <a:blip r:embed="rId3"/>
          <a:stretch/>
        </p:blipFill>
        <p:spPr>
          <a:xfrm>
            <a:off x="228600" y="152280"/>
            <a:ext cx="2905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redbru_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2971800"/>
            <a:ext cx="2765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0"/>
          <p:cNvGrpSpPr/>
          <p:nvPr/>
        </p:nvGrpSpPr>
        <p:grpSpPr>
          <a:xfrm>
            <a:off x="5105520" y="152280"/>
            <a:ext cx="3754440" cy="5486400"/>
            <a:chOff x="5105520" y="152280"/>
            <a:chExt cx="3754440" cy="5486400"/>
          </a:xfrm>
        </p:grpSpPr>
        <p:pic>
          <p:nvPicPr>
            <p:cNvPr id="67" name="Picture 13" descr="прострел раскрытый"/>
            <p:cNvPicPr/>
            <p:nvPr/>
          </p:nvPicPr>
          <p:blipFill>
            <a:blip r:embed="rId1"/>
            <a:stretch/>
          </p:blipFill>
          <p:spPr>
            <a:xfrm>
              <a:off x="5105520" y="1371600"/>
              <a:ext cx="375444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4"/>
            <p:cNvSpPr/>
            <p:nvPr/>
          </p:nvSpPr>
          <p:spPr>
            <a:xfrm>
              <a:off x="6249240" y="152280"/>
              <a:ext cx="249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юльпа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крыт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468360" y="228600"/>
            <a:ext cx="4168800" cy="6630120"/>
            <a:chOff x="468360" y="228600"/>
            <a:chExt cx="4168800" cy="6630120"/>
          </a:xfrm>
        </p:grpSpPr>
        <p:pic>
          <p:nvPicPr>
            <p:cNvPr id="70" name="Picture 19" descr="Ландыш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68360" y="228600"/>
              <a:ext cx="416880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0"/>
            <p:cNvSpPr/>
            <p:nvPr/>
          </p:nvSpPr>
          <p:spPr>
            <a:xfrm>
              <a:off x="1601280" y="5667480"/>
              <a:ext cx="289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00"/>
                  </a:solidFill>
                  <a:latin typeface="Arial"/>
                </a:rPr>
                <a:t>Ландыш 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00"/>
                  </a:solidFill>
                  <a:latin typeface="Arial"/>
                </a:rPr>
                <a:t>лилия доли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3"/>
          <p:cNvGrpSpPr/>
          <p:nvPr/>
        </p:nvGrpSpPr>
        <p:grpSpPr>
          <a:xfrm>
            <a:off x="228600" y="304920"/>
            <a:ext cx="8153280" cy="3600360"/>
            <a:chOff x="228600" y="304920"/>
            <a:chExt cx="8153280" cy="3600360"/>
          </a:xfrm>
        </p:grpSpPr>
        <p:pic>
          <p:nvPicPr>
            <p:cNvPr id="73" name="Picture 4" descr="ena_0143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480060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7"/>
            <p:cNvSpPr/>
            <p:nvPr/>
          </p:nvSpPr>
          <p:spPr>
            <a:xfrm>
              <a:off x="5638680" y="609480"/>
              <a:ext cx="2743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Венери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башмач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1066680" y="2743200"/>
            <a:ext cx="7877160" cy="3903480"/>
            <a:chOff x="1066680" y="2743200"/>
            <a:chExt cx="7877160" cy="3903480"/>
          </a:xfrm>
        </p:grpSpPr>
        <p:pic>
          <p:nvPicPr>
            <p:cNvPr id="76" name="Picture 8" descr="Panax quinquefolium"/>
            <p:cNvPicPr/>
            <p:nvPr/>
          </p:nvPicPr>
          <p:blipFill>
            <a:blip r:embed="rId2"/>
            <a:stretch/>
          </p:blipFill>
          <p:spPr>
            <a:xfrm>
              <a:off x="5105520" y="2743200"/>
              <a:ext cx="3838320" cy="38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9"/>
            <p:cNvSpPr/>
            <p:nvPr/>
          </p:nvSpPr>
          <p:spPr>
            <a:xfrm>
              <a:off x="1066680" y="4114800"/>
              <a:ext cx="40388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Женьшен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(жень -человек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шень – корень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корень жизни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0T19:53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