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D4D-547B-417D-995E-1C96E426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CFC-F779-4DD7-9C32-07AF12B6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441-76CE-4F48-AAAB-746C0C91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E5C-CCA7-4CDF-A144-751E3879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95AF-E177-4B14-A9E4-8BBCFC58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43A-B7B0-4E35-83BD-B833EA23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0690-301F-448B-A612-F54C684F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666D-577E-485A-BFB0-4C72087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8F67-D8F7-433B-B7D5-16E77E7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6AEE-60EC-46DA-A4C8-2A85211F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DFE5-AA40-40B9-BD04-A1C46ED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F53-7CB0-4A6A-B448-A98DF39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D457-3286-46B3-8585-C7A685AC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D2BA-669D-4EE8-9DA2-853FA82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29C1-4B75-4933-8509-A3209B5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0CAA-AC91-4DBB-981D-01F81ED1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2DC3-B7D3-4C9A-BCD3-21D4B936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E8F-27AF-468C-92B2-E617AC4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3B5-A30B-4F59-AA36-DD089545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735-C967-46F9-BBE4-C4C764F7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37F-E376-450B-ABC7-A6CD87CC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4A1-CF2B-4B42-A501-1487097E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C40-D46B-454A-A7D2-B8717E7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12D-678E-4C5E-B9BA-0F3B7BC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2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BAC-9C5E-4415-A5DF-D5ED893EBB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2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7BD-8A6A-4F33-81F4-616ADFA44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f2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07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Kozuka Gothic Pro L"/>
              </a:rPr>
              <a:t>Палиндром и мод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962160" y="13712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gency FB"/>
              </a:rPr>
              <a:t>Отметьте на числовой прямой числа с одинаковым модулем. Прочитайте получившееся сло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981080"/>
            <a:ext cx="85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Kozuka Mincho Pro R"/>
              </a:rPr>
              <a:t>1) Буквой   Н отметьте числа, модуль которых равен 0</a:t>
            </a:r>
            <a:r>
              <a:rPr b="0" lang="en-US" sz="1400" spc="-1" strike="noStrike">
                <a:solidFill>
                  <a:srgbClr val="ffffff"/>
                </a:solidFill>
                <a:latin typeface="Kozuka Mincho Pro 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2860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Kozuka Mincho Pro M"/>
              </a:rPr>
              <a:t>2)  Буквой   А отметьте числа, модуль которых равен 13</a:t>
            </a:r>
            <a:r>
              <a:rPr b="0" lang="en-US" sz="1400" spc="-1" strike="noStrike">
                <a:solidFill>
                  <a:srgbClr val="ffffff"/>
                </a:solidFill>
                <a:latin typeface="Kozuka Mincho Pro M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266688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Kozuka Mincho Pro M"/>
              </a:rPr>
              <a:t>3)  Буквой   О отметьте числа, модуль которых равен 11</a:t>
            </a:r>
            <a:r>
              <a:rPr b="0" lang="en-US" sz="1400" spc="-1" strike="noStrike">
                <a:solidFill>
                  <a:srgbClr val="ffffff"/>
                </a:solidFill>
                <a:latin typeface="Kozuka Mincho Pro M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01716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Kozuka Mincho Pro M"/>
              </a:rPr>
              <a:t>4)  Буквой   А отметьте числа, модуль которых равен 9</a:t>
            </a:r>
            <a:r>
              <a:rPr b="0" lang="en-US" sz="1200" spc="-1" strike="noStrike">
                <a:solidFill>
                  <a:srgbClr val="ffffff"/>
                </a:solidFill>
                <a:latin typeface="Kozuka Mincho Pro M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47436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Kozuka Mincho Pro M"/>
              </a:rPr>
              <a:t>5) Буквой   А отметьте числа,  модуль которых равен 4</a:t>
            </a:r>
            <a:r>
              <a:rPr b="0" lang="en-US" sz="1200" spc="-1" strike="noStrike">
                <a:solidFill>
                  <a:srgbClr val="ffffff"/>
                </a:solidFill>
                <a:latin typeface="Kozuka Mincho Pro M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733920"/>
            <a:ext cx="74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Kozuka Mincho Pro M"/>
              </a:rPr>
              <a:t>6) Буквой   А отметьте числа, модуль которых равен 2</a:t>
            </a:r>
            <a:r>
              <a:rPr b="0" lang="en-US" sz="1200" spc="-1" strike="noStrike">
                <a:solidFill>
                  <a:srgbClr val="ffffff"/>
                </a:solidFill>
                <a:latin typeface="Kozuka Mincho Pro M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160160"/>
            <a:ext cx="67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Kozuka Mincho Pro M"/>
              </a:rPr>
              <a:t>7) Буквой   У  отметьте числа, модуль которых равен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4494960"/>
            <a:ext cx="66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Kozuka Mincho Pro M"/>
              </a:rPr>
              <a:t>8) Буквой   Л отметьте числа, модуль которых равен 3</a:t>
            </a:r>
            <a:r>
              <a:rPr b="0" lang="en-US" sz="1200" spc="-1" strike="noStrike">
                <a:solidFill>
                  <a:srgbClr val="ffffff"/>
                </a:solidFill>
                <a:latin typeface="Kozuka Mincho Pro M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952160"/>
            <a:ext cx="73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Kozuka Mincho Pro M"/>
              </a:rPr>
              <a:t>9) Буквой   П  отметьте числа, модуль которых равен 5</a:t>
            </a:r>
            <a:r>
              <a:rPr b="0" lang="en-US" sz="1200" spc="-1" strike="noStrike">
                <a:solidFill>
                  <a:srgbClr val="ffffff"/>
                </a:solidFill>
                <a:latin typeface="Kozuka Mincho Pro M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33340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Kozuka Mincho Pro M"/>
              </a:rPr>
              <a:t>10)Буквой   З отметьте числа, модуль которых равен 10</a:t>
            </a:r>
            <a:r>
              <a:rPr b="0" lang="en-US" sz="1200" spc="-1" strike="noStrike">
                <a:solidFill>
                  <a:srgbClr val="ffffff"/>
                </a:solidFill>
                <a:latin typeface="Kozuka Mincho Pro M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8280" y="5684040"/>
            <a:ext cx="443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Kozuka Mincho Pro M"/>
              </a:rPr>
              <a:t>11) Буквой   Р отметьте числа, модуль которых равен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2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2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2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62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72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82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92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2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12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22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32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f2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ozuka Mincho Pro M"/>
              </a:rPr>
              <a:t>Провер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3429000"/>
            <a:ext cx="7200720" cy="151920"/>
            <a:chOff x="762120" y="3429000"/>
            <a:chExt cx="7200720" cy="151920"/>
          </a:xfrm>
        </p:grpSpPr>
        <p:grpSp>
          <p:nvGrpSpPr>
            <p:cNvPr id="177" name=""/>
            <p:cNvGrpSpPr/>
            <p:nvPr/>
          </p:nvGrpSpPr>
          <p:grpSpPr>
            <a:xfrm>
              <a:off x="762120" y="3429000"/>
              <a:ext cx="7085880" cy="151920"/>
              <a:chOff x="762120" y="3429000"/>
              <a:chExt cx="7085880" cy="1519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762120" y="3429000"/>
                <a:ext cx="4800240" cy="151920"/>
                <a:chOff x="762120" y="3429000"/>
                <a:chExt cx="4800240" cy="15192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762120" y="3429000"/>
                  <a:ext cx="4574880" cy="151920"/>
                  <a:chOff x="762120" y="3429000"/>
                  <a:chExt cx="4574880" cy="15192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4419360" y="3429000"/>
                    <a:ext cx="917640" cy="151920"/>
                    <a:chOff x="4419360" y="3429000"/>
                    <a:chExt cx="917640" cy="151920"/>
                  </a:xfrm>
                </p:grpSpPr>
                <p:grpSp>
                  <p:nvGrpSpPr>
                    <p:cNvPr id="181" name=""/>
                    <p:cNvGrpSpPr/>
                    <p:nvPr/>
                  </p:nvGrpSpPr>
                  <p:grpSpPr>
                    <a:xfrm>
                      <a:off x="4419360" y="3429000"/>
                      <a:ext cx="458640" cy="0"/>
                      <a:chOff x="4419360" y="3429000"/>
                      <a:chExt cx="458640" cy="0"/>
                    </a:xfrm>
                  </p:grpSpPr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4419360" y="342900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headEnd len="sm" type="oval" w="sm"/>
                        <a:tailEnd len="sm" type="oval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4649760" y="342900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headEnd len="sm" type="oval" w="sm"/>
                        <a:tailEnd len="sm" type="oval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4878360" y="3580920"/>
                      <a:ext cx="458640" cy="0"/>
                      <a:chOff x="4878360" y="3580920"/>
                      <a:chExt cx="458640" cy="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878360" y="358092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headEnd len="sm" type="oval" w="sm"/>
                        <a:tailEnd len="sm" type="oval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5108760" y="358092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headEnd len="sm" type="oval" w="sm"/>
                        <a:tailEnd len="sm" type="oval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762120" y="3429000"/>
                    <a:ext cx="3659760" cy="151920"/>
                    <a:chOff x="762120" y="3429000"/>
                    <a:chExt cx="3659760" cy="151920"/>
                  </a:xfrm>
                </p:grpSpPr>
                <p:grpSp>
                  <p:nvGrpSpPr>
                    <p:cNvPr id="188" name=""/>
                    <p:cNvGrpSpPr/>
                    <p:nvPr/>
                  </p:nvGrpSpPr>
                  <p:grpSpPr>
                    <a:xfrm>
                      <a:off x="762120" y="3429000"/>
                      <a:ext cx="1831320" cy="151920"/>
                      <a:chOff x="762120" y="3429000"/>
                      <a:chExt cx="1831320" cy="151920"/>
                    </a:xfrm>
                  </p:grpSpPr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762120" y="3429000"/>
                        <a:ext cx="917280" cy="151920"/>
                        <a:chOff x="762120" y="3429000"/>
                        <a:chExt cx="917280" cy="151920"/>
                      </a:xfrm>
                    </p:grpSpPr>
                    <p:grpSp>
                      <p:nvGrpSpPr>
                        <p:cNvPr id="190" name=""/>
                        <p:cNvGrpSpPr/>
                        <p:nvPr/>
                      </p:nvGrpSpPr>
                      <p:grpSpPr>
                        <a:xfrm>
                          <a:off x="762120" y="3429000"/>
                          <a:ext cx="458640" cy="0"/>
                          <a:chOff x="762120" y="3429000"/>
                          <a:chExt cx="458640" cy="0"/>
                        </a:xfrm>
                      </p:grpSpPr>
                      <p:sp>
                        <p:nvSpPr>
                          <p:cNvPr id="191" name=""/>
                          <p:cNvSpPr/>
                          <p:nvPr/>
                        </p:nvSpPr>
                        <p:spPr>
                          <a:xfrm>
                            <a:off x="76212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" name=""/>
                          <p:cNvSpPr/>
                          <p:nvPr/>
                        </p:nvSpPr>
                        <p:spPr>
                          <a:xfrm>
                            <a:off x="99252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3" name=""/>
                        <p:cNvGrpSpPr/>
                        <p:nvPr/>
                      </p:nvGrpSpPr>
                      <p:grpSpPr>
                        <a:xfrm>
                          <a:off x="1220760" y="3580920"/>
                          <a:ext cx="458640" cy="0"/>
                          <a:chOff x="1220760" y="3580920"/>
                          <a:chExt cx="458640" cy="0"/>
                        </a:xfrm>
                      </p:grpSpPr>
                      <p:sp>
                        <p:nvSpPr>
                          <p:cNvPr id="194" name=""/>
                          <p:cNvSpPr/>
                          <p:nvPr/>
                        </p:nvSpPr>
                        <p:spPr>
                          <a:xfrm>
                            <a:off x="122076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"/>
                          <p:cNvSpPr/>
                          <p:nvPr/>
                        </p:nvSpPr>
                        <p:spPr>
                          <a:xfrm>
                            <a:off x="145116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96" name=""/>
                      <p:cNvGrpSpPr/>
                      <p:nvPr/>
                    </p:nvGrpSpPr>
                    <p:grpSpPr>
                      <a:xfrm>
                        <a:off x="1676160" y="3429000"/>
                        <a:ext cx="917280" cy="151920"/>
                        <a:chOff x="1676160" y="3429000"/>
                        <a:chExt cx="917280" cy="151920"/>
                      </a:xfrm>
                    </p:grpSpPr>
                    <p:grpSp>
                      <p:nvGrpSpPr>
                        <p:cNvPr id="197" name=""/>
                        <p:cNvGrpSpPr/>
                        <p:nvPr/>
                      </p:nvGrpSpPr>
                      <p:grpSpPr>
                        <a:xfrm>
                          <a:off x="1676160" y="3429000"/>
                          <a:ext cx="458640" cy="0"/>
                          <a:chOff x="1676160" y="3429000"/>
                          <a:chExt cx="458640" cy="0"/>
                        </a:xfrm>
                      </p:grpSpPr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167616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9" name=""/>
                          <p:cNvSpPr/>
                          <p:nvPr/>
                        </p:nvSpPr>
                        <p:spPr>
                          <a:xfrm>
                            <a:off x="190656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0" name=""/>
                        <p:cNvGrpSpPr/>
                        <p:nvPr/>
                      </p:nvGrpSpPr>
                      <p:grpSpPr>
                        <a:xfrm>
                          <a:off x="2134800" y="3580920"/>
                          <a:ext cx="458640" cy="0"/>
                          <a:chOff x="2134800" y="3580920"/>
                          <a:chExt cx="458640" cy="0"/>
                        </a:xfrm>
                      </p:grpSpPr>
                      <p:sp>
                        <p:nvSpPr>
                          <p:cNvPr id="201" name=""/>
                          <p:cNvSpPr/>
                          <p:nvPr/>
                        </p:nvSpPr>
                        <p:spPr>
                          <a:xfrm>
                            <a:off x="213480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" name=""/>
                          <p:cNvSpPr/>
                          <p:nvPr/>
                        </p:nvSpPr>
                        <p:spPr>
                          <a:xfrm>
                            <a:off x="236520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2590560" y="3429000"/>
                      <a:ext cx="1831320" cy="151920"/>
                      <a:chOff x="2590560" y="3429000"/>
                      <a:chExt cx="1831320" cy="151920"/>
                    </a:xfrm>
                  </p:grpSpPr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2590560" y="3429000"/>
                        <a:ext cx="917280" cy="151920"/>
                        <a:chOff x="2590560" y="3429000"/>
                        <a:chExt cx="917280" cy="151920"/>
                      </a:xfrm>
                    </p:grpSpPr>
                    <p:grpSp>
                      <p:nvGrpSpPr>
                        <p:cNvPr id="205" name=""/>
                        <p:cNvGrpSpPr/>
                        <p:nvPr/>
                      </p:nvGrpSpPr>
                      <p:grpSpPr>
                        <a:xfrm>
                          <a:off x="2590560" y="3429000"/>
                          <a:ext cx="458640" cy="0"/>
                          <a:chOff x="2590560" y="3429000"/>
                          <a:chExt cx="458640" cy="0"/>
                        </a:xfrm>
                      </p:grpSpPr>
                      <p:sp>
                        <p:nvSpPr>
                          <p:cNvPr id="206" name=""/>
                          <p:cNvSpPr/>
                          <p:nvPr/>
                        </p:nvSpPr>
                        <p:spPr>
                          <a:xfrm>
                            <a:off x="259056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" name=""/>
                          <p:cNvSpPr/>
                          <p:nvPr/>
                        </p:nvSpPr>
                        <p:spPr>
                          <a:xfrm>
                            <a:off x="282096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8" name=""/>
                        <p:cNvGrpSpPr/>
                        <p:nvPr/>
                      </p:nvGrpSpPr>
                      <p:grpSpPr>
                        <a:xfrm>
                          <a:off x="3049200" y="3580920"/>
                          <a:ext cx="458640" cy="0"/>
                          <a:chOff x="3049200" y="3580920"/>
                          <a:chExt cx="458640" cy="0"/>
                        </a:xfrm>
                      </p:grpSpPr>
                      <p:sp>
                        <p:nvSpPr>
                          <p:cNvPr id="209" name=""/>
                          <p:cNvSpPr/>
                          <p:nvPr/>
                        </p:nvSpPr>
                        <p:spPr>
                          <a:xfrm>
                            <a:off x="304920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0" name=""/>
                          <p:cNvSpPr/>
                          <p:nvPr/>
                        </p:nvSpPr>
                        <p:spPr>
                          <a:xfrm>
                            <a:off x="327960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1" name=""/>
                      <p:cNvGrpSpPr/>
                      <p:nvPr/>
                    </p:nvGrpSpPr>
                    <p:grpSpPr>
                      <a:xfrm>
                        <a:off x="3504600" y="3429000"/>
                        <a:ext cx="917280" cy="151920"/>
                        <a:chOff x="3504600" y="3429000"/>
                        <a:chExt cx="917280" cy="151920"/>
                      </a:xfrm>
                    </p:grpSpPr>
                    <p:grpSp>
                      <p:nvGrpSpPr>
                        <p:cNvPr id="212" name=""/>
                        <p:cNvGrpSpPr/>
                        <p:nvPr/>
                      </p:nvGrpSpPr>
                      <p:grpSpPr>
                        <a:xfrm>
                          <a:off x="3504600" y="3429000"/>
                          <a:ext cx="458640" cy="0"/>
                          <a:chOff x="3504600" y="3429000"/>
                          <a:chExt cx="458640" cy="0"/>
                        </a:xfrm>
                      </p:grpSpPr>
                      <p:sp>
                        <p:nvSpPr>
                          <p:cNvPr id="213" name=""/>
                          <p:cNvSpPr/>
                          <p:nvPr/>
                        </p:nvSpPr>
                        <p:spPr>
                          <a:xfrm>
                            <a:off x="350460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"/>
                          <p:cNvSpPr/>
                          <p:nvPr/>
                        </p:nvSpPr>
                        <p:spPr>
                          <a:xfrm>
                            <a:off x="373500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5" name=""/>
                        <p:cNvGrpSpPr/>
                        <p:nvPr/>
                      </p:nvGrpSpPr>
                      <p:grpSpPr>
                        <a:xfrm>
                          <a:off x="3963240" y="3580920"/>
                          <a:ext cx="458640" cy="0"/>
                          <a:chOff x="3963240" y="3580920"/>
                          <a:chExt cx="458640" cy="0"/>
                        </a:xfrm>
                      </p:grpSpPr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>
                            <a:off x="396324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>
                            <a:off x="419364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5333760" y="342900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047760" y="3429000"/>
                <a:ext cx="4800240" cy="151920"/>
                <a:chOff x="3047760" y="3429000"/>
                <a:chExt cx="4800240" cy="1519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3047760" y="3429000"/>
                  <a:ext cx="4574880" cy="151920"/>
                  <a:chOff x="3047760" y="3429000"/>
                  <a:chExt cx="4574880" cy="1519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705000" y="3429000"/>
                    <a:ext cx="917640" cy="151920"/>
                    <a:chOff x="6705000" y="3429000"/>
                    <a:chExt cx="917640" cy="151920"/>
                  </a:xfrm>
                </p:grpSpPr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6705000" y="3429000"/>
                      <a:ext cx="458640" cy="0"/>
                      <a:chOff x="6705000" y="3429000"/>
                      <a:chExt cx="458640" cy="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6705000" y="342900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headEnd len="sm" type="oval" w="sm"/>
                        <a:tailEnd len="sm" type="oval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6935400" y="342900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headEnd len="sm" type="oval" w="sm"/>
                        <a:tailEnd len="sm" type="oval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7164000" y="3580920"/>
                      <a:ext cx="458640" cy="0"/>
                      <a:chOff x="7164000" y="3580920"/>
                      <a:chExt cx="458640" cy="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7164000" y="358092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headEnd len="sm" type="oval" w="sm"/>
                        <a:tailEnd len="sm" type="oval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7394400" y="358092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headEnd len="sm" type="oval" w="sm"/>
                        <a:tailEnd len="sm" type="oval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3047760" y="3429000"/>
                    <a:ext cx="3659760" cy="151920"/>
                    <a:chOff x="3047760" y="3429000"/>
                    <a:chExt cx="3659760" cy="151920"/>
                  </a:xfrm>
                </p:grpSpPr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3047760" y="3429000"/>
                      <a:ext cx="1831320" cy="151920"/>
                      <a:chOff x="3047760" y="3429000"/>
                      <a:chExt cx="1831320" cy="151920"/>
                    </a:xfrm>
                  </p:grpSpPr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3047760" y="3429000"/>
                        <a:ext cx="917280" cy="151920"/>
                        <a:chOff x="3047760" y="3429000"/>
                        <a:chExt cx="917280" cy="151920"/>
                      </a:xfrm>
                    </p:grpSpPr>
                    <p:grpSp>
                      <p:nvGrpSpPr>
                        <p:cNvPr id="231" name=""/>
                        <p:cNvGrpSpPr/>
                        <p:nvPr/>
                      </p:nvGrpSpPr>
                      <p:grpSpPr>
                        <a:xfrm>
                          <a:off x="3047760" y="3429000"/>
                          <a:ext cx="458640" cy="0"/>
                          <a:chOff x="3047760" y="3429000"/>
                          <a:chExt cx="458640" cy="0"/>
                        </a:xfrm>
                      </p:grpSpPr>
                      <p:sp>
                        <p:nvSpPr>
                          <p:cNvPr id="232" name=""/>
                          <p:cNvSpPr/>
                          <p:nvPr/>
                        </p:nvSpPr>
                        <p:spPr>
                          <a:xfrm>
                            <a:off x="304776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3" name=""/>
                          <p:cNvSpPr/>
                          <p:nvPr/>
                        </p:nvSpPr>
                        <p:spPr>
                          <a:xfrm>
                            <a:off x="327816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4" name=""/>
                        <p:cNvGrpSpPr/>
                        <p:nvPr/>
                      </p:nvGrpSpPr>
                      <p:grpSpPr>
                        <a:xfrm>
                          <a:off x="3506400" y="3580920"/>
                          <a:ext cx="458640" cy="0"/>
                          <a:chOff x="3506400" y="3580920"/>
                          <a:chExt cx="458640" cy="0"/>
                        </a:xfrm>
                      </p:grpSpPr>
                      <p:sp>
                        <p:nvSpPr>
                          <p:cNvPr id="235" name=""/>
                          <p:cNvSpPr/>
                          <p:nvPr/>
                        </p:nvSpPr>
                        <p:spPr>
                          <a:xfrm>
                            <a:off x="350640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6" name=""/>
                          <p:cNvSpPr/>
                          <p:nvPr/>
                        </p:nvSpPr>
                        <p:spPr>
                          <a:xfrm>
                            <a:off x="373680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3961800" y="3429000"/>
                        <a:ext cx="917280" cy="151920"/>
                        <a:chOff x="3961800" y="3429000"/>
                        <a:chExt cx="917280" cy="151920"/>
                      </a:xfrm>
                    </p:grpSpPr>
                    <p:grpSp>
                      <p:nvGrpSpPr>
                        <p:cNvPr id="238" name=""/>
                        <p:cNvGrpSpPr/>
                        <p:nvPr/>
                      </p:nvGrpSpPr>
                      <p:grpSpPr>
                        <a:xfrm>
                          <a:off x="3961800" y="3429000"/>
                          <a:ext cx="458640" cy="0"/>
                          <a:chOff x="3961800" y="3429000"/>
                          <a:chExt cx="458640" cy="0"/>
                        </a:xfrm>
                      </p:grpSpPr>
                      <p:sp>
                        <p:nvSpPr>
                          <p:cNvPr id="239" name=""/>
                          <p:cNvSpPr/>
                          <p:nvPr/>
                        </p:nvSpPr>
                        <p:spPr>
                          <a:xfrm>
                            <a:off x="396180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0" name=""/>
                          <p:cNvSpPr/>
                          <p:nvPr/>
                        </p:nvSpPr>
                        <p:spPr>
                          <a:xfrm>
                            <a:off x="419220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4420440" y="3580920"/>
                          <a:ext cx="458640" cy="0"/>
                          <a:chOff x="4420440" y="3580920"/>
                          <a:chExt cx="458640" cy="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442044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465084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4876200" y="3429000"/>
                      <a:ext cx="1831320" cy="151920"/>
                      <a:chOff x="4876200" y="3429000"/>
                      <a:chExt cx="1831320" cy="151920"/>
                    </a:xfrm>
                  </p:grpSpPr>
                  <p:grpSp>
                    <p:nvGrpSpPr>
                      <p:cNvPr id="245" name=""/>
                      <p:cNvGrpSpPr/>
                      <p:nvPr/>
                    </p:nvGrpSpPr>
                    <p:grpSpPr>
                      <a:xfrm>
                        <a:off x="4876200" y="3429000"/>
                        <a:ext cx="917280" cy="151920"/>
                        <a:chOff x="4876200" y="3429000"/>
                        <a:chExt cx="917280" cy="151920"/>
                      </a:xfrm>
                    </p:grpSpPr>
                    <p:grpSp>
                      <p:nvGrpSpPr>
                        <p:cNvPr id="246" name=""/>
                        <p:cNvGrpSpPr/>
                        <p:nvPr/>
                      </p:nvGrpSpPr>
                      <p:grpSpPr>
                        <a:xfrm>
                          <a:off x="4876200" y="3429000"/>
                          <a:ext cx="458640" cy="0"/>
                          <a:chOff x="4876200" y="3429000"/>
                          <a:chExt cx="458640" cy="0"/>
                        </a:xfrm>
                      </p:grpSpPr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487620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510660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9" name=""/>
                        <p:cNvGrpSpPr/>
                        <p:nvPr/>
                      </p:nvGrpSpPr>
                      <p:grpSpPr>
                        <a:xfrm>
                          <a:off x="5334840" y="3580920"/>
                          <a:ext cx="458640" cy="0"/>
                          <a:chOff x="5334840" y="3580920"/>
                          <a:chExt cx="458640" cy="0"/>
                        </a:xfrm>
                      </p:grpSpPr>
                      <p:sp>
                        <p:nvSpPr>
                          <p:cNvPr id="250" name=""/>
                          <p:cNvSpPr/>
                          <p:nvPr/>
                        </p:nvSpPr>
                        <p:spPr>
                          <a:xfrm>
                            <a:off x="533484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556524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5790240" y="3429000"/>
                        <a:ext cx="917280" cy="151920"/>
                        <a:chOff x="5790240" y="3429000"/>
                        <a:chExt cx="917280" cy="151920"/>
                      </a:xfrm>
                    </p:grpSpPr>
                    <p:grpSp>
                      <p:nvGrpSpPr>
                        <p:cNvPr id="253" name=""/>
                        <p:cNvGrpSpPr/>
                        <p:nvPr/>
                      </p:nvGrpSpPr>
                      <p:grpSpPr>
                        <a:xfrm>
                          <a:off x="5790240" y="3429000"/>
                          <a:ext cx="458640" cy="0"/>
                          <a:chOff x="5790240" y="3429000"/>
                          <a:chExt cx="458640" cy="0"/>
                        </a:xfrm>
                      </p:grpSpPr>
                      <p:sp>
                        <p:nvSpPr>
                          <p:cNvPr id="254" name=""/>
                          <p:cNvSpPr/>
                          <p:nvPr/>
                        </p:nvSpPr>
                        <p:spPr>
                          <a:xfrm>
                            <a:off x="579024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" name=""/>
                          <p:cNvSpPr/>
                          <p:nvPr/>
                        </p:nvSpPr>
                        <p:spPr>
                          <a:xfrm>
                            <a:off x="6020640" y="342900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6" name=""/>
                        <p:cNvGrpSpPr/>
                        <p:nvPr/>
                      </p:nvGrpSpPr>
                      <p:grpSpPr>
                        <a:xfrm>
                          <a:off x="6248880" y="3580920"/>
                          <a:ext cx="458640" cy="0"/>
                          <a:chOff x="6248880" y="3580920"/>
                          <a:chExt cx="458640" cy="0"/>
                        </a:xfrm>
                      </p:grpSpPr>
                      <p:sp>
                        <p:nvSpPr>
                          <p:cNvPr id="257" name=""/>
                          <p:cNvSpPr/>
                          <p:nvPr/>
                        </p:nvSpPr>
                        <p:spPr>
                          <a:xfrm>
                            <a:off x="624888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"/>
                          <p:cNvSpPr/>
                          <p:nvPr/>
                        </p:nvSpPr>
                        <p:spPr>
                          <a:xfrm>
                            <a:off x="6479280" y="3580920"/>
                            <a:ext cx="2282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  <a:headEnd len="sm" type="oval" w="sm"/>
                            <a:tailEnd len="sm" type="oval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259" name=""/>
                <p:cNvSpPr/>
                <p:nvPr/>
              </p:nvSpPr>
              <p:spPr>
                <a:xfrm>
                  <a:off x="7619400" y="342900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773424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953280" y="3199320"/>
            <a:ext cx="638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-13    -12   -11    -10   -9    -8     -7    -6     -5     -4     -3    -2    -1     0      1       2      3      4     5      6       7      8      9     10    11    12   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35720" y="3415680"/>
            <a:ext cx="62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А     Р   О   З    А         У          П   А   Л    А         Н         А    Л   А    П         У         А    З    О    Р  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2-02-20T20:15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