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3B64E-920E-424C-86AD-69D0AF84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C4F2-4BF7-48D5-80EE-F2EA7B3A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596ED-37A0-41D4-B39A-386C93478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04A86-E493-46DB-8B7D-FD9C82085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12D8-503E-4AC4-BE40-025D9DDDF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B0640-2F2A-4DA4-A53E-BC739B6BA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7E37-A083-4938-B623-E887A102C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76E3-DFAC-4D43-B182-0ED5BCFC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A3F53-07F5-4B8B-B72B-0C627657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E1A2-65E3-4CB0-A3EA-D207DCE7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A371-D9E8-47A3-8375-4AC09A52C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19EC-1C8F-49F7-986C-1A73678AD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ADD9-3D9F-4DE5-9FF8-95E0D1324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13.jpeg"/><Relationship Id="rId4" Type="http://schemas.openxmlformats.org/officeDocument/2006/relationships/slide" Target="slide20.xm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xml"/><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image" Target="../media/image3.png"/><Relationship Id="rId7" Type="http://schemas.openxmlformats.org/officeDocument/2006/relationships/slide" Target="slide8.xml"/><Relationship Id="rId8" Type="http://schemas.openxmlformats.org/officeDocument/2006/relationships/image" Target="../media/image3.png"/><Relationship Id="rId9" Type="http://schemas.openxmlformats.org/officeDocument/2006/relationships/slide" Target="slide9.xml"/><Relationship Id="rId10" Type="http://schemas.openxmlformats.org/officeDocument/2006/relationships/image" Target="../media/image3.png"/><Relationship Id="rId11" Type="http://schemas.openxmlformats.org/officeDocument/2006/relationships/slide" Target="slide10.xml"/><Relationship Id="rId12" Type="http://schemas.openxmlformats.org/officeDocument/2006/relationships/image" Target="../media/image3.png"/><Relationship Id="rId13" Type="http://schemas.openxmlformats.org/officeDocument/2006/relationships/slide" Target="slide13.xml"/><Relationship Id="rId14" Type="http://schemas.openxmlformats.org/officeDocument/2006/relationships/image" Target="../media/image3.png"/><Relationship Id="rId15" Type="http://schemas.openxmlformats.org/officeDocument/2006/relationships/slide" Target="slide14.xml"/><Relationship Id="rId16" Type="http://schemas.openxmlformats.org/officeDocument/2006/relationships/slide" Target="slide2.xml"/><Relationship Id="rId17" Type="http://schemas.openxmlformats.org/officeDocument/2006/relationships/image" Target="../media/image4.jpeg"/><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 Target="slide5.xml"/><Relationship Id="rId6" Type="http://schemas.openxmlformats.org/officeDocument/2006/relationships/image" Target="../media/image3.png"/><Relationship Id="rId7" Type="http://schemas.openxmlformats.org/officeDocument/2006/relationships/slide" Target="slide6.xml"/><Relationship Id="rId8" Type="http://schemas.openxmlformats.org/officeDocument/2006/relationships/image" Target="../media/image3.png"/><Relationship Id="rId9" Type="http://schemas.openxmlformats.org/officeDocument/2006/relationships/slide" Target="slide7.xml"/><Relationship Id="rId10" Type="http://schemas.openxmlformats.org/officeDocument/2006/relationships/slide" Target="slide2.xml"/><Relationship Id="rId11" Type="http://schemas.openxmlformats.org/officeDocument/2006/relationships/slide" Target="slide16.xml"/><Relationship Id="rId12" Type="http://schemas.openxmlformats.org/officeDocument/2006/relationships/image" Target="../media/image5.jpe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7.xml"/><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6138720"/>
            <a:ext cx="6400800" cy="719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Ямщикова Лариса Станиславовна</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3733920" y="228600"/>
            <a:ext cx="170496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Одежда</a:t>
            </a:r>
            <a:endParaRPr b="0" lang="en-US" sz="2400" spc="1" strike="noStrike">
              <a:ln w="9360">
                <a:solidFill>
                  <a:srgbClr val="000000"/>
                </a:solidFill>
                <a:miter/>
              </a:ln>
              <a:solidFill>
                <a:srgbClr val="000000"/>
              </a:solidFill>
              <a:latin typeface="Arial"/>
              <a:ea typeface="Arial"/>
            </a:endParaRPr>
          </a:p>
        </p:txBody>
      </p:sp>
      <p:sp>
        <p:nvSpPr>
          <p:cNvPr id="92" name=""/>
          <p:cNvSpPr/>
          <p:nvPr/>
        </p:nvSpPr>
        <p:spPr>
          <a:xfrm>
            <a:off x="3352680" y="2133720"/>
            <a:ext cx="2210040" cy="838080"/>
          </a:xfrm>
          <a:custGeom>
            <a:avLst/>
            <a:gdLst>
              <a:gd name="textAreaLeft" fmla="*/ 552600 w 2210040"/>
              <a:gd name="textAreaRight" fmla="*/ 1657800 w 2210040"/>
              <a:gd name="textAreaTop" fmla="*/ 0 h 838080"/>
              <a:gd name="textAreaBottom" fmla="*/ 838440 h 8380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Костюмы</a:t>
            </a:r>
            <a:endParaRPr b="0" lang="en-US" sz="2400" spc="-1" strike="noStrike">
              <a:solidFill>
                <a:srgbClr val="000000"/>
              </a:solidFill>
              <a:latin typeface="Times New Roman"/>
            </a:endParaRPr>
          </a:p>
        </p:txBody>
      </p:sp>
      <p:sp>
        <p:nvSpPr>
          <p:cNvPr id="93" name="">
            <a:hlinkClick r:id="rId2" action="ppaction://hlinksldjump"/>
          </p:cNvPr>
          <p:cNvSpPr/>
          <p:nvPr/>
        </p:nvSpPr>
        <p:spPr>
          <a:xfrm>
            <a:off x="5564520" y="2133720"/>
            <a:ext cx="149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Женские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стюмы</a:t>
            </a:r>
            <a:endParaRPr b="0" lang="en-US" sz="2400" spc="-1" strike="noStrike">
              <a:solidFill>
                <a:srgbClr val="000000"/>
              </a:solidFill>
              <a:latin typeface="Times New Roman"/>
            </a:endParaRPr>
          </a:p>
        </p:txBody>
      </p:sp>
      <p:sp>
        <p:nvSpPr>
          <p:cNvPr id="94" name="">
            <a:hlinkClick r:id="rId3" action="ppaction://hlinksldjump"/>
          </p:cNvPr>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Мужские костюмы</a:t>
            </a:r>
            <a:endParaRPr b="0" lang="en-US" sz="2400" spc="-1" strike="noStrike">
              <a:solidFill>
                <a:srgbClr val="000000"/>
              </a:solidFill>
              <a:latin typeface="Times New Roman"/>
            </a:endParaRPr>
          </a:p>
        </p:txBody>
      </p:sp>
      <p:sp>
        <p:nvSpPr>
          <p:cNvPr id="95" name=""/>
          <p:cNvSpPr/>
          <p:nvPr/>
        </p:nvSpPr>
        <p:spPr>
          <a:xfrm>
            <a:off x="365040" y="57456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аринная русская одежда представляется, на первый взгляд, сложной и разнообразной. Но, присмотревшись к её частям, легко узнать во множестве наименований сходство.</a:t>
            </a:r>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4"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12" descr=""/>
          <p:cNvPicPr/>
          <p:nvPr/>
        </p:nvPicPr>
        <p:blipFill>
          <a:blip r:embed="rId5"/>
          <a:stretch/>
        </p:blipFill>
        <p:spPr>
          <a:xfrm>
            <a:off x="533520" y="3276720"/>
            <a:ext cx="2743200" cy="2600280"/>
          </a:xfrm>
          <a:prstGeom prst="rect">
            <a:avLst/>
          </a:prstGeom>
          <a:ln w="0">
            <a:noFill/>
          </a:ln>
        </p:spPr>
      </p:pic>
      <p:pic>
        <p:nvPicPr>
          <p:cNvPr id="100" name="11" descr=""/>
          <p:cNvPicPr/>
          <p:nvPr/>
        </p:nvPicPr>
        <p:blipFill>
          <a:blip r:embed="rId6"/>
          <a:stretch/>
        </p:blipFill>
        <p:spPr>
          <a:xfrm>
            <a:off x="4648320" y="3276720"/>
            <a:ext cx="2743200" cy="26208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2819520" y="228600"/>
            <a:ext cx="358128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Мужской Костюм</a:t>
            </a:r>
            <a:endParaRPr b="0" lang="en-US" sz="2400" spc="1" strike="noStrike">
              <a:ln w="9360">
                <a:solidFill>
                  <a:srgbClr val="000000"/>
                </a:solidFill>
                <a:miter/>
              </a:ln>
              <a:solidFill>
                <a:srgbClr val="000000"/>
              </a:solidFill>
              <a:latin typeface="Arial"/>
              <a:ea typeface="Arial"/>
            </a:endParaRPr>
          </a:p>
        </p:txBody>
      </p:sp>
      <p:sp>
        <p:nvSpPr>
          <p:cNvPr id="102" name=""/>
          <p:cNvSpPr/>
          <p:nvPr/>
        </p:nvSpPr>
        <p:spPr>
          <a:xfrm>
            <a:off x="289080" y="727200"/>
            <a:ext cx="8626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ижнее бельё называлось портами и шилось из полотна. Рубашки назывались сорочками (срачицами), шились из холста длинного до коле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увью простого народа были лапти из древесной кор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а рубаху и штаны надевалась разного рода верхняя одежда – зипуны. Русская шапка была 4 видов: колпак, тафьяны, четырёхугольная низкая шапка с меховым околышком и горлатные шапки.</a:t>
            </a:r>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09" descr=""/>
          <p:cNvPicPr/>
          <p:nvPr/>
        </p:nvPicPr>
        <p:blipFill>
          <a:blip r:embed="rId2"/>
          <a:stretch/>
        </p:blipFill>
        <p:spPr>
          <a:xfrm>
            <a:off x="6019920" y="3429000"/>
            <a:ext cx="2746080" cy="2746440"/>
          </a:xfrm>
          <a:prstGeom prst="rect">
            <a:avLst/>
          </a:prstGeom>
          <a:ln w="0">
            <a:noFill/>
          </a:ln>
        </p:spPr>
      </p:pic>
      <p:pic>
        <p:nvPicPr>
          <p:cNvPr id="107" name="10" descr=""/>
          <p:cNvPicPr/>
          <p:nvPr/>
        </p:nvPicPr>
        <p:blipFill>
          <a:blip r:embed="rId3"/>
          <a:stretch/>
        </p:blipFill>
        <p:spPr>
          <a:xfrm>
            <a:off x="3276720" y="3581280"/>
            <a:ext cx="2133360" cy="243864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590920" y="304920"/>
            <a:ext cx="361944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Женский Костюм</a:t>
            </a:r>
            <a:endParaRPr b="0" lang="en-US" sz="2400" spc="1" strike="noStrike">
              <a:ln w="9360">
                <a:solidFill>
                  <a:srgbClr val="000000"/>
                </a:solidFill>
                <a:miter/>
              </a:ln>
              <a:solidFill>
                <a:srgbClr val="000000"/>
              </a:solidFill>
              <a:latin typeface="Arial"/>
              <a:ea typeface="Arial"/>
            </a:endParaRPr>
          </a:p>
        </p:txBody>
      </p:sp>
      <p:sp>
        <p:nvSpPr>
          <p:cNvPr id="109" name=""/>
          <p:cNvSpPr/>
          <p:nvPr/>
        </p:nvSpPr>
        <p:spPr>
          <a:xfrm>
            <a:off x="326880" y="906480"/>
            <a:ext cx="8588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Женская рубаха была длинная, белого или красного цвета. Сверх надевался летник.В роли верхней одежды выступала телогрея.Кичка – шапка с возвышенной плоскостью на лбу. Чело при этом было всячески разукрашено.Женщины</a:t>
            </a:r>
            <a:r>
              <a:rPr b="0" lang="en-US" sz="2400" spc="-1" strike="noStrike">
                <a:solidFill>
                  <a:srgbClr val="000000"/>
                </a:solidFill>
                <a:latin typeface="Times New Roman"/>
              </a:rPr>
              <a:t> для </a:t>
            </a:r>
            <a:r>
              <a:rPr b="1" lang="en-US" sz="2400" spc="-1" strike="noStrike">
                <a:solidFill>
                  <a:srgbClr val="000000"/>
                </a:solidFill>
                <a:latin typeface="Times New Roman"/>
              </a:rPr>
              <a:t>украшения носили серьги и браслет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07" descr="">
            <a:hlinkClick r:id="rId2" action="ppaction://hlinksldjump"/>
          </p:cNvPr>
          <p:cNvPicPr/>
          <p:nvPr/>
        </p:nvPicPr>
        <p:blipFill>
          <a:blip r:embed="rId3"/>
          <a:stretch/>
        </p:blipFill>
        <p:spPr>
          <a:xfrm>
            <a:off x="838080" y="2971800"/>
            <a:ext cx="2286000" cy="3276720"/>
          </a:xfrm>
          <a:prstGeom prst="rect">
            <a:avLst/>
          </a:prstGeom>
          <a:ln w="0">
            <a:noFill/>
          </a:ln>
        </p:spPr>
      </p:pic>
      <p:pic>
        <p:nvPicPr>
          <p:cNvPr id="114" name="08" descr=""/>
          <p:cNvPicPr/>
          <p:nvPr/>
        </p:nvPicPr>
        <p:blipFill>
          <a:blip r:embed="rId4"/>
          <a:stretch/>
        </p:blipFill>
        <p:spPr>
          <a:xfrm>
            <a:off x="5105520" y="2971800"/>
            <a:ext cx="2514600" cy="327672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12760" y="8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 name=""/>
          <p:cNvSpPr txBox="1"/>
          <p:nvPr/>
        </p:nvSpPr>
        <p:spPr>
          <a:xfrm>
            <a:off x="3124080" y="304920"/>
            <a:ext cx="2838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Зимние Игры</a:t>
            </a:r>
            <a:endParaRPr b="0" lang="en-US" sz="2400" spc="1" strike="noStrike">
              <a:ln w="9360">
                <a:solidFill>
                  <a:srgbClr val="000000"/>
                </a:solidFill>
                <a:miter/>
              </a:ln>
              <a:solidFill>
                <a:srgbClr val="000000"/>
              </a:solidFill>
              <a:latin typeface="Arial"/>
              <a:ea typeface="Arial"/>
            </a:endParaRPr>
          </a:p>
        </p:txBody>
      </p:sp>
      <p:sp>
        <p:nvSpPr>
          <p:cNvPr id="117" name=""/>
          <p:cNvSpPr/>
          <p:nvPr/>
        </p:nvSpPr>
        <p:spPr>
          <a:xfrm>
            <a:off x="289080" y="803160"/>
            <a:ext cx="855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Снежки.</a:t>
            </a:r>
            <a:r>
              <a:rPr b="1" lang="en-US" sz="2400" spc="-1" strike="noStrike">
                <a:solidFill>
                  <a:srgbClr val="000000"/>
                </a:solidFill>
                <a:latin typeface="Times New Roman"/>
              </a:rPr>
              <a:t> Как только выпадает первый снег или среди глубокой зимы, то дети тотчас же делают из снега комочки и начинают играть ими, как мячо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Крепость. </a:t>
            </a:r>
            <a:r>
              <a:rPr b="1" lang="en-US" sz="2400" spc="-1" strike="noStrike">
                <a:solidFill>
                  <a:srgbClr val="000000"/>
                </a:solidFill>
                <a:latin typeface="Times New Roman"/>
              </a:rPr>
              <a:t>Когда скопиться порядочная груда снега, дети в этой груде тотчас же устраивают игру в крепость. После всех приготовлений противники начинают разбивать крепости друг друг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Катание с гор. </a:t>
            </a:r>
            <a:r>
              <a:rPr b="1" lang="en-US" sz="2400" spc="-1" strike="noStrike">
                <a:solidFill>
                  <a:srgbClr val="000000"/>
                </a:solidFill>
                <a:latin typeface="Times New Roman"/>
              </a:rPr>
              <a:t>Этот вид игры до сих пор остаётся очень популярным. Дети проводят большое количество времени за этим увлечением.</a:t>
            </a: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1981080" y="380880"/>
            <a:ext cx="522000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Народные Заблуждения</a:t>
            </a:r>
            <a:endParaRPr b="0" lang="en-US" sz="2400" spc="1" strike="noStrike">
              <a:ln w="9360">
                <a:solidFill>
                  <a:srgbClr val="000000"/>
                </a:solidFill>
                <a:miter/>
              </a:ln>
              <a:solidFill>
                <a:srgbClr val="000000"/>
              </a:solidFill>
              <a:latin typeface="Arial"/>
              <a:ea typeface="Arial"/>
            </a:endParaRPr>
          </a:p>
        </p:txBody>
      </p:sp>
      <p:sp>
        <p:nvSpPr>
          <p:cNvPr id="122" name=""/>
          <p:cNvSpPr/>
          <p:nvPr/>
        </p:nvSpPr>
        <p:spPr>
          <a:xfrm>
            <a:off x="365040" y="879480"/>
            <a:ext cx="8474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о все времена и у всех народов человеческий ум имел стремление ко всему чудесному, таинственному: ведьмы, домовые, водяные, леший, кикиморы, оборотни, Баба-Яга, Кощей Бессмертный. </a:t>
            </a:r>
            <a:endParaRPr b="0" lang="en-US" sz="2400" spc="-1" strike="noStrike">
              <a:solidFill>
                <a:srgbClr val="000000"/>
              </a:solidFill>
              <a:latin typeface="Times New Roman"/>
            </a:endParaRPr>
          </a:p>
        </p:txBody>
      </p:sp>
      <p:pic>
        <p:nvPicPr>
          <p:cNvPr id="123" name="04" descr="">
            <a:hlinkClick r:id="rId2" action="ppaction://hlinksldjump"/>
          </p:cNvPr>
          <p:cNvPicPr/>
          <p:nvPr/>
        </p:nvPicPr>
        <p:blipFill>
          <a:blip r:embed="rId3"/>
          <a:stretch/>
        </p:blipFill>
        <p:spPr>
          <a:xfrm>
            <a:off x="838080" y="2971800"/>
            <a:ext cx="2133720" cy="3200400"/>
          </a:xfrm>
          <a:prstGeom prst="rect">
            <a:avLst/>
          </a:prstGeom>
          <a:ln w="0">
            <a:noFill/>
          </a:ln>
        </p:spPr>
      </p:pic>
      <p:pic>
        <p:nvPicPr>
          <p:cNvPr id="124" name="05" descr="">
            <a:hlinkClick r:id="rId4" action="ppaction://hlinksldjump"/>
          </p:cNvPr>
          <p:cNvPicPr/>
          <p:nvPr/>
        </p:nvPicPr>
        <p:blipFill>
          <a:blip r:embed="rId5"/>
          <a:stretch/>
        </p:blipFill>
        <p:spPr>
          <a:xfrm>
            <a:off x="3581280" y="2971800"/>
            <a:ext cx="2133720" cy="3124080"/>
          </a:xfrm>
          <a:prstGeom prst="rect">
            <a:avLst/>
          </a:prstGeom>
          <a:ln w="0">
            <a:noFill/>
          </a:ln>
        </p:spPr>
      </p:pic>
      <p:pic>
        <p:nvPicPr>
          <p:cNvPr id="125" name="06" descr=""/>
          <p:cNvPicPr/>
          <p:nvPr/>
        </p:nvPicPr>
        <p:blipFill>
          <a:blip r:embed="rId6"/>
          <a:stretch/>
        </p:blipFill>
        <p:spPr>
          <a:xfrm>
            <a:off x="6324480" y="2971800"/>
            <a:ext cx="2210040" cy="3048120"/>
          </a:xfrm>
          <a:prstGeom prst="rect">
            <a:avLst/>
          </a:prstGeom>
          <a:ln w="0">
            <a:noFill/>
          </a:ln>
        </p:spPr>
      </p:pic>
      <p:sp>
        <p:nvSpPr>
          <p:cNvPr id="126"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7"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 action="ppaction://hlinksldjump"/>
          </p:cNvPr>
          <p:cNvSpPr/>
          <p:nvPr/>
        </p:nvSpPr>
        <p:spPr>
          <a:xfrm>
            <a:off x="152280" y="579132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8315" y="3837"/>
                </a:moveTo>
                <a:lnTo>
                  <a:pt x="70891" y="6448"/>
                </a:lnTo>
                <a:lnTo>
                  <a:pt x="70891" y="4707"/>
                </a:lnTo>
                <a:lnTo>
                  <a:pt x="72667" y="4707"/>
                </a:lnTo>
                <a:lnTo>
                  <a:pt x="72667" y="8224"/>
                </a:lnTo>
                <a:lnTo>
                  <a:pt x="75278" y="10800"/>
                </a:lnTo>
                <a:lnTo>
                  <a:pt x="73624" y="10800"/>
                </a:lnTo>
                <a:lnTo>
                  <a:pt x="73624" y="17989"/>
                </a:lnTo>
                <a:lnTo>
                  <a:pt x="63006" y="17989"/>
                </a:lnTo>
                <a:lnTo>
                  <a:pt x="63006" y="10800"/>
                </a:lnTo>
                <a:lnTo>
                  <a:pt x="61352" y="10800"/>
                </a:lnTo>
                <a:close/>
              </a:path>
              <a:path fill="darkenLess" w="136630" h="21600">
                <a:moveTo>
                  <a:pt x="70891" y="6448"/>
                </a:moveTo>
                <a:lnTo>
                  <a:pt x="70891" y="4707"/>
                </a:lnTo>
                <a:lnTo>
                  <a:pt x="72667" y="4707"/>
                </a:lnTo>
                <a:lnTo>
                  <a:pt x="72667" y="8224"/>
                </a:lnTo>
                <a:close/>
              </a:path>
              <a:path fill="darkenLess" w="136630" h="21600">
                <a:moveTo>
                  <a:pt x="67393" y="14299"/>
                </a:moveTo>
                <a:lnTo>
                  <a:pt x="69238" y="14299"/>
                </a:lnTo>
                <a:lnTo>
                  <a:pt x="69238" y="17989"/>
                </a:lnTo>
                <a:lnTo>
                  <a:pt x="73624" y="17989"/>
                </a:lnTo>
                <a:lnTo>
                  <a:pt x="73624" y="10800"/>
                </a:lnTo>
                <a:lnTo>
                  <a:pt x="63006" y="10800"/>
                </a:lnTo>
                <a:lnTo>
                  <a:pt x="63006" y="17989"/>
                </a:lnTo>
                <a:lnTo>
                  <a:pt x="67393"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16" descr=""/>
          <p:cNvPicPr/>
          <p:nvPr/>
        </p:nvPicPr>
        <p:blipFill>
          <a:blip r:embed="rId3"/>
          <a:stretch/>
        </p:blipFill>
        <p:spPr>
          <a:xfrm>
            <a:off x="0" y="3809880"/>
            <a:ext cx="1930320" cy="1898640"/>
          </a:xfrm>
          <a:prstGeom prst="rect">
            <a:avLst/>
          </a:prstGeom>
          <a:ln w="0">
            <a:noFill/>
          </a:ln>
        </p:spPr>
      </p:pic>
      <p:pic>
        <p:nvPicPr>
          <p:cNvPr id="133" name="17" descr=""/>
          <p:cNvPicPr/>
          <p:nvPr/>
        </p:nvPicPr>
        <p:blipFill>
          <a:blip r:embed="rId4"/>
          <a:stretch/>
        </p:blipFill>
        <p:spPr>
          <a:xfrm>
            <a:off x="7238880" y="0"/>
            <a:ext cx="1905120" cy="1752480"/>
          </a:xfrm>
          <a:prstGeom prst="rect">
            <a:avLst/>
          </a:prstGeom>
          <a:ln w="0">
            <a:noFill/>
          </a:ln>
        </p:spPr>
      </p:pic>
      <p:pic>
        <p:nvPicPr>
          <p:cNvPr id="134" name="18" descr=""/>
          <p:cNvPicPr/>
          <p:nvPr/>
        </p:nvPicPr>
        <p:blipFill>
          <a:blip r:embed="rId5"/>
          <a:stretch/>
        </p:blipFill>
        <p:spPr>
          <a:xfrm>
            <a:off x="0" y="1752480"/>
            <a:ext cx="1920960" cy="18496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01" descr=""/>
          <p:cNvPicPr/>
          <p:nvPr/>
        </p:nvPicPr>
        <p:blipFill>
          <a:blip r:embed="rId2"/>
          <a:stretch/>
        </p:blipFill>
        <p:spPr>
          <a:xfrm>
            <a:off x="0" y="0"/>
            <a:ext cx="9144000" cy="6858000"/>
          </a:xfrm>
          <a:prstGeom prst="rect">
            <a:avLst/>
          </a:prstGeom>
          <a:ln w="0">
            <a:noFill/>
          </a:ln>
        </p:spPr>
      </p:pic>
      <p:sp>
        <p:nvSpPr>
          <p:cNvPr id="136" name=""/>
          <p:cNvSpPr/>
          <p:nvPr/>
        </p:nvSpPr>
        <p:spPr>
          <a:xfrm>
            <a:off x="152280" y="579132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8315" y="3837"/>
                </a:moveTo>
                <a:lnTo>
                  <a:pt x="70891" y="6448"/>
                </a:lnTo>
                <a:lnTo>
                  <a:pt x="70891" y="4707"/>
                </a:lnTo>
                <a:lnTo>
                  <a:pt x="72667" y="4707"/>
                </a:lnTo>
                <a:lnTo>
                  <a:pt x="72667" y="8224"/>
                </a:lnTo>
                <a:lnTo>
                  <a:pt x="75278" y="10800"/>
                </a:lnTo>
                <a:lnTo>
                  <a:pt x="73624" y="10800"/>
                </a:lnTo>
                <a:lnTo>
                  <a:pt x="73624" y="17989"/>
                </a:lnTo>
                <a:lnTo>
                  <a:pt x="63006" y="17989"/>
                </a:lnTo>
                <a:lnTo>
                  <a:pt x="63006" y="10800"/>
                </a:lnTo>
                <a:lnTo>
                  <a:pt x="61352" y="10800"/>
                </a:lnTo>
                <a:close/>
              </a:path>
              <a:path fill="darkenLess" w="136630" h="21600">
                <a:moveTo>
                  <a:pt x="70891" y="6448"/>
                </a:moveTo>
                <a:lnTo>
                  <a:pt x="70891" y="4707"/>
                </a:lnTo>
                <a:lnTo>
                  <a:pt x="72667" y="4707"/>
                </a:lnTo>
                <a:lnTo>
                  <a:pt x="72667" y="8224"/>
                </a:lnTo>
                <a:close/>
              </a:path>
              <a:path fill="darkenLess" w="136630" h="21600">
                <a:moveTo>
                  <a:pt x="67393" y="14299"/>
                </a:moveTo>
                <a:lnTo>
                  <a:pt x="69238" y="14299"/>
                </a:lnTo>
                <a:lnTo>
                  <a:pt x="69238" y="17989"/>
                </a:lnTo>
                <a:lnTo>
                  <a:pt x="73624" y="17989"/>
                </a:lnTo>
                <a:lnTo>
                  <a:pt x="73624" y="10800"/>
                </a:lnTo>
                <a:lnTo>
                  <a:pt x="63006" y="10800"/>
                </a:lnTo>
                <a:lnTo>
                  <a:pt x="63006" y="17989"/>
                </a:lnTo>
                <a:lnTo>
                  <a:pt x="67393"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14" descr=""/>
          <p:cNvPicPr/>
          <p:nvPr/>
        </p:nvPicPr>
        <p:blipFill>
          <a:blip r:embed="rId2"/>
          <a:stretch/>
        </p:blipFill>
        <p:spPr>
          <a:xfrm>
            <a:off x="0" y="0"/>
            <a:ext cx="9144000" cy="6858000"/>
          </a:xfrm>
          <a:prstGeom prst="rect">
            <a:avLst/>
          </a:prstGeom>
          <a:ln w="0">
            <a:noFill/>
          </a:ln>
        </p:spPr>
      </p:pic>
      <p:sp>
        <p:nvSpPr>
          <p:cNvPr id="138" name=""/>
          <p:cNvSpPr/>
          <p:nvPr/>
        </p:nvSpPr>
        <p:spPr>
          <a:xfrm>
            <a:off x="228600" y="624852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8315" y="3837"/>
                </a:moveTo>
                <a:lnTo>
                  <a:pt x="70891" y="6448"/>
                </a:lnTo>
                <a:lnTo>
                  <a:pt x="70891" y="4707"/>
                </a:lnTo>
                <a:lnTo>
                  <a:pt x="72667" y="4707"/>
                </a:lnTo>
                <a:lnTo>
                  <a:pt x="72667" y="8224"/>
                </a:lnTo>
                <a:lnTo>
                  <a:pt x="75278" y="10800"/>
                </a:lnTo>
                <a:lnTo>
                  <a:pt x="73624" y="10800"/>
                </a:lnTo>
                <a:lnTo>
                  <a:pt x="73624" y="17989"/>
                </a:lnTo>
                <a:lnTo>
                  <a:pt x="63006" y="17989"/>
                </a:lnTo>
                <a:lnTo>
                  <a:pt x="63006" y="10800"/>
                </a:lnTo>
                <a:lnTo>
                  <a:pt x="61352" y="10800"/>
                </a:lnTo>
                <a:close/>
              </a:path>
              <a:path fill="darkenLess" w="136630" h="21600">
                <a:moveTo>
                  <a:pt x="70891" y="6448"/>
                </a:moveTo>
                <a:lnTo>
                  <a:pt x="70891" y="4707"/>
                </a:lnTo>
                <a:lnTo>
                  <a:pt x="72667" y="4707"/>
                </a:lnTo>
                <a:lnTo>
                  <a:pt x="72667" y="8224"/>
                </a:lnTo>
                <a:close/>
              </a:path>
              <a:path fill="darkenLess" w="136630" h="21600">
                <a:moveTo>
                  <a:pt x="67393" y="14299"/>
                </a:moveTo>
                <a:lnTo>
                  <a:pt x="69238" y="14299"/>
                </a:lnTo>
                <a:lnTo>
                  <a:pt x="69238" y="17989"/>
                </a:lnTo>
                <a:lnTo>
                  <a:pt x="73624" y="17989"/>
                </a:lnTo>
                <a:lnTo>
                  <a:pt x="73624" y="10800"/>
                </a:lnTo>
                <a:lnTo>
                  <a:pt x="63006" y="10800"/>
                </a:lnTo>
                <a:lnTo>
                  <a:pt x="63006" y="17989"/>
                </a:lnTo>
                <a:lnTo>
                  <a:pt x="67393"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07" descr=""/>
          <p:cNvPicPr/>
          <p:nvPr/>
        </p:nvPicPr>
        <p:blipFill>
          <a:blip r:embed="rId2"/>
          <a:stretch/>
        </p:blipFill>
        <p:spPr>
          <a:xfrm>
            <a:off x="0" y="0"/>
            <a:ext cx="2895480" cy="3505320"/>
          </a:xfrm>
          <a:prstGeom prst="rect">
            <a:avLst/>
          </a:prstGeom>
          <a:ln w="0">
            <a:noFill/>
          </a:ln>
        </p:spPr>
      </p:pic>
      <p:pic>
        <p:nvPicPr>
          <p:cNvPr id="140" name="11" descr=""/>
          <p:cNvPicPr/>
          <p:nvPr/>
        </p:nvPicPr>
        <p:blipFill>
          <a:blip r:embed="rId3"/>
          <a:stretch/>
        </p:blipFill>
        <p:spPr>
          <a:xfrm>
            <a:off x="6095880" y="0"/>
            <a:ext cx="3353040" cy="3505320"/>
          </a:xfrm>
          <a:prstGeom prst="rect">
            <a:avLst/>
          </a:prstGeom>
          <a:ln w="0">
            <a:noFill/>
          </a:ln>
        </p:spPr>
      </p:pic>
      <p:pic>
        <p:nvPicPr>
          <p:cNvPr id="141" name="12" descr=""/>
          <p:cNvPicPr/>
          <p:nvPr/>
        </p:nvPicPr>
        <p:blipFill>
          <a:blip r:embed="rId4"/>
          <a:stretch/>
        </p:blipFill>
        <p:spPr>
          <a:xfrm>
            <a:off x="2743200" y="3581280"/>
            <a:ext cx="3962520" cy="3276720"/>
          </a:xfrm>
          <a:prstGeom prst="rect">
            <a:avLst/>
          </a:prstGeom>
          <a:ln w="0">
            <a:noFill/>
          </a:ln>
        </p:spPr>
      </p:pic>
      <p:sp>
        <p:nvSpPr>
          <p:cNvPr id="142" name=""/>
          <p:cNvSpPr/>
          <p:nvPr/>
        </p:nvSpPr>
        <p:spPr>
          <a:xfrm>
            <a:off x="45720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8315" y="3837"/>
                </a:moveTo>
                <a:lnTo>
                  <a:pt x="70891" y="6448"/>
                </a:lnTo>
                <a:lnTo>
                  <a:pt x="70891" y="4707"/>
                </a:lnTo>
                <a:lnTo>
                  <a:pt x="72667" y="4707"/>
                </a:lnTo>
                <a:lnTo>
                  <a:pt x="72667" y="8224"/>
                </a:lnTo>
                <a:lnTo>
                  <a:pt x="75278" y="10800"/>
                </a:lnTo>
                <a:lnTo>
                  <a:pt x="73624" y="10800"/>
                </a:lnTo>
                <a:lnTo>
                  <a:pt x="73624" y="17989"/>
                </a:lnTo>
                <a:lnTo>
                  <a:pt x="63006" y="17989"/>
                </a:lnTo>
                <a:lnTo>
                  <a:pt x="63006" y="10800"/>
                </a:lnTo>
                <a:lnTo>
                  <a:pt x="61352" y="10800"/>
                </a:lnTo>
                <a:close/>
              </a:path>
              <a:path fill="darkenLess" w="136630" h="21600">
                <a:moveTo>
                  <a:pt x="70891" y="6448"/>
                </a:moveTo>
                <a:lnTo>
                  <a:pt x="70891" y="4707"/>
                </a:lnTo>
                <a:lnTo>
                  <a:pt x="72667" y="4707"/>
                </a:lnTo>
                <a:lnTo>
                  <a:pt x="72667" y="8224"/>
                </a:lnTo>
                <a:close/>
              </a:path>
              <a:path fill="darkenLess" w="136630" h="21600">
                <a:moveTo>
                  <a:pt x="67393" y="14299"/>
                </a:moveTo>
                <a:lnTo>
                  <a:pt x="69238" y="14299"/>
                </a:lnTo>
                <a:lnTo>
                  <a:pt x="69238" y="17989"/>
                </a:lnTo>
                <a:lnTo>
                  <a:pt x="73624" y="17989"/>
                </a:lnTo>
                <a:lnTo>
                  <a:pt x="73624" y="10800"/>
                </a:lnTo>
                <a:lnTo>
                  <a:pt x="63006" y="10800"/>
                </a:lnTo>
                <a:lnTo>
                  <a:pt x="63006" y="17989"/>
                </a:lnTo>
                <a:lnTo>
                  <a:pt x="67393"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04" descr=""/>
          <p:cNvPicPr/>
          <p:nvPr/>
        </p:nvPicPr>
        <p:blipFill>
          <a:blip r:embed="rId2"/>
          <a:stretch/>
        </p:blipFill>
        <p:spPr>
          <a:xfrm>
            <a:off x="0" y="0"/>
            <a:ext cx="9372600" cy="6858000"/>
          </a:xfrm>
          <a:prstGeom prst="rect">
            <a:avLst/>
          </a:prstGeom>
          <a:ln w="0">
            <a:noFill/>
          </a:ln>
        </p:spPr>
      </p:pic>
      <p:sp>
        <p:nvSpPr>
          <p:cNvPr id="144" name=""/>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3" action="ppaction://hlinksldjump"/>
              </a:rPr>
              <a:t>Дворы и</a:t>
            </a:r>
            <a:r>
              <a:rPr b="0" lang="en-US" sz="3200" spc="-1" strike="noStrike" u="sng">
                <a:solidFill>
                  <a:srgbClr val="000000"/>
                </a:solidFill>
                <a:uFillTx/>
                <a:latin typeface="Times New Roman"/>
                <a:hlinkClick r:id="rId4" action="ppaction://hlinksldjump"/>
              </a:rPr>
              <a:t> </a:t>
            </a:r>
            <a:r>
              <a:rPr b="0" lang="en-US" sz="3200" spc="-1" strike="noStrike" u="sng">
                <a:solidFill>
                  <a:srgbClr val="000000"/>
                </a:solidFill>
                <a:uFillTx/>
                <a:latin typeface="Times New Roman"/>
                <a:hlinkClick r:id="rId5" action="ppaction://hlinksldjump"/>
              </a:rPr>
              <a:t>дома</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7" action="ppaction://hlinksldjump"/>
              </a:rPr>
              <a:t>Домашняя утварь и мебель</a:t>
            </a:r>
            <a:endParaRPr b="0" lang="en-US" sz="3200" spc="-1" strike="noStrike">
              <a:solidFill>
                <a:srgbClr val="000000"/>
              </a:solidFill>
              <a:latin typeface="Times New Roman"/>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9" action="ppaction://hlinksldjump"/>
              </a:rPr>
              <a:t>Русское меню</a:t>
            </a:r>
            <a:endParaRPr b="0" lang="en-US" sz="3200" spc="-1" strike="noStrike">
              <a:solidFill>
                <a:srgbClr val="000000"/>
              </a:solidFill>
              <a:latin typeface="Times New Roman"/>
            </a:endParaRPr>
          </a:p>
          <a:p>
            <a:pPr marL="343080" indent="-34308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1" action="ppaction://hlinksldjump"/>
              </a:rPr>
              <a:t>Одежда</a:t>
            </a:r>
            <a:endParaRPr b="0" lang="en-US" sz="3200" spc="-1" strike="noStrike">
              <a:solidFill>
                <a:srgbClr val="000000"/>
              </a:solidFill>
              <a:latin typeface="Times New Roman"/>
            </a:endParaRPr>
          </a:p>
          <a:p>
            <a:pPr marL="343080" indent="-343080">
              <a:spcBef>
                <a:spcPts val="799"/>
              </a:spcBef>
              <a:buSzPct val="10287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3" action="ppaction://hlinksldjump"/>
              </a:rPr>
              <a:t>Зимние игры</a:t>
            </a:r>
            <a:endParaRPr b="0" lang="en-US" sz="3200" spc="-1" strike="noStrike">
              <a:solidFill>
                <a:srgbClr val="000000"/>
              </a:solidFill>
              <a:latin typeface="Times New Roman"/>
            </a:endParaRPr>
          </a:p>
          <a:p>
            <a:pPr marL="343080" indent="-343080">
              <a:spcBef>
                <a:spcPts val="799"/>
              </a:spcBef>
              <a:buSzPct val="10287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5" action="ppaction://hlinksldjump"/>
              </a:rPr>
              <a:t>Народные заблуждени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a:hlinkClick r:id="rId16"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13" descr=""/>
          <p:cNvPicPr/>
          <p:nvPr/>
        </p:nvPicPr>
        <p:blipFill>
          <a:blip r:embed="rId17"/>
          <a:stretch/>
        </p:blipFill>
        <p:spPr>
          <a:xfrm>
            <a:off x="2743200" y="762120"/>
            <a:ext cx="3602160" cy="45720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05" descr=""/>
          <p:cNvPicPr/>
          <p:nvPr/>
        </p:nvPicPr>
        <p:blipFill>
          <a:blip r:embed="rId2"/>
          <a:stretch/>
        </p:blipFill>
        <p:spPr>
          <a:xfrm>
            <a:off x="0" y="0"/>
            <a:ext cx="9144000" cy="6858000"/>
          </a:xfrm>
          <a:prstGeom prst="rect">
            <a:avLst/>
          </a:prstGeom>
          <a:ln w="0">
            <a:noFill/>
          </a:ln>
        </p:spPr>
      </p:pic>
      <p:sp>
        <p:nvSpPr>
          <p:cNvPr id="146" name=""/>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06" descr=""/>
          <p:cNvPicPr/>
          <p:nvPr/>
        </p:nvPicPr>
        <p:blipFill>
          <a:blip r:embed="rId2"/>
          <a:stretch/>
        </p:blipFill>
        <p:spPr>
          <a:xfrm>
            <a:off x="0" y="0"/>
            <a:ext cx="9144000" cy="6858000"/>
          </a:xfrm>
          <a:prstGeom prst="rect">
            <a:avLst/>
          </a:prstGeom>
          <a:ln w="0">
            <a:noFill/>
          </a:ln>
        </p:spPr>
      </p:pic>
      <p:sp>
        <p:nvSpPr>
          <p:cNvPr id="148" name=""/>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120" y="990720"/>
            <a:ext cx="9196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глубокую старину дворы были очень просторны. Особенность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русского двора была в том,что дома строились не рядом с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оротами, а посредине. </a:t>
            </a:r>
            <a:endParaRPr b="0" lang="en-US" sz="2400" spc="-1" strike="noStrike">
              <a:solidFill>
                <a:srgbClr val="000000"/>
              </a:solidFill>
              <a:latin typeface="Times New Roman"/>
            </a:endParaRPr>
          </a:p>
        </p:txBody>
      </p:sp>
      <p:sp>
        <p:nvSpPr>
          <p:cNvPr id="47" name=""/>
          <p:cNvSpPr/>
          <p:nvPr/>
        </p:nvSpPr>
        <p:spPr>
          <a:xfrm>
            <a:off x="441360" y="5146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
          <p:cNvSpPr/>
          <p:nvPr/>
        </p:nvSpPr>
        <p:spPr>
          <a:xfrm>
            <a:off x="0" y="4343400"/>
            <a:ext cx="87789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богатых домах крыльца делались с кувшинообразными колоннами и покрывались остроконечными кровлями.Ступени обычно вели на террасу, потом прямо в сени второго яруса</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2517480" y="2209680"/>
            <a:ext cx="3323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Жилые строения:</a:t>
            </a:r>
            <a:endParaRPr b="0" lang="en-US" sz="2400" spc="-1" strike="noStrike">
              <a:solidFill>
                <a:srgbClr val="000000"/>
              </a:solidFill>
              <a:latin typeface="Times New Roman"/>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Избы</a:t>
            </a:r>
            <a:endParaRPr b="0" lang="en-US" sz="2400" spc="-1" strike="noStrike">
              <a:solidFill>
                <a:srgbClr val="000000"/>
              </a:solidFill>
              <a:latin typeface="Times New Roman"/>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Горницы</a:t>
            </a:r>
            <a:endParaRPr b="0" lang="en-US" sz="2400" spc="-1" strike="noStrike">
              <a:solidFill>
                <a:srgbClr val="000000"/>
              </a:solidFill>
              <a:latin typeface="Times New Roman"/>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u="sng">
                <a:solidFill>
                  <a:srgbClr val="000000"/>
                </a:solidFill>
                <a:uFillTx/>
                <a:latin typeface="Times New Roman"/>
                <a:hlinkClick r:id="rId7" action="ppaction://hlinksldjump"/>
              </a:rPr>
              <a:t>Повалуши</a:t>
            </a:r>
            <a:endParaRPr b="0" lang="en-US" sz="2400" spc="-1" strike="noStrike">
              <a:solidFill>
                <a:srgbClr val="000000"/>
              </a:solidFill>
              <a:latin typeface="Times New Roman"/>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u="sng">
                <a:solidFill>
                  <a:srgbClr val="000000"/>
                </a:solidFill>
                <a:uFillTx/>
                <a:latin typeface="Times New Roman"/>
                <a:hlinkClick r:id="rId9" action="ppaction://hlinksldjump"/>
              </a:rPr>
              <a:t>Сенники</a:t>
            </a:r>
            <a:endParaRPr b="0" lang="en-US" sz="2400" spc="-1" strike="noStrike">
              <a:solidFill>
                <a:srgbClr val="000000"/>
              </a:solidFill>
              <a:latin typeface="Times New Roman"/>
            </a:endParaRPr>
          </a:p>
        </p:txBody>
      </p:sp>
      <p:sp>
        <p:nvSpPr>
          <p:cNvPr id="51" name=""/>
          <p:cNvSpPr txBox="1"/>
          <p:nvPr/>
        </p:nvSpPr>
        <p:spPr>
          <a:xfrm>
            <a:off x="2438280" y="380880"/>
            <a:ext cx="140976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Дворы</a:t>
            </a:r>
            <a:endParaRPr b="0" lang="en-US" sz="2400" spc="1" strike="noStrike">
              <a:ln w="9360">
                <a:solidFill>
                  <a:srgbClr val="000000"/>
                </a:solidFill>
                <a:miter/>
              </a:ln>
              <a:solidFill>
                <a:srgbClr val="000000"/>
              </a:solidFill>
              <a:latin typeface="Arial"/>
              <a:ea typeface="Arial"/>
            </a:endParaRPr>
          </a:p>
        </p:txBody>
      </p:sp>
      <p:sp>
        <p:nvSpPr>
          <p:cNvPr id="52" name=""/>
          <p:cNvSpPr txBox="1"/>
          <p:nvPr/>
        </p:nvSpPr>
        <p:spPr>
          <a:xfrm>
            <a:off x="4343400" y="380880"/>
            <a:ext cx="33336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И</a:t>
            </a:r>
            <a:endParaRPr b="0" lang="en-US" sz="2400" spc="1" strike="noStrike">
              <a:ln w="9360">
                <a:solidFill>
                  <a:srgbClr val="000000"/>
                </a:solidFill>
                <a:miter/>
              </a:ln>
              <a:solidFill>
                <a:srgbClr val="000000"/>
              </a:solidFill>
              <a:latin typeface="Arial"/>
              <a:ea typeface="Arial"/>
            </a:endParaRPr>
          </a:p>
        </p:txBody>
      </p:sp>
      <p:sp>
        <p:nvSpPr>
          <p:cNvPr id="53" name=""/>
          <p:cNvSpPr txBox="1"/>
          <p:nvPr/>
        </p:nvSpPr>
        <p:spPr>
          <a:xfrm>
            <a:off x="5257800" y="380880"/>
            <a:ext cx="114300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Дома</a:t>
            </a:r>
            <a:endParaRPr b="0" lang="en-US" sz="2400" spc="1" strike="noStrike">
              <a:ln w="9360">
                <a:solidFill>
                  <a:srgbClr val="000000"/>
                </a:solidFill>
                <a:miter/>
              </a:ln>
              <a:solidFill>
                <a:srgbClr val="000000"/>
              </a:solidFill>
              <a:latin typeface="Arial"/>
              <a:ea typeface="Arial"/>
            </a:endParaRPr>
          </a:p>
        </p:txBody>
      </p:sp>
      <p:sp>
        <p:nvSpPr>
          <p:cNvPr id="54" name="">
            <a:hlinkClick r:id="" action="ppaction://hlinkshowjump?jump=previousslide"/>
          </p:cNvPr>
          <p:cNvSpPr/>
          <p:nvPr/>
        </p:nvSpPr>
        <p:spPr>
          <a:xfrm>
            <a:off x="228600" y="62485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7238880" y="624852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10" action="ppaction://hlinksldjump"/>
          </p:cNvPr>
          <p:cNvSpPr/>
          <p:nvPr/>
        </p:nvSpPr>
        <p:spPr>
          <a:xfrm>
            <a:off x="3809880" y="632448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8315" y="3837"/>
                </a:moveTo>
                <a:lnTo>
                  <a:pt x="70891" y="6448"/>
                </a:lnTo>
                <a:lnTo>
                  <a:pt x="70891" y="4707"/>
                </a:lnTo>
                <a:lnTo>
                  <a:pt x="72667" y="4707"/>
                </a:lnTo>
                <a:lnTo>
                  <a:pt x="72667" y="8224"/>
                </a:lnTo>
                <a:lnTo>
                  <a:pt x="75278" y="10800"/>
                </a:lnTo>
                <a:lnTo>
                  <a:pt x="73624" y="10800"/>
                </a:lnTo>
                <a:lnTo>
                  <a:pt x="73624" y="17989"/>
                </a:lnTo>
                <a:lnTo>
                  <a:pt x="63006" y="17989"/>
                </a:lnTo>
                <a:lnTo>
                  <a:pt x="63006" y="10800"/>
                </a:lnTo>
                <a:lnTo>
                  <a:pt x="61352" y="10800"/>
                </a:lnTo>
                <a:close/>
              </a:path>
              <a:path fill="darkenLess" w="136630" h="21600">
                <a:moveTo>
                  <a:pt x="70891" y="6448"/>
                </a:moveTo>
                <a:lnTo>
                  <a:pt x="70891" y="4707"/>
                </a:lnTo>
                <a:lnTo>
                  <a:pt x="72667" y="4707"/>
                </a:lnTo>
                <a:lnTo>
                  <a:pt x="72667" y="8224"/>
                </a:lnTo>
                <a:close/>
              </a:path>
              <a:path fill="darkenLess" w="136630" h="21600">
                <a:moveTo>
                  <a:pt x="67393" y="14299"/>
                </a:moveTo>
                <a:lnTo>
                  <a:pt x="69238" y="14299"/>
                </a:lnTo>
                <a:lnTo>
                  <a:pt x="69238" y="17989"/>
                </a:lnTo>
                <a:lnTo>
                  <a:pt x="73624" y="17989"/>
                </a:lnTo>
                <a:lnTo>
                  <a:pt x="73624" y="10800"/>
                </a:lnTo>
                <a:lnTo>
                  <a:pt x="63006" y="10800"/>
                </a:lnTo>
                <a:lnTo>
                  <a:pt x="63006" y="17989"/>
                </a:lnTo>
                <a:lnTo>
                  <a:pt x="67393"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01" descr="">
            <a:hlinkClick r:id="rId11" action="ppaction://hlinksldjump"/>
          </p:cNvPr>
          <p:cNvPicPr/>
          <p:nvPr/>
        </p:nvPicPr>
        <p:blipFill>
          <a:blip r:embed="rId12"/>
          <a:stretch/>
        </p:blipFill>
        <p:spPr>
          <a:xfrm>
            <a:off x="5870520" y="2209680"/>
            <a:ext cx="3273480" cy="213372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28600" y="803160"/>
            <a:ext cx="86868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зба была общим названием жилого строения. Они строились из древесины. Бревенчатые избы пользовались особой популярностью среди жителей. Эта разновидность постройки удерживала тепло, не выпуская его. Также обязательным  атрибутом являлась печь. Она служила логовищем целому семейству, а от печи поверху, под потолок приделывались полати. К избам приделывались разные пристенки и прирубк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
          <p:cNvSpPr txBox="1"/>
          <p:nvPr/>
        </p:nvSpPr>
        <p:spPr>
          <a:xfrm>
            <a:off x="3962520" y="228600"/>
            <a:ext cx="11430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Избы</a:t>
            </a:r>
            <a:endParaRPr b="0" lang="en-US" sz="2400" spc="1" strike="noStrike">
              <a:ln w="9360">
                <a:solidFill>
                  <a:srgbClr val="000000"/>
                </a:solidFill>
                <a:miter/>
              </a:ln>
              <a:solidFill>
                <a:srgbClr val="000000"/>
              </a:solidFill>
              <a:latin typeface="Arial"/>
              <a:ea typeface="Arial"/>
            </a:endParaRPr>
          </a:p>
        </p:txBody>
      </p:sp>
      <p:sp>
        <p:nvSpPr>
          <p:cNvPr id="61"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3276720" y="228600"/>
            <a:ext cx="2257200" cy="914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Arial"/>
              </a:rPr>
              <a:t>Горницы</a:t>
            </a:r>
            <a:endParaRPr b="0" lang="en-US" sz="4000" spc="1" strike="noStrike">
              <a:ln w="9360">
                <a:solidFill>
                  <a:srgbClr val="000000"/>
                </a:solidFill>
                <a:miter/>
              </a:ln>
              <a:solidFill>
                <a:srgbClr val="000000"/>
              </a:solidFill>
              <a:latin typeface="Arial"/>
              <a:ea typeface="Arial"/>
            </a:endParaRPr>
          </a:p>
        </p:txBody>
      </p:sp>
      <p:sp>
        <p:nvSpPr>
          <p:cNvPr id="65" name=""/>
          <p:cNvSpPr/>
          <p:nvPr/>
        </p:nvSpPr>
        <p:spPr>
          <a:xfrm>
            <a:off x="212760" y="1184400"/>
            <a:ext cx="877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орница, как показывает самое слово, было строение горнее, или верхнее, надстроенное над нижним, и обычно чистое и светлое, служившее для приёма гостей.</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3276720" y="304920"/>
            <a:ext cx="238104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Arial"/>
              </a:rPr>
              <a:t>Повалуши</a:t>
            </a:r>
            <a:endParaRPr b="0" lang="en-US" sz="4000" spc="1" strike="noStrike">
              <a:ln w="9360">
                <a:solidFill>
                  <a:srgbClr val="000000"/>
                </a:solidFill>
                <a:miter/>
              </a:ln>
              <a:solidFill>
                <a:srgbClr val="000000"/>
              </a:solidFill>
              <a:latin typeface="Arial"/>
              <a:ea typeface="Arial"/>
            </a:endParaRPr>
          </a:p>
        </p:txBody>
      </p:sp>
      <p:sp>
        <p:nvSpPr>
          <p:cNvPr id="71" name=""/>
          <p:cNvSpPr/>
          <p:nvPr/>
        </p:nvSpPr>
        <p:spPr>
          <a:xfrm>
            <a:off x="228600" y="1184400"/>
            <a:ext cx="8686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азвание «повалуши» сохранилось теперь в восточных губерниях и значит кладовую, обычно холодную, но были также и жилые покои с этим названием. Неизвестно, в чём состоит их отличие от горниц, тем более что они часто были рядом с горницами и занимали верхнюю часть здания</a:t>
            </a:r>
            <a:endParaRPr b="0" lang="en-US" sz="2400" spc="-1" strike="noStrike">
              <a:solidFill>
                <a:srgbClr val="000000"/>
              </a:solidFill>
              <a:latin typeface="Times New Roman"/>
            </a:endParaRPr>
          </a:p>
        </p:txBody>
      </p:sp>
      <p:sp>
        <p:nvSpPr>
          <p:cNvPr id="72"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12760" y="955800"/>
            <a:ext cx="8702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нником называлась холодная комната, часто надстроенная над конюшнями и амбарами, служившая летним покоем и необходимая во время обрядов. Бывало так, что в одном доме было три горницы и одна повалуша, а бывало и наоборот. </a:t>
            </a:r>
            <a:endParaRPr b="0" lang="en-US" sz="2400" spc="-1" strike="noStrike">
              <a:solidFill>
                <a:srgbClr val="000000"/>
              </a:solidFill>
              <a:latin typeface="Times New Roman"/>
            </a:endParaRPr>
          </a:p>
        </p:txBody>
      </p:sp>
      <p:sp>
        <p:nvSpPr>
          <p:cNvPr id="76" name=""/>
          <p:cNvSpPr txBox="1"/>
          <p:nvPr/>
        </p:nvSpPr>
        <p:spPr>
          <a:xfrm>
            <a:off x="3733920" y="304920"/>
            <a:ext cx="1562040" cy="1047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Сенник</a:t>
            </a:r>
            <a:endParaRPr b="0" lang="en-US" sz="2400" spc="1" strike="noStrike">
              <a:ln w="9360">
                <a:solidFill>
                  <a:srgbClr val="000000"/>
                </a:solidFill>
                <a:miter/>
              </a:ln>
              <a:solidFill>
                <a:srgbClr val="000000"/>
              </a:solidFill>
              <a:latin typeface="Arial"/>
              <a:ea typeface="Arial"/>
            </a:endParaRPr>
          </a:p>
        </p:txBody>
      </p:sp>
      <p:sp>
        <p:nvSpPr>
          <p:cNvPr id="77"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2590920" y="380880"/>
            <a:ext cx="389556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Домашняя Утварь</a:t>
            </a:r>
            <a:endParaRPr b="0" lang="en-US" sz="2400" spc="1" strike="noStrike">
              <a:ln w="9360">
                <a:solidFill>
                  <a:srgbClr val="000000"/>
                </a:solidFill>
                <a:miter/>
              </a:ln>
              <a:solidFill>
                <a:srgbClr val="000000"/>
              </a:solidFill>
              <a:latin typeface="Arial"/>
              <a:ea typeface="Arial"/>
            </a:endParaRPr>
          </a:p>
        </p:txBody>
      </p:sp>
      <p:sp>
        <p:nvSpPr>
          <p:cNvPr id="81" name=""/>
          <p:cNvSpPr/>
          <p:nvPr/>
        </p:nvSpPr>
        <p:spPr>
          <a:xfrm>
            <a:off x="365040" y="879480"/>
            <a:ext cx="84740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ены комнат были голые, столы и лавки дубовые только у богатых, они стояли вокруг стен.Освещались дома свечами – восковыми и сальными. Восковые свечи использовались только по торжественным дням и по праздникам. Для домашнего обихода держались стоячие фонари. У простых поселян избы освещались лучинам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Для хранения домашних вещей употреблялись скрыни (комоды с выдвижными ящиками), сундуки или погребцы. Женские украшения хранились в ларца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Для украшения домов зажиточные люди раскладывали разные безделушки вроде следующих: серебряные яблоки, изображения петуха с белым хвостом и миниатюрные изображение домашних принадлежносте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Самым лучшим украшением были образа святых угодников.</a:t>
            </a:r>
            <a:endParaRPr b="0" lang="en-US" sz="2400" spc="-1" strike="noStrike">
              <a:solidFill>
                <a:srgbClr val="000000"/>
              </a:solidFill>
              <a:latin typeface="Times New Roman"/>
            </a:endParaRPr>
          </a:p>
        </p:txBody>
      </p:sp>
      <p:sp>
        <p:nvSpPr>
          <p:cNvPr id="82"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3048120" y="380880"/>
            <a:ext cx="299088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Русское меню</a:t>
            </a:r>
            <a:endParaRPr b="0" lang="en-US" sz="2400" spc="1" strike="noStrike">
              <a:ln w="9360">
                <a:solidFill>
                  <a:srgbClr val="000000"/>
                </a:solidFill>
                <a:miter/>
              </a:ln>
              <a:solidFill>
                <a:srgbClr val="000000"/>
              </a:solidFill>
              <a:latin typeface="Arial"/>
              <a:ea typeface="Arial"/>
            </a:endParaRPr>
          </a:p>
        </p:txBody>
      </p:sp>
      <p:sp>
        <p:nvSpPr>
          <p:cNvPr id="86" name=""/>
          <p:cNvSpPr/>
          <p:nvPr/>
        </p:nvSpPr>
        <p:spPr>
          <a:xfrm>
            <a:off x="250920" y="1058760"/>
            <a:ext cx="8664480" cy="543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своей патриархальной простоте наши предки довольствовались весьма немногим. Они долго не знали роскоши. В </a:t>
            </a:r>
            <a:r>
              <a:rPr b="1" lang="en-US" sz="2000" spc="-1" strike="noStrike">
                <a:solidFill>
                  <a:srgbClr val="000000"/>
                </a:solidFill>
                <a:latin typeface="Times New Roman"/>
              </a:rPr>
              <a:t>XI</a:t>
            </a:r>
            <a:r>
              <a:rPr b="1" lang="ru-RU" sz="2000" spc="-1" strike="noStrike">
                <a:solidFill>
                  <a:srgbClr val="000000"/>
                </a:solidFill>
                <a:latin typeface="Times New Roman"/>
              </a:rPr>
              <a:t> веке питались ещё просом, гречихой и молоком, потом уже научились готовить яства. Хотя и в старь наши предки отличались особенным гостеприимством и хлебосольством. Мёд делался встарь, как любимое русское питьё, крепкий до такой степени, что им упивались также, как вином. В основном делались вишнёвый, смородинный, можжевеловый, сборный, приварный, красный, белый, малиновый, старый, княжий и боярски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усская кухня вообще была национальной и подчинялась обычаю, а не искусству. Кушанья были просты и однообразны, хотя русские столы отличались множеством блюд. Простой народ питался очень умеренно  и ограничивался следующими продуктами: зерном ржи, ячменя, овса и других хлебных зёрен, солью, луком и прочего.Из блюд, которые готовились из теста, первое место занимали пироги. Щи из квашеной капусты занимали особое место на русском столе. После сытных щей следовали жаркие блюда или по-другому жаренные кушанья. К десерту относились пряники и коврижки, - русское национальное печение.</a:t>
            </a:r>
            <a:r>
              <a:rPr b="1" lang="en-US" sz="2000" spc="-1" strike="noStrike">
                <a:solidFill>
                  <a:srgbClr val="000000"/>
                </a:solidFill>
                <a:latin typeface="Times New Roman"/>
              </a:rPr>
              <a:t> </a:t>
            </a:r>
            <a:r>
              <a:rPr b="1"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 name="">
            <a:hlinkClick r:id="" action="ppaction://hlinkshowjump?jump=previousslide"/>
          </p:cNvPr>
          <p:cNvSpPr/>
          <p:nvPr/>
        </p:nvSpPr>
        <p:spPr>
          <a:xfrm>
            <a:off x="228600" y="640080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 fill="darken" w="129430" h="21600">
                <a:moveTo>
                  <a:pt x="57709" y="10800"/>
                </a:moveTo>
                <a:lnTo>
                  <a:pt x="71722" y="3794"/>
                </a:lnTo>
                <a:lnTo>
                  <a:pt x="71722"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nextslide"/>
          </p:cNvPr>
          <p:cNvSpPr/>
          <p:nvPr/>
        </p:nvSpPr>
        <p:spPr>
          <a:xfrm>
            <a:off x="7238880" y="640080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 fill="darken" w="136630" h="21600">
                <a:moveTo>
                  <a:pt x="61309" y="3794"/>
                </a:moveTo>
                <a:lnTo>
                  <a:pt x="75322" y="10800"/>
                </a:lnTo>
                <a:lnTo>
                  <a:pt x="61309"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3733920" y="647712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 fill="darken" w="136596" h="21600">
                <a:moveTo>
                  <a:pt x="68298" y="3837"/>
                </a:moveTo>
                <a:lnTo>
                  <a:pt x="70874" y="6448"/>
                </a:lnTo>
                <a:lnTo>
                  <a:pt x="70874" y="4707"/>
                </a:lnTo>
                <a:lnTo>
                  <a:pt x="72650" y="4707"/>
                </a:lnTo>
                <a:lnTo>
                  <a:pt x="72650" y="8224"/>
                </a:lnTo>
                <a:lnTo>
                  <a:pt x="75261" y="10800"/>
                </a:lnTo>
                <a:lnTo>
                  <a:pt x="73607" y="10800"/>
                </a:lnTo>
                <a:lnTo>
                  <a:pt x="73607" y="17989"/>
                </a:lnTo>
                <a:lnTo>
                  <a:pt x="62989" y="17989"/>
                </a:lnTo>
                <a:lnTo>
                  <a:pt x="62989" y="10800"/>
                </a:lnTo>
                <a:lnTo>
                  <a:pt x="61335" y="10800"/>
                </a:lnTo>
                <a:close/>
              </a:path>
              <a:path fill="darkenLess" w="136596" h="21600">
                <a:moveTo>
                  <a:pt x="70874" y="6448"/>
                </a:moveTo>
                <a:lnTo>
                  <a:pt x="70874" y="4707"/>
                </a:lnTo>
                <a:lnTo>
                  <a:pt x="72650" y="4707"/>
                </a:lnTo>
                <a:lnTo>
                  <a:pt x="72650" y="8224"/>
                </a:lnTo>
                <a:close/>
              </a:path>
              <a:path fill="darkenLess" w="136596" h="21600">
                <a:moveTo>
                  <a:pt x="67376" y="14299"/>
                </a:moveTo>
                <a:lnTo>
                  <a:pt x="69221" y="14299"/>
                </a:lnTo>
                <a:lnTo>
                  <a:pt x="69221" y="17989"/>
                </a:lnTo>
                <a:lnTo>
                  <a:pt x="73607" y="17989"/>
                </a:lnTo>
                <a:lnTo>
                  <a:pt x="73607" y="10800"/>
                </a:lnTo>
                <a:lnTo>
                  <a:pt x="62989" y="10800"/>
                </a:lnTo>
                <a:lnTo>
                  <a:pt x="62989" y="17989"/>
                </a:lnTo>
                <a:lnTo>
                  <a:pt x="67376" y="17989"/>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14" descr="">
            <a:hlinkClick r:id="rId3" action="ppaction://hlinksldjump"/>
          </p:cNvPr>
          <p:cNvPicPr/>
          <p:nvPr/>
        </p:nvPicPr>
        <p:blipFill>
          <a:blip r:embed="rId4"/>
          <a:stretch/>
        </p:blipFill>
        <p:spPr>
          <a:xfrm>
            <a:off x="8001000" y="0"/>
            <a:ext cx="1143000" cy="13716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08:06:24Z</dcterms:created>
  <dc:creator>u2000</dc:creator>
  <dc:description/>
  <dc:language>en-US</dc:language>
  <cp:lastModifiedBy>user</cp:lastModifiedBy>
  <dcterms:modified xsi:type="dcterms:W3CDTF">2007-06-22T07:01:22Z</dcterms:modified>
  <cp:revision>31</cp:revision>
  <dc:subject/>
  <dc:title>Презентация PowerPoint</dc:title>
</cp:coreProperties>
</file>