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5664-4EE9-4B74-B17D-8CFA6D67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731-3E42-461F-BD98-64ECACF2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647-5F42-4D85-8BB3-6BD446AF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0D6-6662-4A7C-B4A8-37742A16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00A7-6EF1-4A66-B223-7CA1FAAB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B202-A9A9-4DDC-A611-2EB3AFD3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073F-00F7-4172-9D74-69105B67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1956-F4AA-4D8C-A39F-AA9DC03A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6CA8-97BC-4F77-971A-C4C24A93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5C73-CCFF-4CF6-8723-027F7A84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275E-831F-4E70-963C-E350F50A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01D-A50E-405A-8935-3DD26102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F52F-538C-43F5-9843-6D1A9DE7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C850-DBDC-4270-99B0-49CE2029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324D-B53B-40E3-990B-771BBC22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BD15-A4B8-4246-8F9A-9C074F57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81CE-9697-41D4-8BF7-378760A4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6A5-77B8-4BC1-B464-5BDE28F5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0C38-2786-4013-B66E-F78214AC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28E8-A889-45B9-B407-E4EB641F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9B4-CE6B-4F7D-8D4C-2D76B98F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3A1-C444-4DF7-B88A-E07CAE7B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4E3-2088-42AF-B9C3-DF54E28A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3E3-4616-4D5C-A083-D4FCC02F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5BA0-D7EC-4F80-BD67-8D2EA0F1850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8C11-4616-4C9F-B55D-64B0550DE73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50;&#1054;&#1056;&#1044;&#1054;&#1042;&#1040;&#1071;%20&#1055;&#1048;&#1051;&#1054;&#1058;&#1040;&#1046;&#1053;&#1040;&#1071;%20&#1052;&#1054;&#1044;&#1045;&#1051;&#1068;.doc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87;&#1088;&#1086;&#1077;&#1082;&#1090;%20&#1040;&#1083;&#1080;&#1093;&#1072;&#1085;&#1086;&#1074;&#1072;%20&#1056;&#1086;&#1084;&#1099;%20&#1040;&#1101;&#1088;&#1086;&#1089;&#1072;&#1085;&#1080;.ppt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40;&#1074;&#1080;&#1072;&#1084;&#1086;&#1076;&#1077;&#1083;&#1100;%20&#1051;&#1077;&#1090;&#1072;&#1102;&#1097;&#1077;&#1077;%20&#1082;&#1088;&#1099;&#1083;&#1086;.doc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zavuch.info/" TargetMode="External"/><Relationship Id="rId2" Type="http://schemas.openxmlformats.org/officeDocument/2006/relationships/hyperlink" Target="http://www.zavuch.info/" TargetMode="External"/><Relationship Id="rId3" Type="http://schemas.openxmlformats.org/officeDocument/2006/relationships/hyperlink" Target="http://nsportal.ru/alikhanov-nurlan-kerubovich" TargetMode="External"/><Relationship Id="rId4" Type="http://schemas.openxmlformats.org/officeDocument/2006/relationships/hyperlink" Target="http://aviamodelsu.ru/index.php" TargetMode="External"/><Relationship Id="rId5" Type="http://schemas.openxmlformats.org/officeDocument/2006/relationships/hyperlink" Target="http://aviamodelsu.ru/index.php" TargetMode="External"/><Relationship Id="rId6" Type="http://schemas.openxmlformats.org/officeDocument/2006/relationships/hyperlink" Target="http://ipk74.ru/forum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2590560"/>
            <a:ext cx="7848360" cy="2057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Особенности сетевого взаимодействия общего и дополнительного образования в рамках реализации программ внеурочной деятельности обучающихся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8580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48006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ОБЖ, технологии, педагог дополнительного образования МКОУ Пискловская СОШ Алиханов Н.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895480" y="2438280"/>
            <a:ext cx="2210040" cy="1371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685800"/>
            <a:ext cx="2286000" cy="15238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4120" y="990720"/>
            <a:ext cx="2286000" cy="1676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3048120"/>
            <a:ext cx="2743200" cy="1371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4495680"/>
            <a:ext cx="2971800" cy="2057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3352680"/>
            <a:ext cx="3276720" cy="19814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8120" y="2743200"/>
            <a:ext cx="2438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Школа, педаг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990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ДДТ с.Етку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1523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МЦ с.Белонос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32767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Управление образования(РМО) ОУ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8120" y="495288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лимпиады: муниципальные, региональные, интернет-олимпиа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3733920"/>
            <a:ext cx="3124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нтернет-со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егистрация на сайт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оздание с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2742840" y="21337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952880" y="2362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3505320"/>
            <a:ext cx="7617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971800" y="3733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3809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Организация  сетевого взаимо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Проект «Кордовая пилотажная модель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10г. Всероссийская олимпиада школьников, муниципальный этап, технология 11 класс, призер Алиханов Рома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Проект «Аэросан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10 – 11 г. Всероссийская олимпиада школьников, региональный этап, технология 11 класс, Алиханов Рома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Проект «Летающее крыло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011-12 г. Всероссийская олимпиада школьников, муниципальный этап, технология 10 класс, призер Болоченцев Ива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нтернет - сооб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zavuch.info</a:t>
            </a: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nsportal.ru/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http://nsportal.ru/alikhanov-nurlan-kerubovich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http</a:t>
            </a: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://aviamodelsu.ru/index.ph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igor-etku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http://ipk74.ru/forum/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льзователь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ihanov-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7696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условиях внедрения и перехода на федеральный государственный образовательный стандарт особое внимание и значение уделяется </a:t>
            </a:r>
            <a:r>
              <a:rPr b="1" lang="en-US" sz="2400" spc="-1" strike="noStrike" u="sng">
                <a:solidFill>
                  <a:srgbClr val="00b200"/>
                </a:solidFill>
                <a:uFillTx/>
                <a:latin typeface="Comic Sans MS"/>
              </a:rPr>
              <a:t>воспитательной деятельности школьников во внеурочное врем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438280"/>
            <a:ext cx="6934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современном этапе внеурочная работа - прекрасное расширение инфраструктуры школы. Чем шире представлены различные направления внеурочной деятельности в школе, тем лучше ребенку и его родите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неурочная деятельность, как и деятельность обучающихся в рамках уроков, направлена на достижение результатов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освоения основной образовательной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Но в первую очередь – это достижение личностных и метапредметных результатов. Это определяет и специфику внеурочной деятельности, в ходе которой обучающийся не только и даже не столько должен узнать, сколько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научиться действовать, чувствовать, принимать решения и др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азначе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ФГО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редство обеспечения единства и преемственности отдельных ступеней образования в условиях перехода к непрерывной системе образовани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фактор регулирования взаимоотношений субъектов системы образования (учащихся, их семей, преподавателей и руководителей образовательного учрежд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000"/>
                </a:solidFill>
                <a:latin typeface="Calibri"/>
              </a:rPr>
              <a:t>Планируемы</a:t>
            </a:r>
            <a:r>
              <a:rPr b="1" lang="en-US" sz="3400" spc="-1" strike="noStrike">
                <a:solidFill>
                  <a:srgbClr val="ffc000"/>
                </a:solidFill>
                <a:latin typeface="Arial"/>
              </a:rPr>
              <a:t>е </a:t>
            </a:r>
            <a:r>
              <a:rPr b="1" lang="en-US" sz="3400" spc="-1" strike="noStrike">
                <a:solidFill>
                  <a:srgbClr val="ffc000"/>
                </a:solidFill>
                <a:latin typeface="Calibri"/>
              </a:rPr>
              <a:t>результат</a:t>
            </a:r>
            <a:r>
              <a:rPr b="1" lang="en-US" sz="3400" spc="-1" strike="noStrike">
                <a:solidFill>
                  <a:srgbClr val="ffc000"/>
                </a:solidFill>
                <a:latin typeface="Arial"/>
              </a:rPr>
              <a:t>ы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ичностные 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готовность и способность обучающихся к саморазвитию, сформированности мотивации к учению и познанию, социальные компетентности, личностные качества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апредметные 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освоенные обучающимися универсальные учебные действия (познавательные, регулятивные и коммуникативные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метные 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освоенный обучающимися в ходе изучения учебных предметов опыт специфической для каждой предметной области деятельности п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лучению нового знания, его преобразованию и применени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остижение планируемых результатов основных образовательных программ общего образования в соответствии с ФГОС становится возможным при обеспечении единства урочной и внеурочной деятельност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Сетевое взаимодействие общего и дополнительного образования, сетевая организация совместной деятельности сегодня рассматривается как наиболее актуальная и эффективная форма достижения целей в любой сфере, в том числе образовательной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Основные характеристики сетевого взаимодейств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dff"/>
                </a:solidFill>
                <a:latin typeface="Comic Sans MS"/>
              </a:rPr>
              <a:t>Независимость членов сети.</a:t>
            </a:r>
            <a:r>
              <a:rPr b="1" lang="en-US" sz="16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ринципиальными являются два основных типа ответственности – а) перед самим собой за собственный успех и результат достижения самостоятельно поставленной цели и б) перед вышестоящей инстанцией за достижение результата, заданного целью, поставленной извне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703dff"/>
                </a:solidFill>
                <a:latin typeface="Comic Sans MS"/>
              </a:rPr>
              <a:t>Множественность лидеров 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Лидер в сетевом сообществе – это любой человек или организация, являющаяся носителем ресурса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703dff"/>
                </a:solidFill>
                <a:latin typeface="Comic Sans MS"/>
              </a:rPr>
              <a:t>Объединяющая цель</a:t>
            </a:r>
            <a:r>
              <a:rPr b="1" lang="en-US" sz="1600" spc="-1" strike="noStrike">
                <a:solidFill>
                  <a:srgbClr val="ffc000"/>
                </a:solidFill>
                <a:latin typeface="Comic Sans MS"/>
              </a:rPr>
              <a:t> 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Основана на конкурентном сотрудничестве, заинтересованности участников в использовании совместных ресурсов сет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703dff"/>
                </a:solidFill>
                <a:latin typeface="Comic Sans MS"/>
              </a:rPr>
              <a:t>Добровольность связей.</a:t>
            </a:r>
            <a:r>
              <a:rPr b="1" lang="en-US" sz="1600" spc="-1" strike="noStrike">
                <a:solidFill>
                  <a:srgbClr val="ffc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одразумевается, что участники сети, имеют право выбора партнеров по совместной деятельности, ответственность за свою ресурсную позицию, самостоятельность в определении структуры своего взаимодействия в рамках сет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703dff"/>
                </a:solidFill>
                <a:latin typeface="Comic Sans MS"/>
              </a:rPr>
              <a:t>Множественность уровней взаимодействия</a:t>
            </a:r>
            <a:r>
              <a:rPr b="1" lang="en-US" sz="1600" spc="-1" strike="noStrike">
                <a:solidFill>
                  <a:srgbClr val="ffc000"/>
                </a:solidFill>
                <a:latin typeface="Comic Sans MS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Совместная работа в рамках сети осуществляется не по административным каналам, а напрямую между людьми, которые могут вместе решать необходимые вопрос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ри аспекта сетевого взаимодействи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Сеть как система взаимодействия ее участников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-  образовательных учреждений и других субъект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Совместная образовательная программа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 в том числе программа внеурочной деятельности, где каждый из участников вносит определенный вклад в ее реализацию, в том числе в виде ресурс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Сетевое взаимодействие для обучающегося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разработка его индивидуального образовательного маршрута доступна ко всем элементам образовательной сети для решения своих образовательных цел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omic Sans MS"/>
              </a:rPr>
              <a:t>Модель организации сетевого взаимодейств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«Модель проекта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3733920"/>
            <a:ext cx="4114800" cy="10666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4038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2514600"/>
            <a:ext cx="2286000" cy="4572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2666880"/>
            <a:ext cx="1828800" cy="6098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2895480"/>
            <a:ext cx="220968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971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2743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2590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с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3505320"/>
            <a:ext cx="1981440" cy="7617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3581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З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5410080"/>
            <a:ext cx="5562720" cy="1447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43200" y="56386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ополнительн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61642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Кружок «Авиамодельн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181480" y="289512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19920" y="3962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361960" y="35809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35812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3657600"/>
            <a:ext cx="9144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1752480" y="358128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114800" y="480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4495680"/>
            <a:ext cx="1371600" cy="8384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47926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ОБ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1447920" y="3581280"/>
            <a:ext cx="3808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3581280"/>
            <a:ext cx="3049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4876920"/>
            <a:ext cx="14475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1905120" y="50292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05120" y="457164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828800" y="46483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1-12-11T18:26:2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