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4.gif" ContentType="image/gif"/>
  <Override PartName="/ppt/media/image29.jpeg" ContentType="image/jpeg"/>
  <Override PartName="/ppt/media/image25.gif" ContentType="image/gif"/>
  <Override PartName="/ppt/media/image6.jpeg" ContentType="image/jpeg"/>
  <Override PartName="/ppt/media/image4.jpeg" ContentType="image/jpeg"/>
  <Override PartName="/ppt/media/image22.gif" ContentType="image/gif"/>
  <Override PartName="/ppt/media/image26.jpeg" ContentType="image/jpeg"/>
  <Override PartName="/ppt/media/image5.jpeg" ContentType="image/jpeg"/>
  <Override PartName="/ppt/media/image32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30.jpeg" ContentType="image/jpeg"/>
  <Override PartName="/ppt/media/image24.jpeg" ContentType="image/jpeg"/>
  <Override PartName="/ppt/media/image3.gif" ContentType="image/gif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31.jpeg" ContentType="image/jpeg"/>
  <Override PartName="/ppt/media/image14.gif" ContentType="image/gif"/>
  <Override PartName="/ppt/media/image16.png" ContentType="image/png"/>
  <Override PartName="/ppt/media/image17.jpeg" ContentType="image/jpeg"/>
  <Override PartName="/ppt/media/image18.gif" ContentType="image/gif"/>
  <Override PartName="/ppt/media/image15.wmf" ContentType="image/x-wmf"/>
  <Override PartName="/ppt/media/image19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05F-26A3-4A35-9308-737F8B0B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249-A229-4DEC-908D-D51D3F1C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F29-10B5-4EC3-B06E-F3DBC119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6F6-A6FE-4920-A5D9-9891440E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8E2-9126-4841-9CBF-7F363627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BA9-B645-4440-87D3-8F857F58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0A0-68FD-458E-91A4-0CF9F2A7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B7D-B689-4C15-AD4B-01FA7A8A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663-89B9-4244-8CEE-80AC08F8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9C5-CD84-4DC8-8DEF-D02D374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544-248E-4E7D-B5F5-56575DB9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518-EE77-4BA5-A506-380E0FA4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F6EE-071D-49F4-A46D-E6F70F6CBFE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ovoskop.ru/files/u4/moon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SC_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826920" y="220500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Атмосфера: строение, значение, изучени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сновные свойст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ТОЛЩИ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ЗМЕНЕНИЕ ТЕМПЕРАТУР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ЯВЛ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468360" y="200988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слои атмосфе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слой над хутором Майорский сильно загрязнё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встречаются серебристые обл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лое содержится 80% воздух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лое атмосферы небо чер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какого слоя атмосферы выпадают снег,  дож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явления и процессы происходят в верхних слоях атмосфер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835280" y="620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BOOK9"/>
          <p:cNvPicPr/>
          <p:nvPr/>
        </p:nvPicPr>
        <p:blipFill>
          <a:blip r:embed="rId1"/>
          <a:stretch/>
        </p:blipFill>
        <p:spPr>
          <a:xfrm>
            <a:off x="6948360" y="476280"/>
            <a:ext cx="1584360" cy="101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BOOK9"/>
          <p:cNvPicPr/>
          <p:nvPr/>
        </p:nvPicPr>
        <p:blipFill>
          <a:blip r:embed="rId2"/>
          <a:stretch/>
        </p:blipFill>
        <p:spPr>
          <a:xfrm>
            <a:off x="6929280" y="500040"/>
            <a:ext cx="1584360" cy="101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BOOK9"/>
          <p:cNvPicPr/>
          <p:nvPr/>
        </p:nvPicPr>
        <p:blipFill>
          <a:blip r:embed="rId3"/>
          <a:stretch/>
        </p:blipFill>
        <p:spPr>
          <a:xfrm>
            <a:off x="7081920" y="652320"/>
            <a:ext cx="1584360" cy="1013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BOOK9"/>
          <p:cNvPicPr/>
          <p:nvPr/>
        </p:nvPicPr>
        <p:blipFill>
          <a:blip r:embed="rId4"/>
          <a:stretch/>
        </p:blipFill>
        <p:spPr>
          <a:xfrm>
            <a:off x="7072200" y="642960"/>
            <a:ext cx="15843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68-1024"/>
          <p:cNvPicPr/>
          <p:nvPr/>
        </p:nvPicPr>
        <p:blipFill>
          <a:blip r:embed="rId1"/>
          <a:stretch/>
        </p:blipFill>
        <p:spPr>
          <a:xfrm>
            <a:off x="324000" y="404640"/>
            <a:ext cx="8208720" cy="61549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82" name="Picture 5" descr="human257"/>
          <p:cNvPicPr/>
          <p:nvPr/>
        </p:nvPicPr>
        <p:blipFill>
          <a:blip r:embed="rId2"/>
          <a:stretch/>
        </p:blipFill>
        <p:spPr>
          <a:xfrm rot="20101800">
            <a:off x="2050920" y="19159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by18"/>
          <p:cNvPicPr/>
          <p:nvPr/>
        </p:nvPicPr>
        <p:blipFill>
          <a:blip r:embed="rId3"/>
          <a:stretch/>
        </p:blipFill>
        <p:spPr>
          <a:xfrm>
            <a:off x="1332000" y="4149720"/>
            <a:ext cx="345960" cy="504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684360" y="494172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55640" y="472428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ак изменяется температура воздуха с подъемом в тропосфе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ZAPOMNI"/>
          <p:cNvPicPr/>
          <p:nvPr/>
        </p:nvPicPr>
        <p:blipFill>
          <a:blip r:embed="rId1"/>
          <a:stretch/>
        </p:blipFill>
        <p:spPr>
          <a:xfrm>
            <a:off x="250920" y="5013360"/>
            <a:ext cx="1050840" cy="1366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756720" y="18900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cc"/>
                </a:solidFill>
                <a:uFillTx/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4360" y="112536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емпература понижается на каждый километр высоты примерно на 6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078822"/>
          <p:cNvPicPr/>
          <p:nvPr/>
        </p:nvPicPr>
        <p:blipFill>
          <a:blip r:embed="rId2"/>
          <a:srcRect l="0" t="0" r="21331" b="0"/>
          <a:stretch/>
        </p:blipFill>
        <p:spPr>
          <a:xfrm>
            <a:off x="7093080" y="260280"/>
            <a:ext cx="1726920" cy="197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25"/>
          <p:cNvPicPr/>
          <p:nvPr/>
        </p:nvPicPr>
        <p:blipFill>
          <a:blip r:embed="rId3"/>
          <a:srcRect l="8634" t="17307" r="17905" b="9777"/>
          <a:stretch/>
        </p:blipFill>
        <p:spPr>
          <a:xfrm>
            <a:off x="2916360" y="3284640"/>
            <a:ext cx="3601800" cy="28796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755640" y="47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И ЗАДАЧ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BOOK9"/>
          <p:cNvPicPr/>
          <p:nvPr/>
        </p:nvPicPr>
        <p:blipFill>
          <a:blip r:embed="rId1"/>
          <a:stretch/>
        </p:blipFill>
        <p:spPr>
          <a:xfrm>
            <a:off x="6948360" y="620640"/>
            <a:ext cx="1584360" cy="1013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324000" y="155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вариан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какую высоту поднялся самолет, если за его бортом температура -30ºС, а у поверхности земли +12º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5280" y="32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вариан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акова температура воздуха на Памире, если в июле у подножия она составляет +36ºС? Высота Памира 6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619280" y="404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68360" y="184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вариант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2708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вариант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6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ZAPOMNI"/>
          <p:cNvPicPr/>
          <p:nvPr/>
        </p:nvPicPr>
        <p:blipFill>
          <a:blip r:embed="rId1"/>
          <a:stretch/>
        </p:blipFill>
        <p:spPr>
          <a:xfrm>
            <a:off x="250920" y="3716280"/>
            <a:ext cx="2047680" cy="266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10502607"/>
          <p:cNvPicPr/>
          <p:nvPr/>
        </p:nvPicPr>
        <p:blipFill>
          <a:blip r:embed="rId2"/>
          <a:stretch/>
        </p:blipFill>
        <p:spPr>
          <a:xfrm>
            <a:off x="6012000" y="1773360"/>
            <a:ext cx="2392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1 из 108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Documents and Settings\Администратор\Мои документы\Мои рисунки\2011-02-20\Image0004.JPG"/>
          <p:cNvPicPr/>
          <p:nvPr/>
        </p:nvPicPr>
        <p:blipFill>
          <a:blip r:embed="rId3"/>
          <a:stretch/>
        </p:blipFill>
        <p:spPr>
          <a:xfrm>
            <a:off x="4308480" y="3500280"/>
            <a:ext cx="48355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1500120" y="64296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начение атмосфе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14200" y="1500120"/>
            <a:ext cx="2571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он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ар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Лес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Озон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071800" y="16430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космических частиц пыли и метеор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2714760" y="2714760"/>
            <a:ext cx="55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пускает солнечные лучи и препятствует отдаче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214720" y="385776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 для дыхания всем живым организм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2357280" y="5000760"/>
            <a:ext cx="62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охраняет от вредного ультрафиолет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j0318096"/>
          <p:cNvPicPr/>
          <p:nvPr/>
        </p:nvPicPr>
        <p:blipFill>
          <a:blip r:embed="rId1"/>
          <a:stretch/>
        </p:blipFill>
        <p:spPr>
          <a:xfrm>
            <a:off x="7093080" y="333360"/>
            <a:ext cx="167616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971640" y="620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2205000"/>
            <a:ext cx="8066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тмосфера необходима нашей пла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ь без нее была бы невозмож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ZAPOMNI"/>
          <p:cNvPicPr/>
          <p:nvPr/>
        </p:nvPicPr>
        <p:blipFill>
          <a:blip r:embed="rId2"/>
          <a:stretch/>
        </p:blipFill>
        <p:spPr>
          <a:xfrm>
            <a:off x="468360" y="4797360"/>
            <a:ext cx="13669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E:\шар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72120" cy="52149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3" descr=""/>
          <p:cNvPicPr/>
          <p:nvPr/>
        </p:nvPicPr>
        <p:blipFill>
          <a:blip r:embed="rId2"/>
          <a:stretch/>
        </p:blipFill>
        <p:spPr>
          <a:xfrm>
            <a:off x="841320" y="378000"/>
            <a:ext cx="73216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124000" y="476280"/>
            <a:ext cx="49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УРОКА: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42920" y="1916280"/>
            <a:ext cx="662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формировать представление о значении атмосферы: ее роли в жизни человека, о составе атмосферы, отличительных особенностях ее слоев, методах изучения атмосф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42920" y="328464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 с исследованием атмосф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042920" y="386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ть умения и навыки работы с текстом учебника, рисунками, картами, тестовыми зада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971640" y="472428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ть Интернет-ресурсы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71640" y="5229360"/>
            <a:ext cx="475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ывать любовь к родному кр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dir44.jpg"/>
          <p:cNvPicPr/>
          <p:nvPr/>
        </p:nvPicPr>
        <p:blipFill>
          <a:blip r:embed="rId1"/>
          <a:stretch/>
        </p:blipFill>
        <p:spPr>
          <a:xfrm>
            <a:off x="4608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E:\Samolet-Russkij-vityaz-1913-g--ic1974_44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E:\84179-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E:\exp003-1.jpg"/>
          <p:cNvPicPr/>
          <p:nvPr/>
        </p:nvPicPr>
        <p:blipFill>
          <a:blip r:embed="rId1"/>
          <a:stretch/>
        </p:blipFill>
        <p:spPr>
          <a:xfrm>
            <a:off x="1643040" y="-6480"/>
            <a:ext cx="5715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532430.jpg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468360" y="404640"/>
            <a:ext cx="835164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936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66ccff"/>
                    </a:gs>
                  </a:gsLst>
                  <a:lin ang="5400000"/>
                </a:gradFill>
                <a:latin typeface="Arial Unicode MS"/>
              </a:rPr>
              <a:t>Задания по закреплению материала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66ccff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43280" y="1125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«Что за цифра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50920" y="2060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00 км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547640" y="206064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щина атмо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95280" y="256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8 %  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332000" y="256536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аз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50920" y="3213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ºС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116000" y="3213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нижени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 каждый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250920" y="3860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1 %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187280" y="3860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50920" y="450864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%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116000" y="4437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чие г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7928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 км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1116000" y="508464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лщина тропосферы над эквато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179280" y="566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-55 км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619280" y="56610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"/>
              </a:rPr>
              <a:t>верхняя граница страто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547640" y="620640"/>
            <a:ext cx="597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ЕЕ ЗАДАНИЕ.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Picture 5" descr="BOOK9"/>
          <p:cNvPicPr/>
          <p:nvPr/>
        </p:nvPicPr>
        <p:blipFill>
          <a:blip r:embed="rId1"/>
          <a:stretch/>
        </p:blipFill>
        <p:spPr>
          <a:xfrm>
            <a:off x="6948360" y="1773360"/>
            <a:ext cx="1584360" cy="1012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467280" y="2060640"/>
            <a:ext cx="56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5, вопросы и задания на стр.1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6"/>
          <p:cNvPicPr/>
          <p:nvPr/>
        </p:nvPicPr>
        <p:blipFill>
          <a:blip r:embed="rId2"/>
          <a:stretch/>
        </p:blipFill>
        <p:spPr>
          <a:xfrm>
            <a:off x="324000" y="2637000"/>
            <a:ext cx="501480" cy="151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042920" y="2852640"/>
            <a:ext cx="60501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опыт и записать в тетрадь результаты измерения температуры в течение дня, начиная с 8.00 до 20.00, через каждые 2 ч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бщение «Экологические проблемы своей местн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тетрадь, стр.61-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artsun"/>
          <p:cNvPicPr/>
          <p:nvPr/>
        </p:nvPicPr>
        <p:blipFill>
          <a:blip r:embed="rId1"/>
          <a:stretch/>
        </p:blipFill>
        <p:spPr>
          <a:xfrm>
            <a:off x="6156360" y="549360"/>
            <a:ext cx="1942920" cy="1466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50920" y="476280"/>
            <a:ext cx="785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тмосфер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душная оболочка Зем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40_320_mike_hollingshead3_23"/>
          <p:cNvPicPr/>
          <p:nvPr/>
        </p:nvPicPr>
        <p:blipFill>
          <a:blip r:embed="rId2"/>
          <a:stretch/>
        </p:blipFill>
        <p:spPr>
          <a:xfrm>
            <a:off x="395280" y="4653000"/>
            <a:ext cx="228600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40_320_mike_hollingshead3_19"/>
          <p:cNvPicPr/>
          <p:nvPr/>
        </p:nvPicPr>
        <p:blipFill>
          <a:blip r:embed="rId3"/>
          <a:stretch/>
        </p:blipFill>
        <p:spPr>
          <a:xfrm>
            <a:off x="2124000" y="3429000"/>
            <a:ext cx="2286000" cy="188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40_320_mike_hollingshead3_21"/>
          <p:cNvPicPr/>
          <p:nvPr/>
        </p:nvPicPr>
        <p:blipFill>
          <a:blip r:embed="rId4"/>
          <a:stretch/>
        </p:blipFill>
        <p:spPr>
          <a:xfrm>
            <a:off x="4067280" y="4797360"/>
            <a:ext cx="2286000" cy="188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CAE3KL63"/>
          <p:cNvPicPr/>
          <p:nvPr/>
        </p:nvPicPr>
        <p:blipFill>
          <a:blip r:embed="rId5"/>
          <a:stretch/>
        </p:blipFill>
        <p:spPr>
          <a:xfrm>
            <a:off x="6156360" y="3500280"/>
            <a:ext cx="22860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826920" y="40464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остав атмосфе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8360" y="16286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дух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411280" y="1628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есь газ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vopros"/>
          <p:cNvPicPr/>
          <p:nvPr/>
        </p:nvPicPr>
        <p:blipFill>
          <a:blip r:embed="rId1"/>
          <a:stretch/>
        </p:blipFill>
        <p:spPr>
          <a:xfrm>
            <a:off x="179280" y="189000"/>
            <a:ext cx="1106640" cy="143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219640" y="1628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192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116000" y="2997360"/>
            <a:ext cx="676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се живое </a:t>
            </a: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дышит</a:t>
            </a: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 кислород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BOOK9"/>
          <p:cNvPicPr/>
          <p:nvPr/>
        </p:nvPicPr>
        <p:blipFill>
          <a:blip r:embed="rId1"/>
          <a:stretch/>
        </p:blipFill>
        <p:spPr>
          <a:xfrm>
            <a:off x="6948360" y="476280"/>
            <a:ext cx="1584360" cy="101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078822"/>
          <p:cNvPicPr/>
          <p:nvPr/>
        </p:nvPicPr>
        <p:blipFill>
          <a:blip r:embed="rId2"/>
          <a:srcRect l="0" t="0" r="21331" b="0"/>
          <a:stretch/>
        </p:blipFill>
        <p:spPr>
          <a:xfrm>
            <a:off x="250920" y="4581360"/>
            <a:ext cx="1727280" cy="197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11280" y="177336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Какого газа содержится больше всего в атмосфе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332000" y="3357720"/>
            <a:ext cx="56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колько процентов кислорода в атмосфе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700360" y="508464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акие газы составляют 1% атмосфе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143000" y="785880"/>
            <a:ext cx="6997680" cy="6072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428840" y="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мосфе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9:58:58Z</dcterms:created>
  <dc:creator>Home</dc:creator>
  <dc:description/>
  <dc:language>en-US</dc:language>
  <cp:lastModifiedBy>Пользователь</cp:lastModifiedBy>
  <dcterms:modified xsi:type="dcterms:W3CDTF">2011-02-21T18:57:35Z</dcterms:modified>
  <cp:revision>40</cp:revision>
  <dc:subject/>
  <dc:title>Слайд 1</dc:title>
</cp:coreProperties>
</file>