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92F61-A79B-4357-8ECF-AD625DF8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E491-9FD5-4832-BFE1-71925A95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EEB4-188E-4D6F-B2A1-76652E70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5E1E-36B2-49C0-8B72-211167FA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BBE3-00AF-41D9-B403-F30CE346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9DA1-4099-444C-8B28-ADCFFBEA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F41A-AB52-4E4D-9A43-0AA01D5C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0FFD-0672-4DC7-A172-783FAC99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E013-0475-4CEE-8849-D234684D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30A1-42F1-46AB-821A-48D64EAF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3378-0ECF-4DF9-A22D-510A7509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B642-282C-48C1-9887-A578C67F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2788-6B6D-42E0-9BFD-44CA627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2E8B-7CFA-47A3-9022-13AE8EC3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A6F8-124A-4AB0-8FB7-4D74962A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9B8F-634F-40D6-AA22-9C61FD33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76F8-0646-4B46-A062-6BB93FA1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55F4-8629-4F0B-9C44-BAE49EDF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6AB2-5BD2-4530-B689-FCC2BD65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893D-09A8-4519-9A66-8989E543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99AB-43D0-4E21-98E0-4DC88D57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2834-0C61-438F-9674-DB97B22C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12D3-34D1-4F33-8E32-7520B783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2A54-C46B-4EB4-8E18-0E3FFC36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F401-1697-4482-B596-D7C1ECB2CA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B347-EDCC-4DBD-B2C8-D8DD944203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hyperlink" Target="http://www.google.com/" TargetMode="External"/><Relationship Id="rId4" Type="http://schemas.openxmlformats.org/officeDocument/2006/relationships/slide" Target="slide13.xml"/><Relationship Id="rId5" Type="http://schemas.openxmlformats.org/officeDocument/2006/relationships/hyperlink" Target="http://www.altavista.com/" TargetMode="External"/><Relationship Id="rId6" Type="http://schemas.openxmlformats.org/officeDocument/2006/relationships/slide" Target="slide14.xml"/><Relationship Id="rId7" Type="http://schemas.openxmlformats.org/officeDocument/2006/relationships/hyperlink" Target="http://www.lycos.com/" TargetMode="External"/><Relationship Id="rId8" Type="http://schemas.openxmlformats.org/officeDocument/2006/relationships/slide" Target="slide15.xml"/><Relationship Id="rId9" Type="http://schemas.openxmlformats.org/officeDocument/2006/relationships/hyperlink" Target="http://www.alltheweb.com/" TargetMode="Externa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hyperlink" Target="http://www.yandex.ru/" TargetMode="External"/><Relationship Id="rId13" Type="http://schemas.openxmlformats.org/officeDocument/2006/relationships/slide" Target="slide17.xml"/><Relationship Id="rId14" Type="http://schemas.openxmlformats.org/officeDocument/2006/relationships/hyperlink" Target="http://www.rambler.ru/" TargetMode="External"/><Relationship Id="rId15" Type="http://schemas.openxmlformats.org/officeDocument/2006/relationships/slide" Target="slide18.xml"/><Relationship Id="rId16" Type="http://schemas.openxmlformats.org/officeDocument/2006/relationships/hyperlink" Target="http://www.aport.ru/" TargetMode="External"/><Relationship Id="rId17" Type="http://schemas.openxmlformats.org/officeDocument/2006/relationships/slide" Target="slide19.xml"/><Relationship Id="rId18" Type="http://schemas.openxmlformats.org/officeDocument/2006/relationships/hyperlink" Target="http://www.gogo.ru/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www.yahoo.com/" TargetMode="External"/><Relationship Id="rId3" Type="http://schemas.openxmlformats.org/officeDocument/2006/relationships/slide" Target="slide6.xml"/><Relationship Id="rId4" Type="http://schemas.openxmlformats.org/officeDocument/2006/relationships/hyperlink" Target="http://www.mckinley.com/" TargetMode="External"/><Relationship Id="rId5" Type="http://schemas.openxmlformats.org/officeDocument/2006/relationships/slide" Target="slide7.xml"/><Relationship Id="rId6" Type="http://schemas.openxmlformats.org/officeDocument/2006/relationships/hyperlink" Target="http://www.webcrawler.com/" TargetMode="External"/><Relationship Id="rId7" Type="http://schemas.openxmlformats.org/officeDocument/2006/relationships/slide" Target="slide8.xml"/><Relationship Id="rId8" Type="http://schemas.openxmlformats.org/officeDocument/2006/relationships/hyperlink" Target="http://www.list.ru/" TargetMode="Externa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hyperlink" Target="http://narod.yandex.ru/rubrics/" TargetMode="External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оиск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нформации </a:t>
            </a: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в </a:t>
            </a: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нтернет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исковые указате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ндексных списк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ексные списки создаются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автоматичес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498920" y="3429000"/>
            <a:ext cx="4321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достат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пускаются ссылки на случайные докумен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 имеющие отношения к указанной тем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Не качествен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борка документ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79280" y="3357720"/>
            <a:ext cx="4824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тоин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Большой охв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есурсов Се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Объектив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Arial"/>
              </a:rPr>
              <a:t>Популярными указателями являются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6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рубежны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Google –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www.google.com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Alta Vista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www.altavista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Lyco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–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www.lycos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Fast Search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www.alltheweb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08360" y="1600200"/>
            <a:ext cx="47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йск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Я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ndex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2"/>
              </a:rPr>
              <a:t>www.yandex.r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3" action="ppaction://hlinksldjump"/>
              </a:rPr>
              <a:t>Рамблер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–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www.rambler.ru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5" action="ppaction://hlinksldjump"/>
              </a:rPr>
              <a:t>Апорт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6"/>
              </a:rPr>
              <a:t>www.aport.r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7" action="ppaction://hlinksldjump"/>
              </a:rPr>
              <a:t>GoGo.ru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8"/>
              </a:rPr>
              <a:t>www.gogo.ru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41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50920" y="1557360"/>
            <a:ext cx="2376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…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AutoShape 6"/>
          <p:cNvSpPr/>
          <p:nvPr/>
        </p:nvSpPr>
        <p:spPr>
          <a:xfrm rot="16200000">
            <a:off x="1115640" y="1484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88"/>
                </a:lnTo>
                <a:cubicBezTo>
                  <a:pt x="10800" y="9888"/>
                  <a:pt x="5400" y="10788"/>
                  <a:pt x="0" y="10788"/>
                </a:cubicBezTo>
                <a:cubicBezTo>
                  <a:pt x="5400" y="10788"/>
                  <a:pt x="10800" y="11688"/>
                  <a:pt x="10800" y="125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900000" y="2276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79280" y="2708280"/>
            <a:ext cx="2592360" cy="279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goog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Arial"/>
              </a:rPr>
              <a:t>Милтон Сирот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Arial"/>
              </a:rPr>
              <a:t>племянник математика Эдварда Кайзе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012000" y="4076640"/>
            <a:ext cx="287964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Поисковая панель </a:t>
            </a:r>
            <a:r>
              <a:rPr b="0" lang="en-US" sz="2800" spc="-1" strike="noStrike">
                <a:solidFill>
                  <a:srgbClr val="000514"/>
                </a:solidFill>
                <a:latin typeface="Arial"/>
              </a:rPr>
              <a:t>Google Toolb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012000" y="1916280"/>
            <a:ext cx="29527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Высокая степень ролевант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340000" y="5589720"/>
            <a:ext cx="4105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Расширенный по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3">
            <a:hlinkClick r:id="rId2" action="ppaction://hlinksldjump"/>
          </p:cNvPr>
          <p:cNvSpPr/>
          <p:nvPr/>
        </p:nvSpPr>
        <p:spPr>
          <a:xfrm>
            <a:off x="6746760" y="6654960"/>
            <a:ext cx="1209960" cy="23004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зател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rcRect l="0" t="0" r="0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0360" y="1557360"/>
            <a:ext cx="2952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Перевод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9280" y="1413000"/>
            <a:ext cx="392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Расширенный поиск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84360" y="3789360"/>
            <a:ext cx="410544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Служба </a:t>
            </a:r>
            <a:r>
              <a:rPr b="0" lang="en-US" sz="2800" spc="-1" strike="noStrike">
                <a:solidFill>
                  <a:srgbClr val="000514"/>
                </a:solidFill>
                <a:latin typeface="Arial"/>
              </a:rPr>
              <a:t>People Finder</a:t>
            </a: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 – поиск информации о человеке по его имени и </a:t>
            </a:r>
            <a:r>
              <a:rPr b="0" lang="en-US" sz="2800" spc="-1" strike="noStrike">
                <a:solidFill>
                  <a:srgbClr val="000514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8">
            <a:hlinkClick r:id="rId2" action="ppaction://hlinksldjump"/>
          </p:cNvPr>
          <p:cNvSpPr/>
          <p:nvPr/>
        </p:nvSpPr>
        <p:spPr>
          <a:xfrm>
            <a:off x="6732720" y="6647040"/>
            <a:ext cx="1209600" cy="21096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зател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"/>
          <p:cNvPicPr/>
          <p:nvPr/>
        </p:nvPicPr>
        <p:blipFill>
          <a:blip r:embed="rId1"/>
          <a:srcRect l="0" t="0" r="0" b="37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6746760" y="6637320"/>
            <a:ext cx="1209960" cy="22068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зател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4360" y="2421000"/>
            <a:ext cx="6193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Поисковый указатель 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Lyc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rcRect l="0" t="0" r="0" b="41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7020000" y="6669000"/>
            <a:ext cx="1209600" cy="189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зател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26920" y="4653000"/>
            <a:ext cx="7632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Поисковый указатель 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Fast Search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rcRect l="0" t="0" r="0" b="39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684360" y="1557360"/>
            <a:ext cx="316836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Региональная «привязк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148360" y="1916280"/>
            <a:ext cx="316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Словоформы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824360" y="3860640"/>
            <a:ext cx="392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Расширенный поиск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971640" y="3860640"/>
            <a:ext cx="287964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Поисковая панель Я</a:t>
            </a:r>
            <a:r>
              <a:rPr b="0" lang="en-US" sz="2800" spc="-1" strike="noStrike">
                <a:solidFill>
                  <a:srgbClr val="000514"/>
                </a:solidFill>
                <a:latin typeface="Arial"/>
              </a:rPr>
              <a:t>ndex.</a:t>
            </a: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Ба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7020000" y="6669000"/>
            <a:ext cx="1209600" cy="189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зател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rcRect l="0" t="0" r="0" b="3943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2843280" y="1628640"/>
            <a:ext cx="392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Расширенный поиск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547640" y="3716280"/>
            <a:ext cx="6193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Arial"/>
              </a:rPr>
              <a:t>Кнопка</a:t>
            </a: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Arial"/>
              </a:rPr>
              <a:t>Восстановить текст</a:t>
            </a: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547640" y="4508640"/>
            <a:ext cx="6120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Самый </a:t>
            </a:r>
            <a:r>
              <a:rPr b="1" lang="ru-RU" sz="2800" spc="-1" strike="noStrike">
                <a:solidFill>
                  <a:srgbClr val="000514"/>
                </a:solidFill>
                <a:latin typeface="Arial"/>
              </a:rPr>
              <a:t>старый </a:t>
            </a: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поисковый указатель Рунета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195640" y="2276640"/>
            <a:ext cx="5113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Arial"/>
              </a:rPr>
              <a:t>&gt;&gt; </a:t>
            </a: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«встроенных» сервисов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7020000" y="6629400"/>
            <a:ext cx="1209600" cy="22860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зател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rcRect l="0" t="0" r="0" b="38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1765440" y="4508640"/>
            <a:ext cx="6119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Самый </a:t>
            </a:r>
            <a:r>
              <a:rPr b="1" lang="ru-RU" sz="2800" spc="-1" strike="noStrike">
                <a:solidFill>
                  <a:srgbClr val="000514"/>
                </a:solidFill>
                <a:latin typeface="Arial"/>
              </a:rPr>
              <a:t>молодой </a:t>
            </a: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поисковый указатель из «большой тройки»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332000" y="2637000"/>
            <a:ext cx="6985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Большое количество настроек поиска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403280" y="3573360"/>
            <a:ext cx="6985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Мощный язык запросов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7020000" y="6629400"/>
            <a:ext cx="1209600" cy="22860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зател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rcRect l="0" t="0" r="0" b="3726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908000" y="5229360"/>
            <a:ext cx="5040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Arial"/>
              </a:rPr>
              <a:t>www.gogo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7236000" y="6637320"/>
            <a:ext cx="1209600" cy="22068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зател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79280" y="1628640"/>
            <a:ext cx="381636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проект Интернет-холдинга Mail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076720" y="1484280"/>
            <a:ext cx="36720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Инвестиции около 700 тысяч долла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76360" y="206064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исковые каталоги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исковые указател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619280" y="76500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ве разновидности поисковых серверов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исковые каталог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ованы по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ерархическому принцип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полняются вручну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пециалистами, обслуживающими данную службу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9280" y="3068640"/>
            <a:ext cx="4321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тоин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Исключаются ссылки на случайные докумен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 имеющие отношения к указанной тем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ивается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хорошее каче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борки документ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859280" y="3141720"/>
            <a:ext cx="468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достат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сительно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небольшой охв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есурсов Се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Субъектив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меры поисковых каталогов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26828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рубежны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Yahoo! –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yahoo.com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Magellan –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www.mckinley.c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WebCrawler –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www.webcrawler.c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7280" y="1341360"/>
            <a:ext cx="478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ссийск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List-Ru –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www.list.r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Narod -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http://narod.yandex.ru/rubrics/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5">
            <a:hlinkClick r:id="rId12" action="ppaction://hlinksldjump"/>
          </p:cNvPr>
          <p:cNvSpPr/>
          <p:nvPr/>
        </p:nvSpPr>
        <p:spPr>
          <a:xfrm>
            <a:off x="7451640" y="6237360"/>
            <a:ext cx="1368360" cy="3585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указател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971640" y="2276640"/>
            <a:ext cx="36003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70 % поисковых запросов в мир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979640" y="3500280"/>
            <a:ext cx="42480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Самый крупный, самый авторитетный и самый старый портал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348000" y="5084640"/>
            <a:ext cx="4392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Тематические разделы – автономные каталог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8">
            <a:hlinkClick r:id="rId2" action="ppaction://hlinksldjump"/>
          </p:cNvPr>
          <p:cNvSpPr/>
          <p:nvPr/>
        </p:nvSpPr>
        <p:spPr>
          <a:xfrm>
            <a:off x="7812000" y="6627960"/>
            <a:ext cx="1079640" cy="23004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талог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2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763640" y="2637000"/>
            <a:ext cx="6553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Посковый каталог 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Magel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6">
            <a:hlinkClick r:id="rId2" action="ppaction://hlinksldjump"/>
          </p:cNvPr>
          <p:cNvSpPr/>
          <p:nvPr/>
        </p:nvSpPr>
        <p:spPr>
          <a:xfrm>
            <a:off x="7164360" y="6620040"/>
            <a:ext cx="1079640" cy="23796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талог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rcRect l="0" t="0" r="0" b="3642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971640" y="5084640"/>
            <a:ext cx="7057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Поисковый каталог 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6">
            <a:hlinkClick r:id="rId2" action="ppaction://hlinksldjump"/>
          </p:cNvPr>
          <p:cNvSpPr/>
          <p:nvPr/>
        </p:nvSpPr>
        <p:spPr>
          <a:xfrm>
            <a:off x="7164360" y="6624720"/>
            <a:ext cx="1079640" cy="23328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талог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rcRect l="0" t="0" r="0" b="36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395280" y="2133720"/>
            <a:ext cx="1727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6 лет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835280" y="4653000"/>
            <a:ext cx="6697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Входит в состав портала 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Mail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763640" y="3789360"/>
            <a:ext cx="5256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000</a:t>
            </a: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 ссылок в каталог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651640" y="5516640"/>
            <a:ext cx="2879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Цензура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95280" y="2924280"/>
            <a:ext cx="4392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Arial"/>
              </a:rPr>
              <a:t>Региональные ресурс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0">
            <a:hlinkClick r:id="rId2" action="ppaction://hlinksldjump"/>
          </p:cNvPr>
          <p:cNvSpPr/>
          <p:nvPr/>
        </p:nvSpPr>
        <p:spPr>
          <a:xfrm>
            <a:off x="7020000" y="6629400"/>
            <a:ext cx="1057320" cy="22860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талог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rcRect l="0" t="0" r="0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50920" y="2997360"/>
            <a:ext cx="49672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.000 ссылок в каталог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42920" y="4005360"/>
            <a:ext cx="4967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Arial"/>
              </a:rPr>
              <a:t>Каталог личных сай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>
            <a:hlinkClick r:id="rId2" action="ppaction://hlinksldjump"/>
          </p:cNvPr>
          <p:cNvSpPr/>
          <p:nvPr/>
        </p:nvSpPr>
        <p:spPr>
          <a:xfrm>
            <a:off x="7020000" y="6629400"/>
            <a:ext cx="1079280" cy="22860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талог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3:29:50Z</dcterms:created>
  <dc:creator>Надежда</dc:creator>
  <dc:description/>
  <dc:language>en-US</dc:language>
  <cp:lastModifiedBy>Admin</cp:lastModifiedBy>
  <dcterms:modified xsi:type="dcterms:W3CDTF">2011-03-17T07:38:53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