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B20B1-51DE-40B5-A582-BCEBBE54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1B4DB-0925-45C1-9F4A-339D9E01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E2C8-90B0-4DCF-9366-EAEB8548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210C-7DD4-4A54-8FDC-A5B3A004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01A5-35B8-4883-90D4-3518C5A6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BB75-04FF-4F9F-A50B-26C86C0F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9EA9-6B33-46A9-89BE-4252BED6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620C-E3BB-43EC-A58A-E6F1EBD6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5A08-8A87-4334-B9D1-A4B1E16B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63E7-928B-4135-A37F-91089BAB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E114-4236-4DBE-B4F5-6B90E3B0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B664E-29F9-4FC0-B7C0-AD97F46A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C55D-0FAD-4688-B46A-92FA1465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0643-4804-452B-B0C8-1B1AA24B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C247-F931-4A88-B6CB-3274252B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B47F-3C68-4FA1-BCCC-7C9662C7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4127-A9D6-4DE6-B66D-2CE7B3AB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F0A74-BED5-40C4-881E-04661BDC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ECDB4-A98D-44C4-BFA9-EFA39747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54915-F42B-40F8-B81B-E0FBC834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1C5B2-7FDF-4737-B4C4-C582831F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3FE84-3058-4CDF-8C08-32CB3822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4C3A1-714B-4951-B598-5DB56D02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C31D3-5EA8-4ECE-BC97-BE7C4779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9B30-F529-44D5-94B4-444537A335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D889-0375-49B9-A070-7EFC5F8108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1.ppt#9." TargetMode="External"/><Relationship Id="rId2" Type="http://schemas.openxmlformats.org/officeDocument/2006/relationships/hyperlink" Target="file:///&#1055;&#1088;&#1077;&#1079;&#1077;&#1085;&#1090;&#1072;&#1094;&#1080;&#1103;1.ppt#11. &#1054;&#1089;&#1086;&#1073;&#1077;&#1085;&#1085;&#1086;&#1089;&#1090;&#1080; &#1089;&#1077;&#1084;&#1077;&#1081;&#1085;&#1086;&#1075;&#1086; &#1074;&#1086;&#1089;&#1087;&#1080;&#1090;&#1072;&#1085;&#1080;&#1103;.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Родительское собрание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0" y="1773360"/>
            <a:ext cx="44578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редным привычкам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ажем "НЕТ!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429264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Выработка стратегий поведения родит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сь  слушать и понимать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енок должен знать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м интересны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енний мир,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живания и трев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пытайтесь понять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о беспокоит, ка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блемы он пыт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ь в настоя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. Выразите св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зусловную любовь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му, веру в его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648320" y="1600200"/>
            <a:ext cx="4244760" cy="4525920"/>
            <a:chOff x="4648320" y="1600200"/>
            <a:chExt cx="4244760" cy="452592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24476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 txBox="1"/>
            <p:nvPr/>
          </p:nvSpPr>
          <p:spPr>
            <a:xfrm>
              <a:off x="4648320" y="1600200"/>
              <a:ext cx="424476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493236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одумайте о своем прим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 предположить, что кто-то поверит советам родителей, злоупотребляющий курение и алкого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Давайте советы, но не давите сов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росток с детства стремится вырваться из под диктата взрослых.  Надо с детства ставить ребенка в ситуации, когда он должен самостоятельно что-то реш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896000" y="1341360"/>
            <a:ext cx="4248000" cy="3178080"/>
            <a:chOff x="4896000" y="1341360"/>
            <a:chExt cx="4248000" cy="317808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896000" y="1341360"/>
              <a:ext cx="4248000" cy="31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 txBox="1"/>
            <p:nvPr/>
          </p:nvSpPr>
          <p:spPr>
            <a:xfrm>
              <a:off x="4896000" y="1341360"/>
              <a:ext cx="4248000" cy="317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0384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Почаще задавайте детям во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«Что думаешь об этом? А как бы поступил твой приятель? А ты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Не поступайтесь твердостью ре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старайтесь сохранять открытость в общении с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Научите ребенка говорить «спасибо, н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Поддерживайте в ребенке самоуважение и думайте о его саморе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0" y="981000"/>
            <a:ext cx="4384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395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спитательное воздейств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дь то профилактическое действие или решение существующих проблем, должно строи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принципах уважени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924360" y="1844640"/>
            <a:ext cx="5219640" cy="3468600"/>
            <a:chOff x="3924360" y="1844640"/>
            <a:chExt cx="5219640" cy="346860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3924360" y="1844640"/>
              <a:ext cx="5219640" cy="34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 txBox="1"/>
            <p:nvPr/>
          </p:nvSpPr>
          <p:spPr>
            <a:xfrm>
              <a:off x="3924360" y="1844640"/>
              <a:ext cx="5219640" cy="346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395280" y="1413000"/>
            <a:ext cx="3960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внимание!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классного руководителя 7-а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СОШ №1, г.Данилова Ярославской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новой Н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и: Родительские собрания: 7класс/Авт.-сост.О.В.Дюкина.-М.:ВАКО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640" y="620640"/>
            <a:ext cx="5327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ростковый возрас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64000" y="2349360"/>
            <a:ext cx="2355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348000" y="3573360"/>
            <a:ext cx="487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искованное поведение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441972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084720" y="189000"/>
            <a:ext cx="28400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472392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Заставляют действова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920" y="1628640"/>
            <a:ext cx="2449440" cy="143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ЗН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156360" y="1628640"/>
            <a:ext cx="273672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Щ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627280" y="3500280"/>
            <a:ext cx="4249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МОУТВЕРЖДЕН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32000" y="2060640"/>
            <a:ext cx="2819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ОВЫ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ЩУЩЕН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341960" y="4595760"/>
            <a:ext cx="976320" cy="6588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64520 h 658800"/>
              <a:gd name="textAreaBottom" fmla="*/ 494280 h 65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-360" y="1628640"/>
            <a:ext cx="41403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 из самых простых и быстрых способов удовлетворения потребностей подрос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вной алкоголизм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ая проблема стра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татистике Минздрава РФ в Москве около 60% молодежи страдает пивным алкоголиз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103640" y="1557360"/>
            <a:ext cx="5040360" cy="4525920"/>
            <a:chOff x="4103640" y="1557360"/>
            <a:chExt cx="5040360" cy="452592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4103640" y="1557360"/>
              <a:ext cx="504036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 txBox="1"/>
            <p:nvPr/>
          </p:nvSpPr>
          <p:spPr>
            <a:xfrm>
              <a:off x="4103640" y="1557360"/>
              <a:ext cx="504036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2124000" y="404640"/>
            <a:ext cx="511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ЛКОГОЛ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кторы рис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овышающие вероятность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ннего приобщения ребенка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алкоголю или кур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8229600" cy="29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Государственная полит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иологические факт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Характерологические особенности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Особенности семейного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0" y="1412640"/>
            <a:ext cx="518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детей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 неустойчивым типом акцентуации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арактер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кая переключаем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возможность длительно сосредотачиваться на выполнении зад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ыстрая утомляемость, вызванная даже не очень сложной работ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асто не доводят дело до кон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ыстрые перепады настро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рко выражена жажда развлеч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иск новых ощущ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ому такие дети легко идут на «эксперименты» с алкоголем,  курением, наркот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60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Акцентуация харак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чрезмерное заострение некоторых личностных чер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56360" y="1555200"/>
            <a:ext cx="388764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нимания требуют и дети с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стероидным типом акцентуаци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и отличаются сильнейшим желанием постоянно быть в центре внимания окружающих (не важно, хвалят их или осуждаю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и могут использовать алкоголь, курить даже не потому, что это им нравится, а для того, чтобы завоевать авторитет, подчеркнуть свою значим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и подвержены внешнему влия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Важно!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суметь научить ребен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гулировать своё состоя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довлетворять потребность в получении удовольствия за счет разнообразных источников, не разрушающих его физическое и психическое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103640" y="1413000"/>
            <a:ext cx="5040360" cy="384480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7812000" y="5877000"/>
            <a:ext cx="682560" cy="539640"/>
          </a:xfrm>
          <a:custGeom>
            <a:avLst/>
            <a:gdLst>
              <a:gd name="textAreaLeft" fmla="*/ 34920 w 682560"/>
              <a:gd name="textAreaRight" fmla="*/ 647640 w 6825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7317" h="21600">
                <a:moveTo>
                  <a:pt x="0" y="0"/>
                </a:moveTo>
                <a:lnTo>
                  <a:pt x="27317" y="0"/>
                </a:lnTo>
                <a:lnTo>
                  <a:pt x="27317" y="21600"/>
                </a:lnTo>
                <a:lnTo>
                  <a:pt x="0" y="21600"/>
                </a:lnTo>
                <a:close/>
              </a:path>
              <a:path fill="lightenLess" w="27317" h="21600">
                <a:moveTo>
                  <a:pt x="0" y="0"/>
                </a:moveTo>
                <a:lnTo>
                  <a:pt x="27317" y="0"/>
                </a:lnTo>
                <a:lnTo>
                  <a:pt x="25917" y="1400"/>
                </a:lnTo>
                <a:lnTo>
                  <a:pt x="1400" y="1400"/>
                </a:lnTo>
                <a:close/>
              </a:path>
              <a:path fill="darken" w="27317" h="21600">
                <a:moveTo>
                  <a:pt x="27317" y="0"/>
                </a:moveTo>
                <a:lnTo>
                  <a:pt x="27317" y="21600"/>
                </a:lnTo>
                <a:lnTo>
                  <a:pt x="25917" y="20200"/>
                </a:lnTo>
                <a:lnTo>
                  <a:pt x="25917" y="1400"/>
                </a:lnTo>
                <a:close/>
              </a:path>
              <a:path fill="darkenLess" w="27317" h="21600">
                <a:moveTo>
                  <a:pt x="27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17" y="20200"/>
                </a:lnTo>
                <a:close/>
              </a:path>
              <a:path fill="lighten" w="27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17" h="21600">
                <a:moveTo>
                  <a:pt x="1365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317" h="21600">
                <a:moveTo>
                  <a:pt x="1365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317" h="21600">
                <a:moveTo>
                  <a:pt x="11082" y="8224"/>
                </a:moveTo>
                <a:lnTo>
                  <a:pt x="14947" y="8224"/>
                </a:lnTo>
                <a:lnTo>
                  <a:pt x="14947" y="15221"/>
                </a:lnTo>
                <a:lnTo>
                  <a:pt x="16235" y="15221"/>
                </a:lnTo>
                <a:lnTo>
                  <a:pt x="16235" y="16144"/>
                </a:lnTo>
                <a:lnTo>
                  <a:pt x="11082" y="16144"/>
                </a:lnTo>
                <a:lnTo>
                  <a:pt x="11082" y="15221"/>
                </a:lnTo>
                <a:lnTo>
                  <a:pt x="12370" y="15221"/>
                </a:lnTo>
                <a:lnTo>
                  <a:pt x="12370" y="9129"/>
                </a:lnTo>
                <a:lnTo>
                  <a:pt x="11082" y="912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Особенности 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семейного воспита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0384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чень опасно семей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ание по ти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ИПООПЕ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недост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нимания и забот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этом дети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тролируются, оказыв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оставленными сами себ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ич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небрежение родительскими обязанност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янные конфликты между родител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ая загруженность родителей  на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0" y="15570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асен и противоположный ти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ания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ИПЕРОПЕК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и э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ролируют каждый шаг ребе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дают проявить самостоятель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енок не может отстаивать своё м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48360" y="4862520"/>
            <a:ext cx="298764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Очень важн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0435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арактер атмосферы, складывающийся до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ей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ади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или отсутствие эмоциональной близости и доверия между взросл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80000" y="1484280"/>
            <a:ext cx="5364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08:58:30Z</dcterms:created>
  <dc:creator>зам по УВР</dc:creator>
  <dc:description/>
  <dc:language>en-US</dc:language>
  <cp:lastModifiedBy>Admin</cp:lastModifiedBy>
  <dcterms:modified xsi:type="dcterms:W3CDTF">2012-02-19T17:51:44Z</dcterms:modified>
  <cp:revision>17</cp:revision>
  <dc:subject/>
  <dc:title>Слайд 1</dc:title>
</cp:coreProperties>
</file>