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E32-D7AF-4DD3-8CF7-2C70BF72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2BFE-41DE-4036-91A7-3C81BC16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F8A-75D8-4471-A24C-EAEC67D6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EB4E-FBD3-45FD-8ED5-ACCEF682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990C-94CC-4974-9CA1-E35CC44F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788F-71DF-4A42-8003-FC99E182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7DD8-17D8-4B97-8BE8-32665C2D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7174-3E8C-40BB-B933-64F3E1A7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005-3533-432A-8750-F03C6370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8875-2F08-4F07-B4D1-091451C1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9C86-1CEA-42F6-9711-102330C8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B4E-8FF8-4367-A0A6-542F1172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7D3C-7F71-4BEE-B41A-91A8B20BB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35000"/>
            <a:ext cx="8713800" cy="6535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16000" y="1413000"/>
            <a:ext cx="734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Урок математи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Вычитание числа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408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64000" y="765000"/>
            <a:ext cx="41353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Выч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Уменьшаем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Вычитаем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      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Раз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      -       1          =       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297000"/>
            <a:ext cx="8713800" cy="6427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83080" y="1576440"/>
            <a:ext cx="46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Тема урока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Вычитание числ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8720" y="2060640"/>
            <a:ext cx="624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Цели урока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Нахождение значений разнос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которых вычитаемое равно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0560" y="2759040"/>
            <a:ext cx="4395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Найти разность и записать в тетрад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Найти значение раз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Работа в парах и с рису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Самостоятельная работа в Т-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Самооц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18520" y="1552680"/>
            <a:ext cx="37774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Задача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Прочитать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Поду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Назвать раз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Записать в тетр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Найти значение раз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Сделать выв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408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137040" y="549360"/>
            <a:ext cx="54871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зультатом вычитания числа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 данного числа будет чис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торое предшествует данном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06480" y="1628640"/>
            <a:ext cx="60908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Задание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Рассмотреть рису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Объясни, как ты понимаешь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Составь математическую зап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Ответь на вопро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23840"/>
            <a:ext cx="9144000" cy="6734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92360" y="1844640"/>
            <a:ext cx="2879640" cy="2452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991240" y="260280"/>
            <a:ext cx="31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Физкультмину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243000"/>
            <a:ext cx="8785440" cy="6426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06880" y="1844640"/>
            <a:ext cx="45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Работа в печатных тетрад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87240" y="2492280"/>
            <a:ext cx="439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Выполни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Сравни с карточ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Оцени результат работ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713800" cy="6535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56000" y="1197000"/>
            <a:ext cx="5677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ыполнено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верно – 5 балов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 ошибка – 4 ба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en-US" sz="3600" spc="-1" strike="noStrike">
                <a:solidFill>
                  <a:srgbClr val="003300"/>
                </a:solidFill>
                <a:latin typeface="Times New Roman"/>
              </a:rPr>
              <a:t>2 ошибки – 3 ба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692360" y="1844640"/>
            <a:ext cx="2879640" cy="2452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063240" y="136440"/>
            <a:ext cx="331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Физкультмину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71360"/>
            <a:ext cx="8785440" cy="6497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323080" y="1238400"/>
            <a:ext cx="388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44760" y="1484280"/>
            <a:ext cx="4399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от и прозвенел зво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чинается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чень тихо вы садит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 работать не ленитес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408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327480" y="56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7240" y="765000"/>
            <a:ext cx="5304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т и подошёл к концу наш у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Над какой темой вы работа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Какая перед вами стояла це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Достигли поставленной ц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65720" y="1982880"/>
            <a:ext cx="5684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Большое всем спасиб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Вы очень хорошо потруди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Покажите своё настро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солнышком или туч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Спасиб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796000" y="3429000"/>
            <a:ext cx="3049560" cy="3129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95280" y="3429000"/>
            <a:ext cx="3052800" cy="3067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851280" y="119160"/>
            <a:ext cx="2924280" cy="3309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68360" y="404640"/>
            <a:ext cx="1271520" cy="1143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333080" y="1773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imes New Roman"/>
              </a:rPr>
              <a:t>Молодц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442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47640" y="1700280"/>
            <a:ext cx="651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Весёлый устный         счёт в стиха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228600"/>
            <a:ext cx="8713800" cy="644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19280" y="1052640"/>
            <a:ext cx="643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а коньках катались дет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сех их вместе было деся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емь мальчишек среди н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 девчонок? Сколько и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386064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0-7=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34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35280" y="549360"/>
            <a:ext cx="583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ве большие га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Шли домой с рыба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сумке каждая из 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ять лещей несла больш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ыбок засоли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считать забы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колько рыбок га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несли с рыбал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11240" y="44370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+5=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76520" y="735120"/>
            <a:ext cx="4646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ша Маша рано вста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кол всех пересчит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ве Аринки на – перин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ве матрёшки – на окош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ве Феклушки – на подуш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всех, не перече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ечайте точно -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19640" y="4221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+2+2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46240" y="765000"/>
            <a:ext cx="5272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Шёл мышонок – сладкоеж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ёс сестрёнке три оре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авда, сам не утерп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ва орешка всё же съ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даёт сестр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колько ты всего принё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32000" y="4149720"/>
            <a:ext cx="18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2=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426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64400" y="1700280"/>
            <a:ext cx="5115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смонавтом хочешь ст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учись писать, ре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то примеры все решит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 ракете уле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260280"/>
            <a:ext cx="83516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419640" y="620640"/>
            <a:ext cx="745920" cy="5763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84720" y="620640"/>
            <a:ext cx="674640" cy="62712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620640"/>
            <a:ext cx="673200" cy="647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4360" y="620640"/>
            <a:ext cx="576360" cy="62712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43640" y="620640"/>
            <a:ext cx="603360" cy="62712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16720" y="692280"/>
            <a:ext cx="64764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1484280"/>
            <a:ext cx="484200" cy="6271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24360" y="1557360"/>
            <a:ext cx="555480" cy="5540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557360"/>
            <a:ext cx="503280" cy="5540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1557360"/>
            <a:ext cx="554040" cy="5047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1484280"/>
            <a:ext cx="504720" cy="576360"/>
          </a:xfrm>
          <a:prstGeom prst="sun">
            <a:avLst>
              <a:gd name="adj" fmla="val 223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88000" y="1557360"/>
            <a:ext cx="554040" cy="4824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08720" y="1484280"/>
            <a:ext cx="576360" cy="6271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80360" y="1413000"/>
            <a:ext cx="57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2565360"/>
            <a:ext cx="841320" cy="7714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2708280"/>
            <a:ext cx="984240" cy="698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88000" y="2637000"/>
            <a:ext cx="912600" cy="7696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4360" y="2637000"/>
            <a:ext cx="986040" cy="7696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80360" y="2637000"/>
            <a:ext cx="720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45280" y="359424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ставьте математически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0:03:50Z</dcterms:created>
  <dc:creator>WORK</dc:creator>
  <dc:description/>
  <dc:language>en-US</dc:language>
  <cp:lastModifiedBy>WORK</cp:lastModifiedBy>
  <dcterms:modified xsi:type="dcterms:W3CDTF">2012-02-08T14:22:23Z</dcterms:modified>
  <cp:revision>2</cp:revision>
  <dc:subject/>
  <dc:title>Слайд 1</dc:title>
</cp:coreProperties>
</file>