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B876-D492-49B1-B655-252CE5BA7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248B-4565-419F-A483-473CE9E3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4CD5-9D1C-473E-A071-9C8ED19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AA0D-3722-419E-8712-6F21F38BF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43D16-7795-4063-86D4-3F248834F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4014A-67C7-4917-9545-EDB12E1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23A82-9F62-4C5C-B67B-8A393E2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22FE4-7DC4-4355-96FD-9E06583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DE730-B5E5-425A-A52E-75D6B14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A235E-58EE-4007-A273-288CE82B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0F7AA-F521-4382-B3DE-6876C4D7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065A-2014-4F94-B967-0A5783D4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9DADC-7656-42FB-A430-F97C5268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AFEA-3D5C-4DBF-9915-D869DE86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E08A-7DC4-4873-9A2F-E318D00E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8C326-EACB-44BA-8681-CF682B1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8CA57-D43C-4A55-9F96-BB6BFAA0C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A7B-DED6-40AF-9BDF-113F7A9EB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B5B-9B55-4BA9-BD96-F403A13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D1B-BAD4-46A5-AB3C-5BB9ACD5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1C25-C6B0-45EB-B039-5575D00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E629-E8FB-4F60-B9C3-0406BBAA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FA68-8A19-4888-97C8-9F21EBA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B15-8FC4-40DC-8C23-189F615F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D0D8-8C05-49D4-BA53-D7357A1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D92D-6311-4E6F-8065-7C0208B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CE5F-68B6-4E1B-9BC0-C0CD32A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208-180A-4E74-97DC-EA355224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C5B-4F0E-4931-9538-5C51334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0F9-8120-4F68-97E0-FBEAC0CDC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D3686-23A7-4C8D-94B2-5CE8451639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4E6F3-28B6-4F5A-835C-CA292BDA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ED22D-1A48-48AA-AE9D-6447D901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9E19-BA95-49FB-9CA1-ECE4581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4B7E0-1394-4C54-8B01-1DED109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8C04B-0B81-4384-9E5C-FD2D9BAD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6D435-31A4-4AA4-B56A-76B7475C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80F79-BCC0-4F3B-845F-680A4D3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32038-07C2-469B-933F-6B61F663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D7F85-4CFB-46B2-9830-DB2D786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EC5C2-C00B-4230-AB8C-9792121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09C3A-4608-485D-82DD-42F743A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34AB6-9012-488E-9E9A-7A4EA8A9C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E8AC4-AC2E-4CE0-8A1A-18B051942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AED0-DB0F-4566-9031-A3F43DF8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8272C-A65A-4659-883E-22B0E406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532F7-3FE1-4ACD-9983-8750E04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4C415-3E6F-48BF-A2D3-BB8CFB3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DD2F4-90C1-4A52-9485-6441B1FF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B3407-712F-4387-9543-0813D13F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108D6-A38F-4594-A76A-B21BC476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94C34-ECD7-4B1D-AA5B-419585A2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F1065-3491-481E-A0B3-EAA8F6D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86D36-C43D-4F1A-ADE5-B9B55286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E9361-0DD4-4BAF-9E6D-A33F0B0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E83C-079B-4CFF-B0A2-A7540BE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B0AA3-3EA2-43DE-A378-AA8C91E57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E376-F847-4EE5-A6C0-63F4C94BC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BADC-3AA9-43A8-943F-D6F7904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DA84-1740-43EC-AFF9-5784D0E4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4986-452E-49CD-899D-0FD95E3D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1D03-3331-48A0-B1EC-75206A9E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875D-8A72-43FB-9C42-48E56B3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0A59-B12D-4F28-8E15-F46CAFA7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8E04-AC48-40A5-B88E-297B7C3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E68A-9821-44FF-9059-87FEB52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14DB-E50D-48B0-A17E-C4CADC79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2DF6-7327-462D-9653-CF0D9CCC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A74B-B476-42BD-83E2-A894889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E304D-B3EE-4CB1-9353-446AFC2814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13AF0-CEB2-474E-978C-3EC3953C3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082F1-FAD8-49F4-A3C8-24CC585E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C7CEB-4667-4FD8-BD97-8476932A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D7BB2-AF1A-41D1-998B-51B9AA8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B49B4-5773-475D-82D8-41999E40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CF429-8772-4DCE-8311-D700FAE6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20EB4-87FC-4A65-8940-9615D43D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24F5-7872-4B2B-98DA-B64B5A6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31B7F-C4CE-4E9E-88C2-506CF17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711E4-229A-4F6A-9C0E-F09CD61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B02BD-5EFB-4E4F-A6EC-38906D7A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8C169-3BF0-4788-9C9F-DFAED06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D3C35-91F3-4440-97D3-82B00A4BE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BF8A-AC3E-48E4-9424-74E5913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440"/>
            <a:ext cx="21319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872A49-84E9-4472-9F70-6A90AE75B09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95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B7087F-AA2B-4A5D-B93B-47CC0D4DCADB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1240" y="6480000"/>
            <a:ext cx="21319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33C445-28FB-4B7B-A9B4-A2537496851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228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58198F-787F-4E7F-ABE0-93149DDE7D4D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790880" y="6481440"/>
            <a:ext cx="21286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3A6F55-1974-44DD-94E5-9FDD4351B7F3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6278040" y="6556320"/>
            <a:ext cx="21322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E1A0A7-E91D-411D-A174-5972C7DCDA4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02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913083-AEFD-42FC-AD5A-D599D8E13D8E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566640" y="281160"/>
            <a:ext cx="8069400" cy="1479240"/>
            <a:chOff x="566640" y="281160"/>
            <a:chExt cx="8069400" cy="1479240"/>
          </a:xfrm>
        </p:grpSpPr>
        <p:pic>
          <p:nvPicPr>
            <p:cNvPr id="302" name="Picture 2" descr=""/>
            <p:cNvPicPr/>
            <p:nvPr/>
          </p:nvPicPr>
          <p:blipFill>
            <a:blip r:embed="rId1"/>
            <a:stretch/>
          </p:blipFill>
          <p:spPr>
            <a:xfrm>
              <a:off x="566640" y="281160"/>
              <a:ext cx="8069400" cy="14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"/>
            <p:cNvSpPr/>
            <p:nvPr/>
          </p:nvSpPr>
          <p:spPr>
            <a:xfrm>
              <a:off x="566640" y="281160"/>
              <a:ext cx="8069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4"/>
          <p:cNvGrpSpPr/>
          <p:nvPr/>
        </p:nvGrpSpPr>
        <p:grpSpPr>
          <a:xfrm>
            <a:off x="433440" y="2109960"/>
            <a:ext cx="8580240" cy="1900080"/>
            <a:chOff x="433440" y="2109960"/>
            <a:chExt cx="8580240" cy="1900080"/>
          </a:xfrm>
        </p:grpSpPr>
        <p:pic>
          <p:nvPicPr>
            <p:cNvPr id="305" name="Picture 5" descr=""/>
            <p:cNvPicPr/>
            <p:nvPr/>
          </p:nvPicPr>
          <p:blipFill>
            <a:blip r:embed="rId2"/>
            <a:stretch/>
          </p:blipFill>
          <p:spPr>
            <a:xfrm>
              <a:off x="433440" y="2109960"/>
              <a:ext cx="85802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6"/>
            <p:cNvSpPr/>
            <p:nvPr/>
          </p:nvSpPr>
          <p:spPr>
            <a:xfrm>
              <a:off x="433440" y="2109960"/>
              <a:ext cx="8580240" cy="19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7"/>
          <p:cNvSpPr/>
          <p:nvPr/>
        </p:nvSpPr>
        <p:spPr>
          <a:xfrm>
            <a:off x="642960" y="4071960"/>
            <a:ext cx="407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Составитель: учитель  природоведения и географ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Тунина Дарья Анато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3571920" y="357120"/>
            <a:ext cx="5214960" cy="6134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214280" y="214200"/>
            <a:ext cx="2928960" cy="37245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214200" y="428616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entury Gothic"/>
              </a:rPr>
              <a:t>Марс 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– красноватая планета, напоминающая своим цветом огонь и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Поверхность планеты – пустыни, кратеры, го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4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"/>
          <p:cNvGrpSpPr/>
          <p:nvPr/>
        </p:nvGrpSpPr>
        <p:grpSpPr>
          <a:xfrm>
            <a:off x="500040" y="1785960"/>
            <a:ext cx="8227800" cy="4784400"/>
            <a:chOff x="500040" y="1785960"/>
            <a:chExt cx="8227800" cy="4784400"/>
          </a:xfrm>
        </p:grpSpPr>
        <p:sp>
          <p:nvSpPr>
            <p:cNvPr id="343" name="Rectangle 5"/>
            <p:cNvSpPr/>
            <p:nvPr/>
          </p:nvSpPr>
          <p:spPr>
            <a:xfrm>
              <a:off x="500040" y="1785960"/>
              <a:ext cx="1828080" cy="97416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Название плане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2328120" y="1785960"/>
              <a:ext cx="2284920" cy="97416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Происхождение наз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7"/>
            <p:cNvSpPr/>
            <p:nvPr/>
          </p:nvSpPr>
          <p:spPr>
            <a:xfrm>
              <a:off x="4613400" y="1785960"/>
              <a:ext cx="2056680" cy="97416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Наличие атмосферы, её соста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8"/>
            <p:cNvSpPr/>
            <p:nvPr/>
          </p:nvSpPr>
          <p:spPr>
            <a:xfrm>
              <a:off x="6670080" y="1785960"/>
              <a:ext cx="2056680" cy="97416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Наличие спутников, их чис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500040" y="2760120"/>
              <a:ext cx="1828080" cy="10245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2328120" y="2760120"/>
              <a:ext cx="2284920" cy="10245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4613400" y="2760120"/>
              <a:ext cx="2056680" cy="10245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6670080" y="2760120"/>
              <a:ext cx="2056680" cy="10245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3"/>
            <p:cNvSpPr/>
            <p:nvPr/>
          </p:nvSpPr>
          <p:spPr>
            <a:xfrm>
              <a:off x="500040" y="3784680"/>
              <a:ext cx="1828080" cy="7851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2328120" y="3784680"/>
              <a:ext cx="2284920" cy="7851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>
              <a:off x="4613400" y="3784680"/>
              <a:ext cx="2056680" cy="7851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6"/>
            <p:cNvSpPr/>
            <p:nvPr/>
          </p:nvSpPr>
          <p:spPr>
            <a:xfrm>
              <a:off x="6670080" y="3784680"/>
              <a:ext cx="2056680" cy="7851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7"/>
            <p:cNvSpPr/>
            <p:nvPr/>
          </p:nvSpPr>
          <p:spPr>
            <a:xfrm>
              <a:off x="500040" y="4569840"/>
              <a:ext cx="1828080" cy="9993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>
              <a:off x="2328120" y="4569840"/>
              <a:ext cx="2284920" cy="9993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4613400" y="4569840"/>
              <a:ext cx="2056680" cy="9993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0"/>
            <p:cNvSpPr/>
            <p:nvPr/>
          </p:nvSpPr>
          <p:spPr>
            <a:xfrm>
              <a:off x="6670080" y="4569840"/>
              <a:ext cx="2056680" cy="99936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500040" y="5569200"/>
              <a:ext cx="1828080" cy="9993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2328120" y="5569200"/>
              <a:ext cx="2284920" cy="9993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4613400" y="5569200"/>
              <a:ext cx="2056680" cy="9993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6670080" y="5569200"/>
              <a:ext cx="2056680" cy="99936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5"/>
            <p:cNvSpPr/>
            <p:nvPr/>
          </p:nvSpPr>
          <p:spPr>
            <a:xfrm>
              <a:off x="2328120" y="1785960"/>
              <a:ext cx="1080" cy="47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6"/>
            <p:cNvSpPr/>
            <p:nvPr/>
          </p:nvSpPr>
          <p:spPr>
            <a:xfrm>
              <a:off x="4613400" y="1785960"/>
              <a:ext cx="1080" cy="47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7"/>
            <p:cNvSpPr/>
            <p:nvPr/>
          </p:nvSpPr>
          <p:spPr>
            <a:xfrm>
              <a:off x="6670080" y="1785960"/>
              <a:ext cx="1080" cy="47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"/>
            <p:cNvSpPr/>
            <p:nvPr/>
          </p:nvSpPr>
          <p:spPr>
            <a:xfrm>
              <a:off x="500040" y="2760120"/>
              <a:ext cx="822672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500040" y="3784680"/>
              <a:ext cx="8226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00040" y="4569840"/>
              <a:ext cx="82267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00040" y="5569200"/>
              <a:ext cx="8226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00040" y="1785960"/>
              <a:ext cx="1080" cy="47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8726760" y="1785960"/>
              <a:ext cx="1080" cy="478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00040" y="1785960"/>
              <a:ext cx="82267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35"/>
            <p:cNvSpPr/>
            <p:nvPr/>
          </p:nvSpPr>
          <p:spPr>
            <a:xfrm>
              <a:off x="500040" y="6568920"/>
              <a:ext cx="8226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Text Box 36"/>
          <p:cNvSpPr/>
          <p:nvPr/>
        </p:nvSpPr>
        <p:spPr>
          <a:xfrm>
            <a:off x="571680" y="3000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5698"/>
                </a:solidFill>
                <a:latin typeface="Century Gothic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2357280" y="2786040"/>
            <a:ext cx="235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Свое название она получила в честь одного из древнеримских бог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8"/>
          <p:cNvSpPr/>
          <p:nvPr/>
        </p:nvSpPr>
        <p:spPr>
          <a:xfrm>
            <a:off x="4643280" y="30002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не имеет атмосф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6715080" y="30002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Спутников у него н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0"/>
          <p:cNvSpPr/>
          <p:nvPr/>
        </p:nvSpPr>
        <p:spPr>
          <a:xfrm>
            <a:off x="57168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5698"/>
                </a:solidFill>
                <a:latin typeface="Century Gothic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2357280" y="385776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Названа в честь римской богини любви и красо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4714920" y="371484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имеет плотную, облачную атмосферу из углекислого га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6786720" y="3929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Спутников не име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642960" y="4786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5698"/>
                </a:solidFill>
                <a:latin typeface="Century Gothic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5"/>
          <p:cNvSpPr/>
          <p:nvPr/>
        </p:nvSpPr>
        <p:spPr>
          <a:xfrm>
            <a:off x="4643280" y="4643280"/>
            <a:ext cx="2071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5698"/>
                </a:solidFill>
                <a:latin typeface="Century Gothic"/>
              </a:rPr>
              <a:t>атмосфера, образованную азотом, кислородом и небольшим количеством углекислого газ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6"/>
          <p:cNvSpPr/>
          <p:nvPr/>
        </p:nvSpPr>
        <p:spPr>
          <a:xfrm>
            <a:off x="6786720" y="478620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Имеет 1 спутник - ЛУ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7"/>
          <p:cNvSpPr/>
          <p:nvPr/>
        </p:nvSpPr>
        <p:spPr>
          <a:xfrm>
            <a:off x="571680" y="57150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5698"/>
                </a:solidFill>
                <a:latin typeface="Century Gothic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8"/>
          <p:cNvSpPr/>
          <p:nvPr/>
        </p:nvSpPr>
        <p:spPr>
          <a:xfrm>
            <a:off x="2428920" y="557208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Получила свое название в честь древнеримского бога вой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4643280" y="5572080"/>
            <a:ext cx="20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5698"/>
                </a:solidFill>
                <a:latin typeface="Century Gothic"/>
              </a:rPr>
              <a:t>Тонкая разряженная атмосфера, которая образованная в основном углекислым газ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6786720" y="571500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5698"/>
                </a:solidFill>
                <a:latin typeface="Century Gothic"/>
              </a:rPr>
              <a:t>Имеет 2 спутника – Деймос и Фобо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51"/>
          <p:cNvSpPr/>
          <p:nvPr/>
        </p:nvSpPr>
        <p:spPr>
          <a:xfrm>
            <a:off x="3071880" y="5000760"/>
            <a:ext cx="78588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071720" y="28584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5698"/>
                </a:solidFill>
                <a:latin typeface="Century Gothic"/>
              </a:rPr>
              <a:t>С помощью учебника заполните таблиц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285840" y="2071800"/>
            <a:ext cx="34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4e003f"/>
                </a:solidFill>
                <a:uFillTx/>
                <a:latin typeface="Monotype Corsiva"/>
              </a:rPr>
              <a:t>Меркур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85840" y="300024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4e003f"/>
                </a:solidFill>
                <a:uFillTx/>
                <a:latin typeface="Monotype Corsiva"/>
              </a:rPr>
              <a:t>Венера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57120" y="407196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4e003f"/>
                </a:solidFill>
                <a:uFillTx/>
                <a:latin typeface="Monotype Corsiva"/>
              </a:rPr>
              <a:t>Земл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428760" y="52149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4e003f"/>
                </a:solidFill>
                <a:uFillTx/>
                <a:latin typeface="Monotype Corsiva"/>
              </a:rPr>
              <a:t>Мар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214880" y="1657440"/>
            <a:ext cx="4500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имеет белые полярные шапки из замерзшей смеси воды и углекислого г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имеет плотную, облачную атмосферу из углекислого га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не имеет атмосф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населена живыми организм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9"/>
          <p:cNvCxnSpPr/>
          <p:nvPr/>
        </p:nvCxnSpPr>
        <p:spPr>
          <a:xfrm>
            <a:off x="2967120" y="2881080"/>
            <a:ext cx="1015200" cy="1989720"/>
          </a:xfrm>
          <a:prstGeom prst="straightConnector1">
            <a:avLst/>
          </a:prstGeom>
          <a:ln w="28440">
            <a:solidFill>
              <a:srgbClr val="4e003f"/>
            </a:solidFill>
            <a:miter/>
            <a:tailEnd len="med" type="triangle" w="med"/>
          </a:ln>
        </p:spPr>
      </p:cxnSp>
      <p:cxnSp>
        <p:nvCxnSpPr>
          <p:cNvPr id="400" name="AutoShape 10"/>
          <p:cNvCxnSpPr/>
          <p:nvPr/>
        </p:nvCxnSpPr>
        <p:spPr>
          <a:xfrm>
            <a:off x="2518920" y="3600000"/>
            <a:ext cx="1529640" cy="41760"/>
          </a:xfrm>
          <a:prstGeom prst="straightConnector1">
            <a:avLst/>
          </a:prstGeom>
          <a:ln w="28440">
            <a:solidFill>
              <a:srgbClr val="4e003f"/>
            </a:solidFill>
            <a:miter/>
            <a:tailEnd len="med" type="triangle" w="med"/>
          </a:ln>
        </p:spPr>
      </p:cxnSp>
      <p:cxnSp>
        <p:nvCxnSpPr>
          <p:cNvPr id="401" name="AutoShape 11"/>
          <p:cNvCxnSpPr/>
          <p:nvPr/>
        </p:nvCxnSpPr>
        <p:spPr>
          <a:xfrm>
            <a:off x="2071440" y="4571640"/>
            <a:ext cx="2143800" cy="1429560"/>
          </a:xfrm>
          <a:prstGeom prst="straightConnector1">
            <a:avLst/>
          </a:prstGeom>
          <a:ln w="28440">
            <a:solidFill>
              <a:srgbClr val="4e003f"/>
            </a:solidFill>
            <a:miter/>
            <a:tailEnd len="med" type="triangle" w="med"/>
          </a:ln>
        </p:spPr>
      </p:cxnSp>
      <p:cxnSp>
        <p:nvCxnSpPr>
          <p:cNvPr id="402" name="AutoShape 12"/>
          <p:cNvCxnSpPr/>
          <p:nvPr/>
        </p:nvCxnSpPr>
        <p:spPr>
          <a:xfrm flipV="1">
            <a:off x="2143080" y="2428560"/>
            <a:ext cx="2000880" cy="3286800"/>
          </a:xfrm>
          <a:prstGeom prst="straightConnector1">
            <a:avLst/>
          </a:prstGeom>
          <a:ln w="28440">
            <a:solidFill>
              <a:srgbClr val="4e003f"/>
            </a:solidFill>
            <a:miter/>
            <a:tailEnd len="med" type="triangle" w="med"/>
          </a:ln>
        </p:spPr>
      </p:cxn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"/>
          <p:cNvGrpSpPr/>
          <p:nvPr/>
        </p:nvGrpSpPr>
        <p:grpSpPr>
          <a:xfrm>
            <a:off x="0" y="0"/>
            <a:ext cx="9142560" cy="6713640"/>
            <a:chOff x="0" y="0"/>
            <a:chExt cx="9142560" cy="6713640"/>
          </a:xfrm>
        </p:grpSpPr>
        <p:pic>
          <p:nvPicPr>
            <p:cNvPr id="40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"/>
            <p:cNvSpPr/>
            <p:nvPr/>
          </p:nvSpPr>
          <p:spPr>
            <a:xfrm>
              <a:off x="0" y="0"/>
              <a:ext cx="91425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4"/>
          <p:cNvGrpSpPr/>
          <p:nvPr/>
        </p:nvGrpSpPr>
        <p:grpSpPr>
          <a:xfrm>
            <a:off x="285840" y="1285920"/>
            <a:ext cx="8240760" cy="1425600"/>
            <a:chOff x="285840" y="1285920"/>
            <a:chExt cx="8240760" cy="1425600"/>
          </a:xfrm>
        </p:grpSpPr>
        <p:pic>
          <p:nvPicPr>
            <p:cNvPr id="407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1285920"/>
              <a:ext cx="82407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6"/>
            <p:cNvSpPr/>
            <p:nvPr/>
          </p:nvSpPr>
          <p:spPr>
            <a:xfrm>
              <a:off x="285840" y="1285920"/>
              <a:ext cx="824076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7"/>
          <p:cNvSpPr/>
          <p:nvPr/>
        </p:nvSpPr>
        <p:spPr>
          <a:xfrm>
            <a:off x="-3736800" y="3252960"/>
            <a:ext cx="16612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41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4"/>
          <p:cNvSpPr/>
          <p:nvPr/>
        </p:nvSpPr>
        <p:spPr>
          <a:xfrm>
            <a:off x="142920" y="185724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74304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Century Gothic"/>
              <a:buAutoNum type="arabicParenR"/>
              <a:tabLst>
                <a:tab algn="l" pos="1270080"/>
                <a:tab algn="l" pos="2184480"/>
                <a:tab algn="l" pos="3098880"/>
                <a:tab algn="l" pos="4013280"/>
                <a:tab algn="l" pos="4927680"/>
                <a:tab algn="l" pos="5842080"/>
                <a:tab algn="l" pos="6756480"/>
                <a:tab algn="l" pos="7670880"/>
                <a:tab algn="l" pos="8585280"/>
                <a:tab algn="l" pos="9499680"/>
                <a:tab algn="l" pos="10414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Изучить текст на стр. 34 – 38 учеб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04960" indent="-743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70080"/>
                <a:tab algn="l" pos="2184480"/>
                <a:tab algn="l" pos="3098880"/>
                <a:tab algn="l" pos="4013280"/>
                <a:tab algn="l" pos="4927680"/>
                <a:tab algn="l" pos="5842080"/>
                <a:tab algn="l" pos="6756480"/>
                <a:tab algn="l" pos="7670880"/>
                <a:tab algn="l" pos="8585280"/>
                <a:tab algn="l" pos="9499680"/>
                <a:tab algn="l" pos="10414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04960" indent="-74304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Century Gothic"/>
              <a:buAutoNum type="arabicParenR"/>
              <a:tabLst>
                <a:tab algn="l" pos="1270080"/>
                <a:tab algn="l" pos="2184480"/>
                <a:tab algn="l" pos="3098880"/>
                <a:tab algn="l" pos="4013280"/>
                <a:tab algn="l" pos="4927680"/>
                <a:tab algn="l" pos="5842080"/>
                <a:tab algn="l" pos="6756480"/>
                <a:tab algn="l" pos="7670880"/>
                <a:tab algn="l" pos="8585280"/>
                <a:tab algn="l" pos="9499680"/>
                <a:tab algn="l" pos="10414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Выполнить задание 1 письменно в рубрике «Подумайт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0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GOST type B"/>
              <a:buAutoNum type="arabicPeriod"/>
              <a:tabLst>
                <a:tab algn="l" pos="1041480"/>
                <a:tab algn="l" pos="1955880"/>
                <a:tab algn="l" pos="2870280"/>
                <a:tab algn="l" pos="3784680"/>
                <a:tab algn="l" pos="4699080"/>
                <a:tab algn="l" pos="5613480"/>
                <a:tab algn="l" pos="6527880"/>
                <a:tab algn="l" pos="7442280"/>
                <a:tab algn="l" pos="8356680"/>
                <a:tab algn="l" pos="9271080"/>
                <a:tab algn="l" pos="1018548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GOST type B"/>
              </a:rPr>
              <a:t>Учащиеся должны знать состав Солнечной системы; планеты земной группы и их характеристи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636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GOST type B"/>
              <a:buAutoNum type="arabicPeriod"/>
              <a:tabLst>
                <a:tab algn="l" pos="1041480"/>
                <a:tab algn="l" pos="1955880"/>
                <a:tab algn="l" pos="2870280"/>
                <a:tab algn="l" pos="3784680"/>
                <a:tab algn="l" pos="4699080"/>
                <a:tab algn="l" pos="5613480"/>
                <a:tab algn="l" pos="6527880"/>
                <a:tab algn="l" pos="7442280"/>
                <a:tab algn="l" pos="8356680"/>
                <a:tab algn="l" pos="9271080"/>
                <a:tab algn="l" pos="1018548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GOST type B"/>
              </a:rPr>
              <a:t>Уметь логически мыслить; анализировать, сравнивать, делать выводы; работать с текстом учебника, извлекать из него нужную информацию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"/>
          <p:cNvGrpSpPr/>
          <p:nvPr/>
        </p:nvGrpSpPr>
        <p:grpSpPr>
          <a:xfrm>
            <a:off x="450720" y="262080"/>
            <a:ext cx="8240760" cy="1406520"/>
            <a:chOff x="450720" y="262080"/>
            <a:chExt cx="8240760" cy="1406520"/>
          </a:xfrm>
        </p:grpSpPr>
        <p:pic>
          <p:nvPicPr>
            <p:cNvPr id="31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"/>
            <p:cNvSpPr/>
            <p:nvPr/>
          </p:nvSpPr>
          <p:spPr>
            <a:xfrm>
              <a:off x="450720" y="262080"/>
              <a:ext cx="82407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041480"/>
                <a:tab algn="l" pos="1955880"/>
                <a:tab algn="l" pos="2870280"/>
                <a:tab algn="l" pos="3784680"/>
                <a:tab algn="l" pos="4699080"/>
                <a:tab algn="l" pos="5613480"/>
                <a:tab algn="l" pos="6527880"/>
                <a:tab algn="l" pos="7442280"/>
                <a:tab algn="l" pos="8356680"/>
                <a:tab algn="l" pos="9271080"/>
                <a:tab algn="l" pos="1018548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Чем система мира, созданная Коперником, отличалась от системы мира по Птолемею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636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041480"/>
                <a:tab algn="l" pos="1955880"/>
                <a:tab algn="l" pos="2870280"/>
                <a:tab algn="l" pos="3784680"/>
                <a:tab algn="l" pos="4699080"/>
                <a:tab algn="l" pos="5613480"/>
                <a:tab algn="l" pos="6527880"/>
                <a:tab algn="l" pos="7442280"/>
                <a:tab algn="l" pos="8356680"/>
                <a:tab algn="l" pos="9271080"/>
                <a:tab algn="l" pos="1018548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Какой вклад внес Дж. Бруно в развитии взглядов о Вселенной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636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041480"/>
                <a:tab algn="l" pos="1955880"/>
                <a:tab algn="l" pos="2870280"/>
                <a:tab algn="l" pos="3784680"/>
                <a:tab algn="l" pos="4699080"/>
                <a:tab algn="l" pos="5613480"/>
                <a:tab algn="l" pos="6527880"/>
                <a:tab algn="l" pos="7442280"/>
                <a:tab algn="l" pos="8356680"/>
                <a:tab algn="l" pos="9271080"/>
                <a:tab algn="l" pos="1018548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Какую модель Вселенной предлагает современная наука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214200" y="0"/>
            <a:ext cx="8572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Что представляет собой Солнечная систем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285840" y="4287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На какие две группы делятся планет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285840" y="22860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afd1"/>
                </a:solidFill>
                <a:latin typeface="Century Gothic"/>
              </a:rPr>
              <a:t>1)  </a:t>
            </a:r>
            <a:r>
              <a:rPr b="1" lang="en-GB" sz="5400" spc="-1" strike="noStrike">
                <a:solidFill>
                  <a:srgbClr val="ffafd1"/>
                </a:solidFill>
                <a:latin typeface="Century Gothic"/>
              </a:rPr>
              <a:t>Планеты земной групп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71680" y="44290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afd1"/>
                </a:solidFill>
                <a:latin typeface="Century Gothic"/>
              </a:rPr>
              <a:t>2)  </a:t>
            </a:r>
            <a:r>
              <a:rPr b="1" lang="en-GB" sz="5400" spc="-1" strike="noStrike">
                <a:solidFill>
                  <a:srgbClr val="ffafd1"/>
                </a:solidFill>
                <a:latin typeface="Century Gothic"/>
              </a:rPr>
              <a:t>Планеты – гигант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643960" cy="5154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"/>
          <p:cNvSpPr/>
          <p:nvPr/>
        </p:nvSpPr>
        <p:spPr>
          <a:xfrm>
            <a:off x="2000160" y="4572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4e003f"/>
                </a:solidFill>
                <a:latin typeface="Century Gothic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786120" y="471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4e003f"/>
                </a:solidFill>
                <a:latin typeface="Century Gothic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5715000" y="4714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4e003f"/>
                </a:solidFill>
                <a:latin typeface="Century Gothic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572240" y="471492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4e003f"/>
                </a:solidFill>
                <a:latin typeface="Century Gothic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28760" y="2858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c99ff"/>
                </a:solidFill>
                <a:latin typeface="Century Gothic"/>
              </a:rPr>
              <a:t>Самостоятельно или с помощью учебника подпишите на рисунке названия планет земной группы</a:t>
            </a:r>
            <a:r>
              <a:rPr b="0" lang="en-GB" sz="2400" spc="-1" strike="noStrike">
                <a:solidFill>
                  <a:srgbClr val="2c71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5072040" y="428760"/>
            <a:ext cx="3143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entury Gothic"/>
              </a:rPr>
              <a:t>Меркурий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 – самая близкая к Солнцу планета. Свое название она получила в честь одного из древнеримских б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857840" y="3286080"/>
            <a:ext cx="4000320" cy="2940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4425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4429080" cy="5092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500720" y="285840"/>
            <a:ext cx="4357440" cy="25797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4786200" y="321480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entury Gothic"/>
              </a:rPr>
              <a:t>Венера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получила свое название в честь римской богини любви и красоты. На небе она сияет ярче всех звезд и хорошо видна невооруженным глаз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3214800" y="214200"/>
            <a:ext cx="5643360" cy="6364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428840" y="3929040"/>
            <a:ext cx="2571840" cy="23576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214200" y="515880"/>
            <a:ext cx="30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Земл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самая большая из планет земной груп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а имеет атмосферу, образованную азотом, кислородом и небольшим количеством углекислого г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о главное отличие Земли от других планет состоит в том, что только на ней есть жиз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1-03-29T14:05:43Z</dcterms:modified>
  <cp:revision>1</cp:revision>
  <dc:subject/>
  <dc:title>Удмуртская Республика, Вавожский район МОУ Волипельгинская СОШ  </dc:title>
</cp:coreProperties>
</file>