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5DA-F952-469B-AC0C-D37A8C8C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C93-26EB-467E-8AD6-567BA53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551-5079-483D-9374-4C0802DF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9AB-1380-49F4-A297-0C6F13B5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AB8-0F1E-491E-8B2C-EE537589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462-1965-4C6A-B3FA-4AF292AA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7CE9-5F78-4668-9D0C-F71C03F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4077-1A56-4E5C-87D2-F2A877C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656D-9690-467B-820A-B6A6B4F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01D-41AA-46FC-A6BC-497224EC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B3E8-108E-42E1-A830-0F83F075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4DA-49E3-416D-99B9-483D88F4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E58-118F-48F6-858D-047E2B6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E5FE-A414-4658-906A-04B054C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00A0-764C-448A-B4A4-6D453268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5A7-0E2F-4DC2-9176-F5EA28C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C9E7-2A22-4E30-BC66-5E50F5E5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BAA-D62B-4A70-870E-019BA56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109-595D-45DB-9DA3-FC47664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500-D1EC-47F4-94A9-4DF48D6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3BA-F210-40BF-ABEE-D85A306D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B7C-40A9-42B2-BB69-62762EE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5B9-9E66-4E43-B966-2F8A5E5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936-F8EC-41FB-BD26-0CCAA68F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865-EFF6-4374-A777-A3FFC5E700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4FCF-F7C7-4095-A45E-D4C198F26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й рук-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о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йте ситуацию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упорство ребенка в достижении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Требования классного руководителя к учащим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Е заполнение днев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ВРЕМЯ приходить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ПАЗДЫВАТЬ на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ПУСКАТЬ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 быть ГОТОВЫМ к каждому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нная обу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ко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учащимися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уговые классные часы «День именинни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ный час «Правонарушения и ребен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ый классный час по здоровьесбере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ча с героями-афганцами, воинами чеченск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и в картинную галерею, районную библиот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олекторий в МЦ «Бригантина» по вредным привыч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я по Ярославлю или Ярославск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щешкольные меропри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нний празд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БИ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ел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ма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огодние ё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родителями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 «Наши трудные дети», ноябр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ие вечера с детьми (1-2 раза в г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92360" y="2492280"/>
            <a:ext cx="65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тоги за прошлый …. учебный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 и его роль в самообразовании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воспитательной работы 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луго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.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учебного года – 26 чел., к концу года – 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учащиеся переведены в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авнении с успеваемостью в начальной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чащихся имеют стабильную 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успеваемость повысилась (…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изила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рошис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тли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дение успеваем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условлена факто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груженность учебной программы 5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й преемственностью учебных предметов, а также общеучебных умений, навыков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шла хор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с желанием идут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овали в общественной жизни школы и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ли с учителями общий язык; ребята не грубые, воспит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етей устойчивое хороше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ваемость на уровне 4 класса или чуть н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ель учебной деятельности учащихся в …. учебном году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ь самостоятельное образование путем участия в проектных и исследовательских рабо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ржать успеваемость на уровне 6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3933720"/>
            <a:ext cx="2016360" cy="201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ункции домашнего зад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внивание знаний и умений ребенка, его навыков в том случае, если он долго болел и много пропустил или не усвоил сложную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учащихся, желание знать как можно больше по предмету или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я помочь, не пытайтесь сделать работу за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ТЕ ему найти смысл задания, НАПРАВЬТЕ его на нужное решение, помогите найти нужную информацию, не отмахивайтесь от вопросов, НАУЧИТЕ как можно работать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облегчить своему ребенку выполнение домашних заданий, покупайте ему словари, энциклопедии, справочные пособия, справочники на информационных носит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5:25Z</dcterms:created>
  <dc:creator>Ученик</dc:creator>
  <dc:description/>
  <dc:language>en-US</dc:language>
  <cp:lastModifiedBy>зам по УВР</cp:lastModifiedBy>
  <dcterms:modified xsi:type="dcterms:W3CDTF">2012-02-20T11:38:22Z</dcterms:modified>
  <cp:revision>6</cp:revision>
  <dc:subject/>
  <dc:title>Родительское собрание</dc:title>
</cp:coreProperties>
</file>