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6F7-5152-405D-8374-81B282F6B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FD53-A1F6-48FC-8598-6A479FA83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DC7-0FD7-40E0-A447-0A24D6C7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E75-30CC-41B4-8892-DE203959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607-A3C7-4FFD-9734-D5C38D04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6AB-BD4F-4095-A06B-4F43D815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21C-AA8F-430C-AB0D-D22F6E88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1AF-0746-4271-A44A-545D5A8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8A7-7D3C-4DEC-B43B-C3B53CDF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837-05A7-4777-92E2-A36B7F07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8DD-4651-4634-A590-941B845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350-5E9D-455C-9A73-51325180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7A0-10B7-4460-AB04-69ECAB5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E55-634B-4E9A-A9E4-3815179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934-3DCA-47BC-8231-DC37D3A2D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54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ложение и вычитание смешанных чис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1"/>
          <p:cNvSpPr/>
          <p:nvPr/>
        </p:nvSpPr>
        <p:spPr>
          <a:xfrm>
            <a:off x="900000" y="692280"/>
            <a:ext cx="7417080" cy="25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2695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4427640" cy="1752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5580000" y="1417320"/>
            <a:ext cx="7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6443640" y="836640"/>
            <a:ext cx="17906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900000" y="692280"/>
            <a:ext cx="7417080" cy="25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4362480" cy="2219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1790640" cy="2219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7"/>
          <p:cNvSpPr/>
          <p:nvPr/>
        </p:nvSpPr>
        <p:spPr>
          <a:xfrm>
            <a:off x="611280" y="549360"/>
            <a:ext cx="770580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5220000" cy="1752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443640" y="692280"/>
            <a:ext cx="1790640" cy="22190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611280" y="549360"/>
            <a:ext cx="8353440" cy="28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2288880" cy="1859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5908680" cy="1656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193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611280" y="189000"/>
            <a:ext cx="633708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4681440" cy="1803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5"/>
          <p:cNvGrpSpPr/>
          <p:nvPr/>
        </p:nvGrpSpPr>
        <p:grpSpPr>
          <a:xfrm>
            <a:off x="611280" y="1916280"/>
            <a:ext cx="6337080" cy="1728720"/>
            <a:chOff x="611280" y="1916280"/>
            <a:chExt cx="6337080" cy="1728720"/>
          </a:xfrm>
        </p:grpSpPr>
        <p:sp>
          <p:nvSpPr>
            <p:cNvPr id="84" name="Прямоугольник 10"/>
            <p:cNvSpPr/>
            <p:nvPr/>
          </p:nvSpPr>
          <p:spPr>
            <a:xfrm>
              <a:off x="611280" y="1916280"/>
              <a:ext cx="6337080" cy="165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"/>
            <p:cNvPicPr/>
            <p:nvPr/>
          </p:nvPicPr>
          <p:blipFill>
            <a:blip r:embed="rId2"/>
            <a:stretch/>
          </p:blipFill>
          <p:spPr>
            <a:xfrm>
              <a:off x="971280" y="1916280"/>
              <a:ext cx="574632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16"/>
          <p:cNvGrpSpPr/>
          <p:nvPr/>
        </p:nvGrpSpPr>
        <p:grpSpPr>
          <a:xfrm>
            <a:off x="611280" y="3573360"/>
            <a:ext cx="6337080" cy="1656000"/>
            <a:chOff x="611280" y="3573360"/>
            <a:chExt cx="6337080" cy="1656000"/>
          </a:xfrm>
        </p:grpSpPr>
        <p:sp>
          <p:nvSpPr>
            <p:cNvPr id="88" name="Прямоугольник 14"/>
            <p:cNvSpPr/>
            <p:nvPr/>
          </p:nvSpPr>
          <p:spPr>
            <a:xfrm>
              <a:off x="611280" y="3573360"/>
              <a:ext cx="6337080" cy="165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7" descr=""/>
            <p:cNvPicPr/>
            <p:nvPr/>
          </p:nvPicPr>
          <p:blipFill>
            <a:blip r:embed="rId3"/>
            <a:stretch/>
          </p:blipFill>
          <p:spPr>
            <a:xfrm>
              <a:off x="899280" y="3645360"/>
              <a:ext cx="5297760" cy="151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43920" cy="33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rcRect l="2630" t="3233" r="2630" b="0"/>
          <a:stretch/>
        </p:blipFill>
        <p:spPr>
          <a:xfrm>
            <a:off x="468360" y="3573360"/>
            <a:ext cx="8136000" cy="3284640"/>
          </a:xfrm>
          <a:prstGeom prst="rect">
            <a:avLst/>
          </a:prstGeom>
          <a:ln w="0">
            <a:noFill/>
          </a:ln>
        </p:spPr>
      </p:pic>
      <p:sp>
        <p:nvSpPr>
          <p:cNvPr id="92" name="Ink 4"/>
          <p:cNvSpPr/>
          <p:nvPr/>
        </p:nvSpPr>
        <p:spPr>
          <a:xfrm>
            <a:off x="6002280" y="4316400"/>
            <a:ext cx="92160" cy="268200"/>
          </a:xfrm>
          <a:custGeom>
            <a:avLst/>
            <a:gdLst/>
            <a:ahLst/>
            <a:rect l="l" t="t" r="r" b="b"/>
            <a:pathLst>
              <a:path w="255" h="745">
                <a:moveTo>
                  <a:pt x="16782" y="11992"/>
                </a:moveTo>
                <a:cubicBezTo>
                  <a:pt x="16775" y="12021"/>
                  <a:pt x="16764" y="12032"/>
                  <a:pt x="16764" y="12065"/>
                </a:cubicBezTo>
                <a:cubicBezTo>
                  <a:pt x="16764" y="12083"/>
                  <a:pt x="16764" y="12101"/>
                  <a:pt x="16764" y="12119"/>
                </a:cubicBezTo>
                <a:cubicBezTo>
                  <a:pt x="16737" y="12129"/>
                  <a:pt x="16746" y="12141"/>
                  <a:pt x="16746" y="12174"/>
                </a:cubicBezTo>
                <a:cubicBezTo>
                  <a:pt x="16746" y="12180"/>
                  <a:pt x="16746" y="12186"/>
                  <a:pt x="16746" y="12192"/>
                </a:cubicBezTo>
                <a:cubicBezTo>
                  <a:pt x="16730" y="12197"/>
                  <a:pt x="16717" y="12223"/>
                  <a:pt x="16710" y="12246"/>
                </a:cubicBezTo>
                <a:cubicBezTo>
                  <a:pt x="16702" y="12271"/>
                  <a:pt x="16699" y="12296"/>
                  <a:pt x="16691" y="12319"/>
                </a:cubicBezTo>
                <a:cubicBezTo>
                  <a:pt x="16684" y="12339"/>
                  <a:pt x="16678" y="12353"/>
                  <a:pt x="16673" y="12373"/>
                </a:cubicBezTo>
                <a:cubicBezTo>
                  <a:pt x="16752" y="12373"/>
                  <a:pt x="16830" y="12373"/>
                  <a:pt x="16909" y="12373"/>
                </a:cubicBezTo>
              </a:path>
              <a:path w="255" h="745">
                <a:moveTo>
                  <a:pt x="16909" y="12156"/>
                </a:moveTo>
                <a:cubicBezTo>
                  <a:pt x="16903" y="12150"/>
                  <a:pt x="16897" y="12144"/>
                  <a:pt x="16891" y="12138"/>
                </a:cubicBezTo>
                <a:cubicBezTo>
                  <a:pt x="16891" y="12216"/>
                  <a:pt x="16891" y="12295"/>
                  <a:pt x="16891" y="12373"/>
                </a:cubicBezTo>
                <a:cubicBezTo>
                  <a:pt x="16864" y="12383"/>
                  <a:pt x="16873" y="12395"/>
                  <a:pt x="16873" y="12428"/>
                </a:cubicBezTo>
                <a:cubicBezTo>
                  <a:pt x="16873" y="12525"/>
                  <a:pt x="16863" y="12633"/>
                  <a:pt x="16891" y="12718"/>
                </a:cubicBezTo>
                <a:cubicBezTo>
                  <a:pt x="16891" y="12724"/>
                  <a:pt x="16891" y="12730"/>
                  <a:pt x="16891" y="12736"/>
                </a:cubicBezTo>
              </a:path>
              <a:path w="255" h="745">
                <a:moveTo>
                  <a:pt x="16800" y="12011"/>
                </a:moveTo>
                <a:cubicBezTo>
                  <a:pt x="16800" y="12047"/>
                  <a:pt x="16800" y="12083"/>
                  <a:pt x="16800" y="12119"/>
                </a:cubicBezTo>
                <a:cubicBezTo>
                  <a:pt x="16773" y="12129"/>
                  <a:pt x="16782" y="12141"/>
                  <a:pt x="16782" y="12174"/>
                </a:cubicBezTo>
                <a:cubicBezTo>
                  <a:pt x="16782" y="12180"/>
                  <a:pt x="16782" y="12186"/>
                  <a:pt x="16782" y="12192"/>
                </a:cubicBezTo>
                <a:cubicBezTo>
                  <a:pt x="16743" y="12205"/>
                  <a:pt x="16781" y="12215"/>
                  <a:pt x="16764" y="12246"/>
                </a:cubicBezTo>
                <a:cubicBezTo>
                  <a:pt x="16748" y="12277"/>
                  <a:pt x="16746" y="12282"/>
                  <a:pt x="16746" y="12319"/>
                </a:cubicBezTo>
                <a:cubicBezTo>
                  <a:pt x="16719" y="12328"/>
                  <a:pt x="16728" y="12341"/>
                  <a:pt x="16728" y="12373"/>
                </a:cubicBezTo>
                <a:cubicBezTo>
                  <a:pt x="16728" y="12379"/>
                  <a:pt x="16728" y="12386"/>
                  <a:pt x="16728" y="12392"/>
                </a:cubicBezTo>
                <a:cubicBezTo>
                  <a:pt x="16774" y="12392"/>
                  <a:pt x="16799" y="12397"/>
                  <a:pt x="16837" y="12410"/>
                </a:cubicBezTo>
                <a:cubicBezTo>
                  <a:pt x="16869" y="12420"/>
                  <a:pt x="16905" y="12409"/>
                  <a:pt x="16927" y="12392"/>
                </a:cubicBezTo>
              </a:path>
              <a:path w="255" h="745">
                <a:moveTo>
                  <a:pt x="16909" y="12156"/>
                </a:moveTo>
                <a:cubicBezTo>
                  <a:pt x="16902" y="12184"/>
                  <a:pt x="16891" y="12196"/>
                  <a:pt x="16891" y="12228"/>
                </a:cubicBezTo>
                <a:cubicBezTo>
                  <a:pt x="16891" y="12300"/>
                  <a:pt x="16921" y="12684"/>
                  <a:pt x="16873" y="12700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250920" y="0"/>
            <a:ext cx="3673440" cy="666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828720" cy="1476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819160" cy="1485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1200240" cy="1485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395280" y="5084640"/>
            <a:ext cx="2714760" cy="1476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4"/>
          <p:cNvSpPr/>
          <p:nvPr/>
        </p:nvSpPr>
        <p:spPr>
          <a:xfrm>
            <a:off x="4788000" y="0"/>
            <a:ext cx="3960720" cy="666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0" y="193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6"/>
          <a:stretch/>
        </p:blipFill>
        <p:spPr>
          <a:xfrm>
            <a:off x="4788000" y="1844640"/>
            <a:ext cx="3914640" cy="1476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193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"/>
          <p:cNvPicPr/>
          <p:nvPr/>
        </p:nvPicPr>
        <p:blipFill>
          <a:blip r:embed="rId7"/>
          <a:stretch/>
        </p:blipFill>
        <p:spPr>
          <a:xfrm>
            <a:off x="6012000" y="3429000"/>
            <a:ext cx="828360" cy="1476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0" y="193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0" descr=""/>
          <p:cNvPicPr/>
          <p:nvPr/>
        </p:nvPicPr>
        <p:blipFill>
          <a:blip r:embed="rId8"/>
          <a:stretch/>
        </p:blipFill>
        <p:spPr>
          <a:xfrm>
            <a:off x="5219640" y="5084640"/>
            <a:ext cx="27147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10:57Z</dcterms:created>
  <dc:creator>Ирина</dc:creator>
  <dc:description/>
  <dc:language>en-US</dc:language>
  <cp:lastModifiedBy>Ирина</cp:lastModifiedBy>
  <dcterms:modified xsi:type="dcterms:W3CDTF">2012-02-06T17:07:55Z</dcterms:modified>
  <cp:revision>5</cp:revision>
  <dc:subject/>
  <dc:title>Слайд 1</dc:title>
</cp:coreProperties>
</file>