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D00-8B80-43F5-BEEF-E178E3113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A745-3DB3-4415-BE4B-18DBEC327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52520" y="873000"/>
            <a:ext cx="4159440" cy="3119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9720" y="4351320"/>
            <a:ext cx="5037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C5E-679D-4D9C-97F5-497F1C75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495-515B-44F8-9FEA-33DCB988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CF1-AEBF-4D9E-A456-BC6D6FC6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93A-02DA-4FD4-AE06-A5660138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A2C-3DE9-4ACF-8DDA-4D48DA20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B2F-58AA-4643-ADBF-E1675F4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081-CF7E-4A9E-9EC7-CA2C809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D32-BA54-4B95-899B-DD300F6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32A-0E80-4EBF-BF14-A3229165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094-9F97-4BB9-9166-8A36F0F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30B-6801-441D-A979-39DE1A90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771-D0DE-441D-A1DC-C6E4A0DC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C919-4C1A-49D6-91FC-2B4AEF3C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ff89"/>
            </a:gs>
            <a:gs pos="100000">
              <a:srgbClr val="f6f6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OCR A Extended"/>
              </a:rPr>
              <a:t>Ситуация по ВИЧ</a:t>
            </a:r>
            <a:r>
              <a:rPr b="1" lang="en-US" sz="4000" spc="-1" strike="noStrike">
                <a:solidFill>
                  <a:srgbClr val="ffff00"/>
                </a:solidFill>
                <a:latin typeface="OCR A Extended"/>
              </a:rPr>
              <a:t>/</a:t>
            </a:r>
            <a:r>
              <a:rPr b="1" lang="ru-RU" sz="4000" spc="-1" strike="noStrike">
                <a:solidFill>
                  <a:srgbClr val="ffff00"/>
                </a:solidFill>
                <a:latin typeface="OCR A Extended"/>
              </a:rPr>
              <a:t>СПИДу в Америке и Афр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Lucida Console"/>
              </a:rPr>
              <a:t>Среди континентов лидирует Америка, на втором месте Африка, и на третьем Евро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Lucida Console"/>
              </a:rPr>
              <a:t>СПИД-основная причина смертности в Аф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317f"/>
                </a:solidFill>
                <a:latin typeface="OCR A Extended"/>
              </a:rPr>
              <a:t>Ситуация по ВИЧ</a:t>
            </a:r>
            <a:r>
              <a:rPr b="1" lang="en-US" sz="4000" spc="-1" strike="noStrike">
                <a:solidFill>
                  <a:srgbClr val="fd317f"/>
                </a:solidFill>
                <a:latin typeface="OCR A Extended"/>
              </a:rPr>
              <a:t>-</a:t>
            </a:r>
            <a:r>
              <a:rPr b="1" lang="ru-RU" sz="4000" spc="-1" strike="noStrike">
                <a:solidFill>
                  <a:srgbClr val="fd317f"/>
                </a:solidFill>
                <a:latin typeface="OCR A Extended"/>
              </a:rPr>
              <a:t>инфекции в Санкт-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20051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51"/>
                </a:solidFill>
                <a:latin typeface="Lucida Console"/>
              </a:rPr>
              <a:t>На 2006 год в Санкт-Петербурге распространенность ВИЧ-инфекции находилась на уровне 625,8 на 100 тысяч жителей(0,6% всего насел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20051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51"/>
                </a:solidFill>
                <a:latin typeface="Lucida Console"/>
              </a:rPr>
              <a:t>На этом основании СПБ включен в число пяти субъектов РФ с наиболее высоким уровнем поражения населения вирусом иммунодефицит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лобальные данные по эпидемии ВИ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ПИ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762440"/>
        </p:xfrm>
        <a:graphic>
          <a:graphicData uri="http://schemas.openxmlformats.org/drawingml/2006/table">
            <a:tbl>
              <a:tblPr/>
              <a:tblGrid>
                <a:gridCol w="3352680"/>
                <a:gridCol w="3048120"/>
                <a:gridCol w="182880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людей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ущих с ВИЧ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Д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5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 мл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   мл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   мл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цированные ВИЧ в 2005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5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   мл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  мл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от СПИДа в 2005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5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  мл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   мл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6f6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1828800"/>
            <a:ext cx="8405640" cy="4532760"/>
            <a:chOff x="304920" y="1828800"/>
            <a:chExt cx="8405640" cy="4532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8405640" cy="35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282680" y="5718240"/>
              <a:ext cx="65937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3600" spc="-1" strike="noStrike">
                  <a:solidFill>
                    <a:srgbClr val="05107b"/>
                  </a:solidFill>
                  <a:latin typeface="Arial Narrow"/>
                </a:rPr>
                <a:t>Всего : 40,3 миллиона</a:t>
              </a:r>
              <a:r>
                <a:rPr b="1" lang="en-US" sz="3600" spc="-1" strike="noStrike">
                  <a:solidFill>
                    <a:srgbClr val="05107b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29520" y="1881360"/>
              <a:ext cx="171396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Западная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Центральная</a:t>
              </a:r>
              <a:r>
                <a:rPr b="0" lang="en-US" sz="1400" spc="-1" strike="noStrike">
                  <a:solidFill>
                    <a:srgbClr val="009999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Евро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720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34400" y="2955960"/>
              <a:ext cx="2363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Северная Африка и </a:t>
              </a:r>
              <a:br>
                <a:rPr sz="1400"/>
              </a:b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Ближний Вост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510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07160" y="3897360"/>
              <a:ext cx="1729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Африка к югу от Саха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25,8 милли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0880" y="1932120"/>
              <a:ext cx="19443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66680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Восточная Европа </a:t>
              </a:r>
              <a:br>
                <a:rPr sz="1400"/>
              </a:b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и Центральная Азия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1,6 миллио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200" spc="-1" strike="noStrike">
                  <a:solidFill>
                    <a:srgbClr val="009999"/>
                  </a:solidFill>
                  <a:latin typeface="Arial Narrow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93080" y="3398760"/>
              <a:ext cx="24026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28584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Южная и Юго-восточная Азия</a:t>
              </a:r>
              <a:br>
                <a:rPr sz="1600"/>
              </a:b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7,4 милли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85720" y="4017960"/>
              <a:ext cx="1566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Оке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74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37000" y="2419560"/>
              <a:ext cx="1851120" cy="64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Северная Амер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1,2 милли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62560" y="3113280"/>
              <a:ext cx="20430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Карибский бассей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300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42600" y="3882960"/>
              <a:ext cx="15660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Латинская Амер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1,8 милли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4400" y="2752920"/>
              <a:ext cx="1818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51120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 Narrow"/>
                </a:rPr>
                <a:t>Восточная Аз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1120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Narrow"/>
                </a:rPr>
                <a:t>870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51120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55240"/>
            <a:ext cx="83232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счетное число взрослых и детей с ВИ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ИДом на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6f2"/>
            </a:gs>
            <a:gs pos="100000">
              <a:srgbClr val="fcc4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OCR A Extended"/>
              </a:rPr>
              <a:t>Ситуация по ВИЧ</a:t>
            </a:r>
            <a:r>
              <a:rPr b="1" lang="en-US" sz="4000" spc="-1" strike="noStrike">
                <a:solidFill>
                  <a:srgbClr val="333399"/>
                </a:solidFill>
                <a:latin typeface="OCR A Extended"/>
              </a:rPr>
              <a:t>/</a:t>
            </a:r>
            <a:r>
              <a:rPr b="1" lang="ru-RU" sz="4000" spc="-1" strike="noStrike">
                <a:solidFill>
                  <a:srgbClr val="333399"/>
                </a:solidFill>
                <a:latin typeface="OCR A Extended"/>
              </a:rPr>
              <a:t>СПИДу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438280"/>
            <a:ext cx="6781680" cy="2410200"/>
          </a:xfrm>
          <a:prstGeom prst="rect">
            <a:avLst/>
          </a:prstGeom>
          <a:noFill/>
          <a:ln w="41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               </a:t>
            </a:r>
            <a:r>
              <a:rPr b="1" lang="ru-RU" sz="2800" spc="-1" strike="noStrike">
                <a:solidFill>
                  <a:srgbClr val="003366"/>
                </a:solidFill>
                <a:latin typeface="Lucida Console"/>
              </a:rPr>
              <a:t>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с 01.01.1987 по 01.04.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в России зарегистри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         </a:t>
            </a:r>
            <a:r>
              <a:rPr b="1" lang="ru-RU" sz="2800" spc="-1" strike="noStrike">
                <a:solidFill>
                  <a:srgbClr val="003366"/>
                </a:solidFill>
                <a:latin typeface="Lucida Console"/>
              </a:rPr>
              <a:t>более 354 4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         </a:t>
            </a: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ВИЧ-инфицированных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Lucida Console"/>
              </a:rPr>
              <a:t>И 8157 смертей среди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OCR A Extended"/>
              </a:rPr>
              <a:t>Ситуация по ВИЧ</a:t>
            </a:r>
            <a:r>
              <a:rPr b="1" lang="en-US" sz="4400" spc="-1" strike="noStrike">
                <a:solidFill>
                  <a:srgbClr val="333399"/>
                </a:solidFill>
                <a:latin typeface="OCR A Extended"/>
              </a:rPr>
              <a:t>/</a:t>
            </a:r>
            <a:r>
              <a:rPr b="1" lang="ru-RU" sz="4400" spc="-1" strike="noStrike">
                <a:solidFill>
                  <a:srgbClr val="333399"/>
                </a:solidFill>
                <a:latin typeface="OCR A Extended"/>
              </a:rPr>
              <a:t>СПИДу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2819520"/>
          <a:ext cx="8229600" cy="3011400"/>
        </p:xfrm>
        <a:graphic>
          <a:graphicData uri="http://schemas.openxmlformats.org/drawingml/2006/table">
            <a:tbl>
              <a:tblPr/>
              <a:tblGrid>
                <a:gridCol w="5105160"/>
                <a:gridCol w="312444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ущих с диагнозом СП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х с диагнозом СП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х ВИЧ-инфициров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Ч-инфицированных Российских граж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 8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 рождённых от ВИЧ-позитивн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ей, на диспансерном наблюд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279440" y="171288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1828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01.01.198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10.12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6f2"/>
            </a:gs>
            <a:gs pos="100000">
              <a:srgbClr val="fcc4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Engravers MT"/>
              </a:rPr>
              <a:t>Увеличение количества зарегистрированных случаев ВИЧ-инфекции у граждан России в 1987-2005 г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4324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286000"/>
            <a:ext cx="7010640" cy="4343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209680"/>
            <a:ext cx="7010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6f2"/>
            </a:gs>
            <a:gs pos="100000">
              <a:srgbClr val="fcc4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OCR A Extended"/>
              </a:rPr>
              <a:t>Распределение случаев ВИЧ-инфекции на территориях России на 01.01.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603840" cy="41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Распределение ВИЧ-позитивных по основным факторам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2362320"/>
          <a:ext cx="8229600" cy="4181400"/>
        </p:xfrm>
        <a:graphic>
          <a:graphicData uri="http://schemas.openxmlformats.org/drawingml/2006/table">
            <a:tbl>
              <a:tblPr/>
              <a:tblGrid>
                <a:gridCol w="4876560"/>
                <a:gridCol w="1676520"/>
                <a:gridCol w="16765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лавный фактор риска за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ИЧ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омосексуальный конта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етеросексуальный конта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еливание инфицированной ВИЧ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ражение детей от ВИЧ-позитивных мате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ражение матерей от детей при грудном вскармлив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нутривенное введение наркот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8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743200" y="1523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данные на 200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4fd"/>
            </a:gs>
            <a:gs pos="50000">
              <a:srgbClr val="ffffff"/>
            </a:gs>
            <a:gs pos="100000">
              <a:srgbClr val="fcc4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Эпидемия ВИЧ-инфекции в России продолжает разви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Распространение ВИЧ-среди потребителей наркотиков продолж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Скорость распространения ВИЧ в России сниз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Заметно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активизировалась передача ВИЧ при гетеросексуальных и   гомосексуальных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Преимущественно инфицируются женщ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Увеличивается количество детей, рожденных от ВИЧ-позитивных мате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Подавляющее большинство ВИЧ-инфицированных –молодёжь в возрасте до 3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Количество нуждающихся в антиретровирусной терапии возрас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Lucida Console"/>
              </a:rPr>
              <a:t>Эпидемия ВИЧ-инфекции уже в современных масштабах приведёт к серьезным социально-экономическим последст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итоги распространения ВИЧ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A</cp:lastModifiedBy>
  <dcterms:modified xsi:type="dcterms:W3CDTF">2006-12-05T07:49:4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