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EA7-20D1-4D1B-9D33-B91BB515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24F-25DF-4D62-A437-2269793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9FB-9AB3-40B7-95D3-8F9E329E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B15-AC2B-48ED-BB5C-07505738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340-546C-4042-B4D6-6B065288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641-ABA9-49EB-A121-ECEBA6C6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5E3-1BF9-49DE-AFEB-950F4546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3F6-193D-451A-98EB-4B621E43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385-C968-4BBC-A716-BCC1299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E8F-1FBD-4F1B-8CFE-C435A65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665-C361-493A-BB61-1E56D05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7A3-FF0E-4CC1-B9F6-A38E756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5187-CD9F-4DE5-9AAB-E375BF38F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31251" t="0" r="0" b="21172"/>
          <a:stretch/>
        </p:blipFill>
        <p:spPr>
          <a:xfrm>
            <a:off x="-762120" y="152280"/>
            <a:ext cx="10820520" cy="784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1523880"/>
            <a:ext cx="83818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 - это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19112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рок - конфе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41960" y="6216480"/>
            <a:ext cx="474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мназии № 4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рунзе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рова Е.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Клинические симптомы СП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ря веса более, чем на 10% от прежнего ве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орадка, длящаяся более меся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ос, длящийся более месяца (с перерывами или постоян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ьная утомляемость и 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ич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шель, продолжающийся более одного меся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мат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венные поражения кож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оясывающий лиша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лимфоузлов одной или нескольких групп (исключая паховые) в течение трех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Клинические симптомы СП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ечной стадии болезни иммунная система человека окончательно разру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становится восприимчивым к различным заболеваниям, которые имеют летальный исход. К ним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очн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екционные заболевания головного мозга, сопровождающиеся нарушениями интеллекта и сильными головными бо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шечные инфекции, которые сопровождаются длинной диаре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к, особенно рак кожи, который называется саркомой Капо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План урока-конферен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ительное слово учителя биологии (актуализация знаний – что учащиеся знают о СПИДе, заполнение анкеты «Веришь - не веришь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открытия 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ение вирусов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строения 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никновение ВИЧ в клет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птомы заболевания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дии заболевания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лечения СПИДа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я по ВИЧ в мире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я по ВИЧ в России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я по ВИЧ в Санкт-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заболевания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отр видеофраг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ение анкеты «СПИД и общест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Строение вир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4038480" cy="37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русы нельзя увидеть в оптический микроскоп, так как их размеры меньше длины световой волны. Разглядеть их можно лишь с помощью электронного микроскоп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2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84360" cy="134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61040" y="4173120"/>
            <a:ext cx="46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тография бактериофага (увеличение 500000 ра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Строение вир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619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- сердцевина (однонитчатая Р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- белковая оболочка (капси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- дополнительная липопротеидная обол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- капсомеры (структурные части капси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псид и дополнительная оболочка несут защитные функции, способствуют проникновению вируса в клет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ностью сформированный вирус называется вирио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529080" cy="1643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10200" y="3573360"/>
            <a:ext cx="403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хематично строение РНК-содержащего вируса со спиральным типом симметрии и дополнительной  липопротеидной оболо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Классификация вир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русы подразделяются на: дезоксивирусы и рибовирусы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Дезокси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НК двухнитчата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НК однонитча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бический тип симметрии                          Кубический тип  симметрии Смешанный тип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 определенного типа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Рибови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НК двухнитчата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НК однонитчата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Кубический тип симметрии                            Кубический тип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альный тип симметрии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Строение 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984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ндром приобретенного иммунного дефицита (СПИД) - это сравнительно новое, но очень страшное инфекционное заболевание, возникшее перед человечеством в самом конце II тысячелетия. Не случайно его еще называют "чумой ХХ век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обенностью ВИЧ является его способность проникать в клетки иммунной системы и разрушать их в процессе своего размножения. Это приводит к расстройству всей иммунной системы человека, в результате чего организм утрачивает свои защитные свойства и не в состоянии противостоять возбудителям различных инфекций и убивать опухолевые 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3543480" cy="280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11640" y="4941720"/>
            <a:ext cx="4032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Источники заражения 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Ч-инфицированные на всех стадиях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ые конт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ицированные матери при рождении и кормлении груд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ъекционные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ереливании зараженной крови и использовании необеззараженными инстр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туировки, пирсинги, прокалывание ушей, использование чужой бритвы и зубной щ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Проникновение ВИЧ в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36640" y="2593800"/>
            <a:ext cx="4751640" cy="2252520"/>
            <a:chOff x="1736640" y="2593800"/>
            <a:chExt cx="4751640" cy="2252520"/>
          </a:xfrm>
        </p:grpSpPr>
        <p:sp>
          <p:nvSpPr>
            <p:cNvPr id="66" name=""/>
            <p:cNvSpPr/>
            <p:nvPr/>
          </p:nvSpPr>
          <p:spPr>
            <a:xfrm>
              <a:off x="1736640" y="2593800"/>
              <a:ext cx="2259000" cy="2252520"/>
            </a:xfrm>
            <a:prstGeom prst="ellipse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8120" y="2843280"/>
              <a:ext cx="1750320" cy="174780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88440" y="3344040"/>
              <a:ext cx="501120" cy="749880"/>
            </a:xfrm>
            <a:prstGeom prst="leftArrow">
              <a:avLst>
                <a:gd name="adj1" fmla="val 50000"/>
                <a:gd name="adj2" fmla="val 2493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/>
            <p:nvPr/>
          </p:nvCxnSpPr>
          <p:spPr>
            <a:xfrm flipH="1" flipV="1" rot="5400000">
              <a:off x="3799800" y="3781080"/>
              <a:ext cx="379080" cy="2520"/>
            </a:xfrm>
            <a:prstGeom prst="curvedConnector2">
              <a:avLst/>
            </a:prstGeom>
            <a:ln w="57240">
              <a:solidFill>
                <a:srgbClr val="00ce67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3237120" y="4094280"/>
              <a:ext cx="999360" cy="50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a5d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ba5d"/>
                  </a:solidFill>
                  <a:latin typeface="Times New Roman"/>
                </a:rPr>
                <a:t>CD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8440" y="2843280"/>
              <a:ext cx="1250640" cy="49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6600"/>
                  </a:solidFill>
                  <a:latin typeface="Times New Roman"/>
                </a:rPr>
                <a:t>   </a:t>
              </a:r>
              <a:r>
                <a:rPr b="0" lang="ru-RU" sz="2000" spc="-1" strike="noStrike">
                  <a:solidFill>
                    <a:srgbClr val="ff6600"/>
                  </a:solidFill>
                  <a:latin typeface="Times New Roman"/>
                </a:rPr>
                <a:t>gp 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36320" y="3344040"/>
              <a:ext cx="124884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клет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89280" y="3593520"/>
              <a:ext cx="9990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Основные стадии заболе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кубационный период: от 2-4 недель до 8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ичные проявления болезни выражаются в увеличении лимфатических узлов, лихорадочном состоянии, потливости в ночное время, головной боли, каш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тентный период. Проявления болезни отсутствуют. Длится обычно 1-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йкое увеличение лимфатических узлов: шейных, подчелюстных, затылочных, но, как правило, не пахо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епенное повышение температуры до 38’С-39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едомогание, сонливость, сильная утомляемость, обильное потоотделени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ственно СПИД, который проявляется тяжелыми заболеваниями, связанными с иммунной системо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0T01:14:2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