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84D3-291C-445E-9778-94CBEDD1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184-F3E5-4071-9300-FFC10F6C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8CC-53F9-4942-957F-FA120969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41B-3533-4741-8CFE-B7943F4E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BF2-400D-44C5-AA6E-147A899D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F55D-480D-4B4A-A65E-CE16D8B8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A05-376A-460B-9DBE-1304DE8C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EC1-D8D3-4A77-9BE6-3F953D5D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6D4-8143-4166-92C1-A00033F7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380-9453-4859-B42D-C61A0460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9C7-A5AF-4BAC-AB80-CB0545DD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5B6-623E-421B-8614-B656294A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7402-9C27-4688-BF41-7B8A8ACBD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1.xml"/><Relationship Id="rId10" Type="http://schemas.openxmlformats.org/officeDocument/2006/relationships/slide" Target="slide10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304920"/>
          <a:ext cx="8686800" cy="6029280"/>
        </p:xfrm>
        <a:graphic>
          <a:graphicData uri="http://schemas.openxmlformats.org/drawingml/2006/table">
            <a:tbl>
              <a:tblPr/>
              <a:tblGrid>
                <a:gridCol w="2971800"/>
                <a:gridCol w="1143000"/>
                <a:gridCol w="1143000"/>
                <a:gridCol w="1143000"/>
                <a:gridCol w="1143000"/>
                <a:gridCol w="1143000"/>
              </a:tblGrid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комые-вредит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3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комые-опылит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зиты и кровос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енные насеко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3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Домашние» и одомашнен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3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44400" y="179280"/>
            <a:ext cx="80060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В Австралию завезли семена клевера, с целью его разведения. Семе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роросли, растения             зацвели, но               семян не        образовали.         Почему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3249720" cy="335268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b2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86400" y="42670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71680" y="1143000"/>
            <a:ext cx="81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4540320"/>
            <a:ext cx="3076560" cy="2317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334120" y="1025640"/>
            <a:ext cx="3200400" cy="2403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33520" y="2408400"/>
            <a:ext cx="3047760" cy="2039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809880" y="2971800"/>
            <a:ext cx="3248280" cy="2070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533520" y="0"/>
            <a:ext cx="3073320" cy="2293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7672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Чья личинк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8360" y="30160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3960" y="6033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3960" y="36576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7200" y="21337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7200" y="5638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3960" y="13716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b2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68440" y="820800"/>
            <a:ext cx="8005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4720" y="1447920"/>
            <a:ext cx="8312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Все ли комары питаю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кровью теплокров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животных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31480" y="1447920"/>
            <a:ext cx="8614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Бескрылые паразиты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которые преуспели 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рыжках в длину и высо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68440" y="820800"/>
            <a:ext cx="8005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редставители какого отряда насекомых способны долго голодать? Какой тип развития у этих насекомы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593280"/>
            <a:ext cx="60199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Каких парази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человек   использует в биологической борьбе с насекомыми-вредителя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00800" y="457200"/>
            <a:ext cx="2428920" cy="380988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4073" t="12897" r="20371" b="16066"/>
          <a:stretch/>
        </p:blipFill>
        <p:spPr>
          <a:xfrm>
            <a:off x="5638680" y="44197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У шведов претенденты на должность бургомистра садились вокруг стола и клали на него свои бороды. В центре стола помещалась она. Избирался тот, на чью бороду она заполз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e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Какие работы выполняют рабочие пчел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ff7f3f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e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Что такое роени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Как происходи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ff7f3f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e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очему в гнезде муравьев один или два раза в год появляются крылатые особ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ff7f3f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cd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Что такое «казнь египетская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3028" t="0" r="11365" b="0"/>
          <a:stretch/>
        </p:blipFill>
        <p:spPr>
          <a:xfrm>
            <a:off x="2133720" y="2514600"/>
            <a:ext cx="5029200" cy="380196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c46889"/>
          </a:solidFill>
          <a:ln w="9360">
            <a:solidFill>
              <a:srgbClr val="9c4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e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Что общего и в чем различия между осами и шмелям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ff7f3f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e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Муравей хищник. Почему же при встрече с тлей он ее ощупывает усиками, затем начинает гладить  и похлопывать по спин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ff7f3f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8680" y="1165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Назовите продукты пчеловодства и из чего они производятся пче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adea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8680" y="1165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Что позволяет комнатной мухе бегать по вертикальной поверхности и даже висеть вверх ногам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adea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ыходец из азиатски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тропиков благополуч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обрался до рубленны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русских домов. Е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название происходит о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искаженного «карахан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черный владыка»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adea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18680" y="380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Что общего между шелком, шелковицей и тутовым шелкопряд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adea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85920" y="2895480"/>
            <a:ext cx="49244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80920" y="533520"/>
            <a:ext cx="529596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очему на гербе Ферганской области изображены бабочки тутового шелкопря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743280" cy="426708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adea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Сколько видов насчитывают насекомы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Какое значение имеют стадии личинки и куколк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22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У каких насекомых есть «скотные двор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cd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Кто такой «кузька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c46889"/>
          </a:solidFill>
          <a:ln w="9360">
            <a:solidFill>
              <a:srgbClr val="9c4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11679" t="1714" r="1701" b="11576"/>
          <a:stretch/>
        </p:blipFill>
        <p:spPr>
          <a:xfrm>
            <a:off x="3276720" y="762120"/>
            <a:ext cx="5486400" cy="4155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429000" y="3340080"/>
            <a:ext cx="5334120" cy="3517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0" r="0" b="13056"/>
          <a:stretch/>
        </p:blipFill>
        <p:spPr>
          <a:xfrm>
            <a:off x="304920" y="3811680"/>
            <a:ext cx="4343400" cy="30463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Что это тако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rcRect l="0" t="17216" r="0" b="12501"/>
          <a:stretch/>
        </p:blipFill>
        <p:spPr>
          <a:xfrm>
            <a:off x="304920" y="762120"/>
            <a:ext cx="3541680" cy="373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581280" y="2438280"/>
            <a:ext cx="4064040" cy="289584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У них короткий ве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оэтому они 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тратят время на еду,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все отпущен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им время тратят 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родление р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cd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Красив и очень опасен жук, впервые отмеченный на полях в штате Колорадо. О ком идет речь, чем питаются взрослые жуки и их личин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c46889"/>
          </a:solidFill>
          <a:ln w="9360">
            <a:solidFill>
              <a:srgbClr val="9c4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cd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Эти насекомые имеют специальный хоботок, который позволяет им высасывать кровь или растительный сок. Другая их особенность – пахучие желез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c46889"/>
          </a:solidFill>
          <a:ln w="9360">
            <a:solidFill>
              <a:srgbClr val="9c4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cd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Чем питаются взрослые насеком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яблоневой     яблонев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лодожорки    цветое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03600" y="3382920"/>
            <a:ext cx="136800" cy="9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3962520"/>
            <a:ext cx="4114800" cy="239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03600" y="3382920"/>
            <a:ext cx="136800" cy="92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029200" y="3962520"/>
            <a:ext cx="3649680" cy="24620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c46889"/>
          </a:solidFill>
          <a:ln w="9360">
            <a:solidFill>
              <a:srgbClr val="9c4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06480" y="2651040"/>
            <a:ext cx="748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Назовите насекомых опылителей раст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1654"/>
          <a:stretch/>
        </p:blipFill>
        <p:spPr>
          <a:xfrm>
            <a:off x="0" y="3048120"/>
            <a:ext cx="3230640" cy="2384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4131" t="28545" r="893" b="23386"/>
          <a:stretch/>
        </p:blipFill>
        <p:spPr>
          <a:xfrm>
            <a:off x="4648320" y="0"/>
            <a:ext cx="3124080" cy="2355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6070" t="2725" r="8928" b="0"/>
          <a:stretch/>
        </p:blipFill>
        <p:spPr>
          <a:xfrm>
            <a:off x="0" y="0"/>
            <a:ext cx="3232080" cy="2401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5955" t="0" r="11905" b="0"/>
          <a:stretch/>
        </p:blipFill>
        <p:spPr>
          <a:xfrm>
            <a:off x="4648320" y="3048120"/>
            <a:ext cx="3128760" cy="2371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rcRect l="0" t="11667" r="1460" b="12160"/>
          <a:stretch/>
        </p:blipFill>
        <p:spPr>
          <a:xfrm>
            <a:off x="1600200" y="1174680"/>
            <a:ext cx="3048120" cy="2254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rcRect l="15854" t="0" r="0" b="-1846"/>
          <a:stretch/>
        </p:blipFill>
        <p:spPr>
          <a:xfrm>
            <a:off x="6195960" y="1162080"/>
            <a:ext cx="2948040" cy="2266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rcRect l="0" t="0" r="12307" b="836"/>
          <a:stretch/>
        </p:blipFill>
        <p:spPr>
          <a:xfrm>
            <a:off x="1598760" y="4603680"/>
            <a:ext cx="3049560" cy="2246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rcRect l="35733" t="29885" r="0" b="5194"/>
          <a:stretch/>
        </p:blipFill>
        <p:spPr>
          <a:xfrm>
            <a:off x="6197760" y="4602240"/>
            <a:ext cx="2946240" cy="224784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b2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74880" y="2017800"/>
            <a:ext cx="3902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3640" y="163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003320"/>
            <a:ext cx="79250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Личинки бабочек непохожи на взрослых особей. Как происход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ревращение гусениц в бабочек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b2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1680" y="1143000"/>
            <a:ext cx="8153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В Древнем Риме верили, что бабочки произошли от цветов.                       В чем причина окраски крыльев бабочек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8381880" y="601992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10800" y="5445"/>
                </a:moveTo>
                <a:lnTo>
                  <a:pt x="13376" y="8056"/>
                </a:ln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lnTo>
                  <a:pt x="17763" y="12408"/>
                </a:lnTo>
                <a:lnTo>
                  <a:pt x="16109" y="12408"/>
                </a:lnTo>
                <a:lnTo>
                  <a:pt x="16109" y="19597"/>
                </a:lnTo>
                <a:lnTo>
                  <a:pt x="5491" y="19597"/>
                </a:lnTo>
                <a:lnTo>
                  <a:pt x="5491" y="12408"/>
                </a:lnTo>
                <a:lnTo>
                  <a:pt x="3837" y="12408"/>
                </a:lnTo>
                <a:close/>
              </a:path>
              <a:path fill="darkenLess" w="21600" h="24816">
                <a:moveTo>
                  <a:pt x="13376" y="8056"/>
                </a:moveTo>
                <a:lnTo>
                  <a:pt x="13376" y="6316"/>
                </a:lnTo>
                <a:lnTo>
                  <a:pt x="15152" y="6316"/>
                </a:lnTo>
                <a:lnTo>
                  <a:pt x="15152" y="9832"/>
                </a:lnTo>
                <a:close/>
              </a:path>
              <a:path fill="darkenLess" w="21600" h="24816">
                <a:moveTo>
                  <a:pt x="9877" y="15907"/>
                </a:moveTo>
                <a:lnTo>
                  <a:pt x="11723" y="15907"/>
                </a:lnTo>
                <a:lnTo>
                  <a:pt x="11723" y="19597"/>
                </a:lnTo>
                <a:lnTo>
                  <a:pt x="16109" y="19597"/>
                </a:lnTo>
                <a:lnTo>
                  <a:pt x="16109" y="12408"/>
                </a:lnTo>
                <a:lnTo>
                  <a:pt x="5491" y="12408"/>
                </a:lnTo>
                <a:lnTo>
                  <a:pt x="5491" y="19597"/>
                </a:lnTo>
                <a:lnTo>
                  <a:pt x="9877" y="19597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b2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A</cp:lastModifiedBy>
  <dcterms:modified xsi:type="dcterms:W3CDTF">2009-11-22T19:51:1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