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B14-D0C5-492E-A40C-F4C9F0E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3AF-8151-4325-8A1E-339F7179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A65-E9B0-4371-AA82-1B5A59A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E60-06D9-4DFD-8720-AD8FFD9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804-DE76-4C87-8DAD-3457187B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2E62-9637-4F03-B83F-7C3CC965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F1CF-1A92-4872-B9E1-2F80B6F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A9E1-A3AE-4EAD-8B7B-C7FAEEB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6BD-646F-406F-A5A6-647F884E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F40-6052-42F8-A2E7-F553D2D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969F-43FA-407C-B606-748EC28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BF9-0B44-4DF9-A340-F5378EF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C08-CAE2-41DE-AA4D-AD63DBC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5859-ADFD-4BB9-9D90-DA61943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4166-AE53-45F9-886E-A83E5D5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02F-7CBE-4868-B118-8D1FCE5B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7A6-AE2C-4AB6-B5EF-BFCF15DE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9D2-3D92-44C6-ACD8-488265F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25C-AC2F-42A9-9E90-150F988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76C-C8F1-4C4C-BDAE-C023E99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F7C-8B0B-4435-B35C-91BE02BF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98B-1B5C-4D57-A640-21D2C59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52A-04F6-4F24-A484-AC2B593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79D-753F-4AA1-A9D1-08357A8D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B044-2DCA-4367-8DCD-84A0572E2C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550-DFA8-41AD-B586-6662074EE4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71640" y="54936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рок математ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24000" y="260280"/>
          <a:ext cx="4969080" cy="45576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Тест (выбор правильного ответа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979640" y="92772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жи значение произведения чисел 9 и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в) 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50920" y="1557360"/>
          <a:ext cx="5400360" cy="431280"/>
        </p:xfrm>
        <a:graphic>
          <a:graphicData uri="http://schemas.openxmlformats.org/drawingml/2006/table">
            <a:tbl>
              <a:tblPr/>
              <a:tblGrid>
                <a:gridCol w="540036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ажи значение частного чисел 45 и 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б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050920" y="2133720"/>
          <a:ext cx="5400720" cy="39528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ое из чисел делится на 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в)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1280" y="333360"/>
            <a:ext cx="72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абличные случа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16000" y="1916280"/>
            <a:ext cx="7272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множения и делен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76720" y="2924280"/>
            <a:ext cx="43909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 8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76600" y="50371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6600" y="50371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826920" y="549360"/>
          <a:ext cx="7921800" cy="482436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48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и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•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креплять знание таблиц умножения и деления на  8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•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ршенствовать вычислительные навыки (сложение 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читание в пределах 100, табличное умножение и деление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ие решать задачи, выражения; находить периметр и площадь прямоугольни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вать умение сравнивать, анализировать, обобщать, классифицировать; развивать память, логическое мышление учащихс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ршенствовать навыки самоконтроля и взаимоконтроля при выполнении самостоятельной и коллективной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ировать умение работать с тестовыми задания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ывать активность, ответственность, самосто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348000" y="1700280"/>
            <a:ext cx="1274760" cy="1203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33     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1700280"/>
            <a:ext cx="122400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5   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4      25      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79640" y="549360"/>
          <a:ext cx="5472000" cy="944640"/>
        </p:xfrm>
        <a:graphic>
          <a:graphicData uri="http://schemas.openxmlformats.org/drawingml/2006/table">
            <a:tbl>
              <a:tblPr/>
              <a:tblGrid>
                <a:gridCol w="547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.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Найти сумму записанных чисел удобным способом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58920" y="1700280"/>
            <a:ext cx="1419120" cy="1297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3017880"/>
          <a:ext cx="5760720" cy="2066040"/>
        </p:xfrm>
        <a:graphic>
          <a:graphicData uri="http://schemas.openxmlformats.org/drawingml/2006/table">
            <a:tbl>
              <a:tblPr/>
              <a:tblGrid>
                <a:gridCol w="576072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Расставив скобки по-разному, решить прим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– 10 + 5 – 1 =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– 10 + 5 – 1 =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– 10 + 5 – 1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11280" y="333360"/>
          <a:ext cx="7777080" cy="532764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Индивидуальная работа на карточ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ым учащим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чел.)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Решить задачу, записать решение и ответ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колько стульев в кафе, если у каждого из 8 столов стоит 6 стульев?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8∙6=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м учащимс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чел.)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ставить пропущенные знаки действий. Записать верные равенст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* 6 = 8…5…8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* 7 = 7…8…7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* 8 = 8…0…64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* 9 = 9…8…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ьным учащим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чел.)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Решить задач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Записать решение и ответ: в ряду стоит 7 двухместных парт. Сколько учеников сидит в этом ряду, если 5 мест свободны?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7∙2-5=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35280" y="43560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Запись чисел, на которые делится число 2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81656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4:3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4:4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4:6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4:8=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765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Устно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58920" y="476280"/>
          <a:ext cx="183960" cy="720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042920" y="2205000"/>
          <a:ext cx="7416360" cy="1505880"/>
        </p:xfrm>
        <a:graphic>
          <a:graphicData uri="http://schemas.openxmlformats.org/drawingml/2006/table">
            <a:tbl>
              <a:tblPr/>
              <a:tblGrid>
                <a:gridCol w="741960"/>
                <a:gridCol w="741960"/>
                <a:gridCol w="738720"/>
                <a:gridCol w="741960"/>
                <a:gridCol w="742320"/>
                <a:gridCol w="741960"/>
                <a:gridCol w="741240"/>
                <a:gridCol w="739440"/>
                <a:gridCol w="741600"/>
                <a:gridCol w="74520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∙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187280" y="765000"/>
          <a:ext cx="7488360" cy="505296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50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Работа с учебник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. 56 № 4 (1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огороде собрали 24 кг лука, чеснока – в 4 раза меньше, чем лука, а моркови – в 5 раз больше, чем чеснока. Сколько килограммов моркови собрали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:4=6 кг (чеснока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∙ 5=30 кг (морков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26712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с. 56 №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черти прямоугольник АВСD со сторонами 8 см и 2 см. Найди его площадь и перимет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9760" y="3200400"/>
          <a:ext cx="3449880" cy="1552680"/>
        </p:xfrm>
        <a:graphic>
          <a:graphicData uri="http://schemas.openxmlformats.org/drawingml/2006/table">
            <a:tbl>
              <a:tblPr/>
              <a:tblGrid>
                <a:gridCol w="344988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∙2=см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=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8+2)∙2=2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23:15Z</dcterms:created>
  <dc:creator>admin</dc:creator>
  <dc:description/>
  <dc:language>en-US</dc:language>
  <cp:lastModifiedBy>admin</cp:lastModifiedBy>
  <dcterms:modified xsi:type="dcterms:W3CDTF">2011-04-28T14:36:08Z</dcterms:modified>
  <cp:revision>3</cp:revision>
  <dc:subject/>
  <dc:title>Слайд 1</dc:title>
</cp:coreProperties>
</file>