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093-09E4-4048-9387-CD49B245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59F-7197-40AC-ADC6-FB02351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071-19BD-4573-8E99-586778EE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408-4E13-4B11-AC36-A3B302B6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28D5-10C7-451D-B100-3368E153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511-0F70-42B1-849E-C50C1CE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5B79-4D51-49D2-B2D8-3993C4D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65E5-577C-4A54-93FC-8F1B44D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89D-7DEF-47DA-9D9D-C846BA5C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EA6-0A6C-4261-9172-E955CF6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852-44E5-4199-A59E-884E191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74F-9BC6-41D7-B0BA-A6E477CD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849C-7833-4057-A513-811245C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74D2-86CA-4026-AF83-B71828F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C6CA-26B0-47E3-8EE1-A115277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70E9-A55A-4C68-8DE2-10BFAA83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33DF-EA10-4FEB-A6D3-B19CEB12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E1A-950C-4D08-853F-E6A5CA8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C71-5CF7-4FE4-9BD5-A58051F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3C0-EE1D-4A90-BD49-44A95AE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E8-79BC-439B-8068-26D3BF2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579-17EC-43D9-AB9A-2C64A7A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39A-E19D-4384-95D5-316F551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05E-8D11-4C13-BACF-CA2ACA7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C0C-B14D-4E37-A684-D082C26321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B327-1F6B-4E5A-92D2-8D6ADF2DE1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tin-Luther-King-1964-leaning-on-a-lecter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ntique_Valentine_1909_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olimetangerecorregio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others&apos;_Day_Cak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640" y="692280"/>
            <a:ext cx="658656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Matura MT Script Capitals"/>
              </a:rPr>
              <a:t>Holidays in the US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161616"/>
                </a:solidFill>
                <a:latin typeface="Matura MT Script Capitals"/>
              </a:rPr>
              <a:t>Подготовил: ученик 6А класса</a:t>
            </a: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Matura MT Script Capitals"/>
              </a:rPr>
              <a:t>МАОУ «Лицей города Троицка»</a:t>
            </a: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Matura MT Script Capitals"/>
              </a:rPr>
              <a:t>Донценко Николай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83" name="Picture 2" descr="http://im5-tub-ru.yandex.net/i?id=29549603-08-72"/>
          <p:cNvPicPr/>
          <p:nvPr/>
        </p:nvPicPr>
        <p:blipFill>
          <a:blip r:embed="rId1"/>
          <a:stretch/>
        </p:blipFill>
        <p:spPr>
          <a:xfrm>
            <a:off x="468360" y="404640"/>
            <a:ext cx="1428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Thanksgiving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15" name="Picture 2" descr="http://upload.wikimedia.org/wikipedia/commons/thumb/9/98/Thanksgiving-Brownscombe.jpg/220px-Thanksgiving-Brownscombe.jpg"/>
          <p:cNvPicPr/>
          <p:nvPr/>
        </p:nvPicPr>
        <p:blipFill>
          <a:blip r:embed="rId1"/>
          <a:stretch/>
        </p:blipFill>
        <p:spPr>
          <a:xfrm>
            <a:off x="2411280" y="3284640"/>
            <a:ext cx="4132440" cy="2592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972360" y="198900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irst Thanksgiving at Plymou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 Black"/>
              </a:rPr>
              <a:t>Christma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268360" y="1341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m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the birthday of Jesus Chri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upload.wikimedia.org/wikipedia/commons/thumb/b/bd/Vatican_Christmas_Tree.jpg/300px-Vatican_Christmas_Tree.jpg"/>
          <p:cNvPicPr/>
          <p:nvPr/>
        </p:nvPicPr>
        <p:blipFill>
          <a:blip r:embed="rId1"/>
          <a:stretch/>
        </p:blipFill>
        <p:spPr>
          <a:xfrm>
            <a:off x="2771640" y="2924280"/>
            <a:ext cx="285768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1904040" y="23493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mas tr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St Peter's Square, Vatican C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99736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 Black"/>
              </a:rPr>
              <a:t>The End</a:t>
            </a:r>
            <a:endParaRPr b="0" lang="en-US" sz="96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Martin Luther King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48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rtin Luther King Da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s a Uni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s federal holiday marking the birthday of Dr. Martin Luther King, J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Martin Luther King, Jr. D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716280"/>
            <a:ext cx="2143080" cy="2952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477600" y="324468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tin Luther King, J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St. Valentines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89" name="Picture 2" descr="Valentine's D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357720"/>
            <a:ext cx="2143440" cy="3267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874840" y="616572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tique Valentine's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1280" y="1268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raditionally a day on which lovers express their love for each other by presenting flowers, offering confectionery, and sending greeting cards (known as "valentines"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Easter Sun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539640" y="141300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sus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’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urrection is celebr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 Easter Sunda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Ea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005360"/>
            <a:ext cx="2143440" cy="2714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572000" y="31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rrected Jesus and Mary Magdalene, by Antonio da Correggio, 15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Mother's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340000" y="1413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ther's Day is a celebration honoring mothers and celebrating motherh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upload.wikimedia.org/wikipedia/commons/thumb/8/8e/Mothers%27_Day_Cake.jpg/250px-Mothers%27_Day_Ca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221000"/>
            <a:ext cx="3111480" cy="2340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688000" y="587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 cake for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Mother's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Father's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4360" y="13413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ther's Day is a celebration honoring fathers and celebrating fatherh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Картинка 2 из 146779"/>
          <p:cNvPicPr/>
          <p:nvPr/>
        </p:nvPicPr>
        <p:blipFill>
          <a:blip r:embed="rId1"/>
          <a:stretch/>
        </p:blipFill>
        <p:spPr>
          <a:xfrm>
            <a:off x="5508720" y="2781360"/>
            <a:ext cx="3038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nstitution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611280" y="11970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itution Day is an American federal holiday that recognizes the adoption of the United States 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http://www.eworldpost.com/wp-content/uploads/2010/09/Constitution_Day_Events_S07.jpg"/>
          <p:cNvPicPr/>
          <p:nvPr/>
        </p:nvPicPr>
        <p:blipFill>
          <a:blip r:embed="rId1"/>
          <a:stretch/>
        </p:blipFill>
        <p:spPr>
          <a:xfrm>
            <a:off x="5580000" y="2708280"/>
            <a:ext cx="29336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Independence Day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39640" y="134136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ependence Day is a federal holiday of the adoption of the Declaration of Independence on July 4, 177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Independence Day"/>
          <p:cNvPicPr/>
          <p:nvPr/>
        </p:nvPicPr>
        <p:blipFill>
          <a:blip r:embed="rId1"/>
          <a:stretch/>
        </p:blipFill>
        <p:spPr>
          <a:xfrm>
            <a:off x="5796000" y="3141720"/>
            <a:ext cx="2143080" cy="3543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5292720" y="2492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reworks over the Washington Mon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Halloween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11280" y="1268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ical festive Halloween activities include trick-or-treating, attending costume parties, carving jack-o'-lan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alloween  All Hallows' Eve"/>
          <p:cNvPicPr/>
          <p:nvPr/>
        </p:nvPicPr>
        <p:blipFill>
          <a:blip r:embed="rId1"/>
          <a:stretch/>
        </p:blipFill>
        <p:spPr>
          <a:xfrm>
            <a:off x="5724360" y="4365720"/>
            <a:ext cx="214344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950080" y="364500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ack-o'-lan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6:17:43Z</dcterms:created>
  <dc:creator>axd19524</dc:creator>
  <dc:description/>
  <dc:language>en-US</dc:language>
  <cp:lastModifiedBy>Елена</cp:lastModifiedBy>
  <dcterms:modified xsi:type="dcterms:W3CDTF">2012-02-20T19:01:09Z</dcterms:modified>
  <cp:revision>2</cp:revision>
  <dc:subject/>
  <dc:title>USA  holidays</dc:title>
</cp:coreProperties>
</file>