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50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8.wmf" ContentType="image/x-wmf"/>
  <Override PartName="/ppt/media/image3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4.jpeg" ContentType="image/jpeg"/>
  <Override PartName="/ppt/media/image4.jpeg" ContentType="image/jpeg"/>
  <Override PartName="/ppt/media/image40.png" ContentType="image/pn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20.jpeg" ContentType="image/jpeg"/>
  <Override PartName="/ppt/media/image93.jpeg" ContentType="image/jpeg"/>
  <Override PartName="/ppt/media/image82.jpeg" ContentType="image/jpeg"/>
  <Override PartName="/ppt/media/image23.jpeg" ContentType="image/jpeg"/>
  <Override PartName="/ppt/media/image92.jpeg" ContentType="image/jpeg"/>
  <Override PartName="/ppt/media/image75.jpeg" ContentType="image/jpeg"/>
  <Override PartName="/ppt/media/image69.jpeg" ContentType="image/jpeg"/>
  <Override PartName="/ppt/media/image80.jpeg" ContentType="image/jpeg"/>
  <Override PartName="/ppt/media/image21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70.jpeg" ContentType="image/jpeg"/>
  <Override PartName="/ppt/media/image6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85.jpeg" ContentType="image/jpeg"/>
  <Override PartName="/ppt/media/image26.jpeg" ContentType="image/jpeg"/>
  <Override PartName="/ppt/media/image42.png" ContentType="image/png"/>
  <Override PartName="/ppt/media/image87.jpeg" ContentType="image/jpeg"/>
  <Override PartName="/ppt/media/image27.wmf" ContentType="image/x-wmf"/>
  <Override PartName="/ppt/media/image11.jpeg" ContentType="image/jpeg"/>
  <Override PartName="/ppt/media/image38.jpeg" ContentType="image/jpeg"/>
  <Override PartName="/ppt/media/image7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B8D-6DE5-43E0-AD3E-660289A8C3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4865-B036-43AD-A462-76097E158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24D3-404D-4ABC-BF82-F6EDED988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FDB-CBA7-49E1-A0D2-86CFF913A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EEB-FD01-4FCC-875C-15CDA376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902-B4EA-4E3C-B49C-90ACA288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249-CEA5-4C71-94D7-1CF9AF7C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6D9-E146-4E1A-BD6C-512CE75A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DDC1-6835-4A76-93AC-FBE9B19D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BCB3-0AED-45C5-980C-457F68A4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4656-655D-4064-9C65-F657C891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D841-D450-40FA-AF07-38E71564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F22D-FB8D-42D9-8806-C59A9F76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66A4-D1B0-4669-8803-22707611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1EEA-4202-478E-B8F9-B04AE8E2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078-73B2-4E11-AD61-5B496449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3139-3A99-4035-88C8-D9499BD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2D85-E316-42DD-9CEF-9D3A620E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E9FA-9F97-4DF7-9075-6F652198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78B0-9E1C-4864-B5B7-BDCF3188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3E14-E3B7-4B45-9651-DCAAC045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1B8-C3EA-4819-AF17-BB9E6017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6DE-D81F-46DA-A7FB-01EE6E32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FE5-DF4D-42EF-836D-F7DED11E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866-A7D9-4D07-87DA-03D4FF28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9D0-8F5D-49CC-AB24-3BAD2D3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641-D108-43AC-943B-C965A1C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02C-71C5-4BFE-99A5-9241595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B8F4-0193-4849-9FC4-0D7A40EA7893}" type="slidenum">
              <a:rPr b="0" lang="en-US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C394-AB12-480B-8950-0CDBDF77FA86}" type="slidenum">
              <a:rPr b="0" lang="en-US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jpeg"/><Relationship Id="rId3" Type="http://schemas.openxmlformats.org/officeDocument/2006/relationships/image" Target="../media/image88.pn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7724880" cy="2639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Марианна\Desktop\Влияние на организм челоека\Алкоголь\картинки\podrostok.jpg"/>
          <p:cNvPicPr/>
          <p:nvPr/>
        </p:nvPicPr>
        <p:blipFill>
          <a:blip r:embed="rId3"/>
          <a:stretch/>
        </p:blipFill>
        <p:spPr>
          <a:xfrm>
            <a:off x="6929280" y="1568520"/>
            <a:ext cx="1963800" cy="20034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93" name="Picture 6" descr="C:\Users\Марианна\Desktop\Влияние на организм челоека\Алкоголь\картинки\1167374273_0960.200x300.jpg"/>
          <p:cNvPicPr/>
          <p:nvPr/>
        </p:nvPicPr>
        <p:blipFill>
          <a:blip r:embed="rId4"/>
          <a:stretch/>
        </p:blipFill>
        <p:spPr>
          <a:xfrm>
            <a:off x="4427640" y="2708280"/>
            <a:ext cx="2547720" cy="34354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94" name="Picture 7" descr="C:\Users\Марианна\Desktop\Влияние на организм челоека\Алкоголь\картинки\1167374272_0008.250x225.jpg"/>
          <p:cNvPicPr/>
          <p:nvPr/>
        </p:nvPicPr>
        <p:blipFill>
          <a:blip r:embed="rId5"/>
          <a:stretch/>
        </p:blipFill>
        <p:spPr>
          <a:xfrm>
            <a:off x="571680" y="2643120"/>
            <a:ext cx="3043080" cy="24987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95" name="Rectangle 3"/>
          <p:cNvSpPr/>
          <p:nvPr/>
        </p:nvSpPr>
        <p:spPr>
          <a:xfrm>
            <a:off x="4714920" y="6138720"/>
            <a:ext cx="44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готовили: Дамиров Вуга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Скоробогатов Дмитр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152280" y="3124080"/>
            <a:ext cx="4465800" cy="3598920"/>
          </a:xfrm>
          <a:prstGeom prst="irregularSeal1">
            <a:avLst/>
          </a:prstGeom>
          <a:solidFill>
            <a:srgbClr val="903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ЛЕН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Б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ЕТ ПОГИБ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ст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029200" y="380880"/>
            <a:ext cx="4284720" cy="3886200"/>
          </a:xfrm>
          <a:prstGeom prst="irregularSeal1">
            <a:avLst/>
          </a:prstGeom>
          <a:solidFill>
            <a:srgbClr val="72a376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мертельная д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ля взрос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-8 г спи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1 кг 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АЛКОГОЛЬ – СМЕРТЕЛЬНЫЙ ВР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5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1393920" cy="17748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6" descr=""/>
          <p:cNvPicPr/>
          <p:nvPr/>
        </p:nvPicPr>
        <p:blipFill>
          <a:blip r:embed="rId3"/>
          <a:stretch/>
        </p:blipFill>
        <p:spPr>
          <a:xfrm>
            <a:off x="7236000" y="4005360"/>
            <a:ext cx="1250640" cy="285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0" y="-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рганизме алкоголь оказывает четыре основных эфф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79280" y="904680"/>
            <a:ext cx="56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вает организм энерги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замедляет работу центральной нервной системы, снижает ее эффе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стимулирует производство мочи (вследствие этого клетки обезвоживаютс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выводит из строя п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Марианна\Desktop\Влияние на организм челоека\Алкоголь\картинки\7372.jpg"/>
          <p:cNvPicPr/>
          <p:nvPr/>
        </p:nvPicPr>
        <p:blipFill>
          <a:blip r:embed="rId2"/>
          <a:stretch/>
        </p:blipFill>
        <p:spPr>
          <a:xfrm>
            <a:off x="6046920" y="1214280"/>
            <a:ext cx="2811240" cy="29289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39" name="Picture 4" descr="C:\Users\Марианна\Desktop\9.gif"/>
          <p:cNvPicPr/>
          <p:nvPr/>
        </p:nvPicPr>
        <p:blipFill>
          <a:blip r:embed="rId3"/>
          <a:stretch/>
        </p:blipFill>
        <p:spPr>
          <a:xfrm>
            <a:off x="4214880" y="3786120"/>
            <a:ext cx="3357360" cy="26431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40" name="Picture 6" descr="C:\Users\Марианна\Desktop\050780ec-10ce-4aa0-9788-a50dc9dbb8df.gif"/>
          <p:cNvPicPr/>
          <p:nvPr/>
        </p:nvPicPr>
        <p:blipFill>
          <a:blip r:embed="rId4"/>
          <a:stretch/>
        </p:blipFill>
        <p:spPr>
          <a:xfrm>
            <a:off x="357120" y="4143240"/>
            <a:ext cx="314316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357120" y="1512000"/>
            <a:ext cx="250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дного приема небольшой дозы спиртного алкоголь сохраняется в мозгу, сердце, почках, желудке от 49 часов до 15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C:\Users\Марианна\Desktop\023.jpg"/>
          <p:cNvPicPr/>
          <p:nvPr/>
        </p:nvPicPr>
        <p:blipFill>
          <a:blip r:embed="rId2"/>
          <a:stretch/>
        </p:blipFill>
        <p:spPr>
          <a:xfrm>
            <a:off x="3429000" y="4643280"/>
            <a:ext cx="3000240" cy="19195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43" name="Picture 5" descr="C:\Users\Марианна\Desktop\n69n-s29.jpg"/>
          <p:cNvPicPr/>
          <p:nvPr/>
        </p:nvPicPr>
        <p:blipFill>
          <a:blip r:embed="rId3"/>
          <a:stretch/>
        </p:blipFill>
        <p:spPr>
          <a:xfrm>
            <a:off x="3714840" y="142920"/>
            <a:ext cx="4429080" cy="26431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44" name="Picture 2" descr=""/>
          <p:cNvPicPr/>
          <p:nvPr/>
        </p:nvPicPr>
        <p:blipFill>
          <a:blip r:embed="rId4"/>
          <a:stretch/>
        </p:blipFill>
        <p:spPr>
          <a:xfrm>
            <a:off x="6000840" y="3071880"/>
            <a:ext cx="2428920" cy="2786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2987640" y="907920"/>
            <a:ext cx="273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потреблении алкоголя  исчезают запреты, беспокойство и волнение, они уступают место ощущению эйфории; ухудшается зрение, речь и координация дв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Марианна\Desktop\_1 (23).jpg"/>
          <p:cNvPicPr/>
          <p:nvPr/>
        </p:nvPicPr>
        <p:blipFill>
          <a:blip r:embed="rId2"/>
          <a:stretch/>
        </p:blipFill>
        <p:spPr>
          <a:xfrm>
            <a:off x="428760" y="4214880"/>
            <a:ext cx="2428920" cy="19288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47" name="Picture 3" descr="C:\Users\Марианна\Desktop\1 (13).jpg"/>
          <p:cNvPicPr/>
          <p:nvPr/>
        </p:nvPicPr>
        <p:blipFill>
          <a:blip r:embed="rId3"/>
          <a:stretch/>
        </p:blipFill>
        <p:spPr>
          <a:xfrm>
            <a:off x="7286760" y="3000240"/>
            <a:ext cx="1566720" cy="20815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48" name="Picture 4" descr="C:\Users\Марианна\Desktop\achtoa2.jpg"/>
          <p:cNvPicPr/>
          <p:nvPr/>
        </p:nvPicPr>
        <p:blipFill>
          <a:blip r:embed="rId4"/>
          <a:stretch/>
        </p:blipFill>
        <p:spPr>
          <a:xfrm>
            <a:off x="428760" y="857160"/>
            <a:ext cx="257148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49" name="Picture 5" descr="C:\Users\Марианна\Desktop\109342.jpg"/>
          <p:cNvPicPr/>
          <p:nvPr/>
        </p:nvPicPr>
        <p:blipFill>
          <a:blip r:embed="rId5"/>
          <a:stretch/>
        </p:blipFill>
        <p:spPr>
          <a:xfrm>
            <a:off x="5786280" y="500040"/>
            <a:ext cx="2428920" cy="20001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50" name="Picture 2" descr="C:\Users\Марианна\Desktop\Влияние на организм челоека\1183626599alco.gif"/>
          <p:cNvPicPr/>
          <p:nvPr/>
        </p:nvPicPr>
        <p:blipFill>
          <a:blip r:embed="rId6"/>
          <a:stretch/>
        </p:blipFill>
        <p:spPr>
          <a:xfrm>
            <a:off x="5715000" y="4786200"/>
            <a:ext cx="2357280" cy="1643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4516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1902a6"/>
                </a:solidFill>
                <a:latin typeface="Times New Roman"/>
              </a:rPr>
              <a:t>Статистика смертности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1902a6"/>
                </a:solidFill>
                <a:latin typeface="Times New Roman"/>
              </a:rPr>
              <a:t>Смертность среди мужчин увеличилась в 2,5 раза, среди женщин – в 3 раза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 России мужчины живут на 18 лет меньше, чем в США и на 12 лет меньше, чем в Европ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40gradusoff"/>
          <p:cNvPicPr/>
          <p:nvPr/>
        </p:nvPicPr>
        <p:blipFill>
          <a:blip r:embed="rId2"/>
          <a:srcRect l="3182" t="0" r="2810" b="0"/>
          <a:stretch/>
        </p:blipFill>
        <p:spPr>
          <a:xfrm>
            <a:off x="0" y="981000"/>
            <a:ext cx="4970520" cy="3456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5029200" y="836640"/>
            <a:ext cx="41148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лкогольная смертность в Сибири составля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2 % от общего уров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902a6"/>
                </a:solidFill>
                <a:latin typeface="Times New Roman"/>
              </a:rPr>
              <a:t>В Центральном федеральном округе -1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сего алкоголик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миллио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395280" y="260280"/>
            <a:ext cx="43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льно пьющих людей развивается  алкогольный гепатит и цирроз печени, увеличивается селез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2"/>
          <a:stretch/>
        </p:blipFill>
        <p:spPr>
          <a:xfrm>
            <a:off x="6429240" y="2286000"/>
            <a:ext cx="2500560" cy="33624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58" name="Picture 2" descr="C:\Users\Марианна\Desktop\Ascites.jpeg"/>
          <p:cNvPicPr/>
          <p:nvPr/>
        </p:nvPicPr>
        <p:blipFill>
          <a:blip r:embed="rId3"/>
          <a:stretch/>
        </p:blipFill>
        <p:spPr>
          <a:xfrm>
            <a:off x="5429160" y="500040"/>
            <a:ext cx="1928880" cy="22287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59" name="Picture 4" descr="C:\Users\Марианна\Desktop\giv1-18.gif"/>
          <p:cNvPicPr/>
          <p:nvPr/>
        </p:nvPicPr>
        <p:blipFill>
          <a:blip r:embed="rId4"/>
          <a:stretch/>
        </p:blipFill>
        <p:spPr>
          <a:xfrm>
            <a:off x="285840" y="2857680"/>
            <a:ext cx="3181320" cy="2371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60" name="Picture 5" descr="C:\Users\Марианна\Desktop\giv1-19.gif"/>
          <p:cNvPicPr/>
          <p:nvPr/>
        </p:nvPicPr>
        <p:blipFill>
          <a:blip r:embed="rId5"/>
          <a:stretch/>
        </p:blipFill>
        <p:spPr>
          <a:xfrm>
            <a:off x="3429000" y="4143240"/>
            <a:ext cx="2200320" cy="25146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Марианна\Desktop\Влияние на организм челоека\p0069.gif"/>
          <p:cNvPicPr/>
          <p:nvPr/>
        </p:nvPicPr>
        <p:blipFill>
          <a:blip r:embed="rId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162" name="Прямоугольник 4"/>
          <p:cNvSpPr/>
          <p:nvPr/>
        </p:nvSpPr>
        <p:spPr>
          <a:xfrm>
            <a:off x="5364000" y="765000"/>
            <a:ext cx="378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алкоголизм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ие мозга, пищеводное кровотечение из варикозных сосудов, функциональная почечная недостаточность, анемия, нарушение свертываемости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3"/>
          <p:cNvSpPr/>
          <p:nvPr/>
        </p:nvSpPr>
        <p:spPr>
          <a:xfrm>
            <a:off x="468360" y="0"/>
            <a:ext cx="648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, отрицательно сказываясь на здоровье женщины, нарушает  нормальное функционирование ее полов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Марианна\Desktop\Влияние на организм челоека\8_b.jpg"/>
          <p:cNvPicPr/>
          <p:nvPr/>
        </p:nvPicPr>
        <p:blipFill>
          <a:blip r:embed="rId2"/>
          <a:stretch/>
        </p:blipFill>
        <p:spPr>
          <a:xfrm>
            <a:off x="357120" y="1928880"/>
            <a:ext cx="2143080" cy="296856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165" name="Picture 3" descr="C:\Users\Марианна\Desktop\Влияние на организм челоека\71196372_150507.jpg"/>
          <p:cNvPicPr/>
          <p:nvPr/>
        </p:nvPicPr>
        <p:blipFill>
          <a:blip r:embed="rId3"/>
          <a:stretch/>
        </p:blipFill>
        <p:spPr>
          <a:xfrm>
            <a:off x="6715080" y="914400"/>
            <a:ext cx="2082960" cy="271152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166" name="Picture 4" descr=""/>
          <p:cNvPicPr/>
          <p:nvPr/>
        </p:nvPicPr>
        <p:blipFill>
          <a:blip r:embed="rId4"/>
          <a:stretch/>
        </p:blipFill>
        <p:spPr>
          <a:xfrm>
            <a:off x="1785960" y="4000680"/>
            <a:ext cx="2933640" cy="264312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167" name="Picture 5" descr=""/>
          <p:cNvPicPr/>
          <p:nvPr/>
        </p:nvPicPr>
        <p:blipFill>
          <a:blip r:embed="rId5"/>
          <a:stretch/>
        </p:blipFill>
        <p:spPr>
          <a:xfrm>
            <a:off x="5143680" y="3000240"/>
            <a:ext cx="2147760" cy="268452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179280" y="33300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им мамам следует задум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Марианна\Desktop\Влияние на организм челоека\gaz.n.04.3.jpg"/>
          <p:cNvPicPr/>
          <p:nvPr/>
        </p:nvPicPr>
        <p:blipFill>
          <a:blip r:embed="rId2"/>
          <a:stretch/>
        </p:blipFill>
        <p:spPr>
          <a:xfrm>
            <a:off x="5429160" y="500040"/>
            <a:ext cx="3562560" cy="414324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170" name="Picture 3" descr="C:\Users\Марианна\Desktop\Влияние на организм челоека\babybrain_ru.jpg"/>
          <p:cNvPicPr/>
          <p:nvPr/>
        </p:nvPicPr>
        <p:blipFill>
          <a:blip r:embed="rId3"/>
          <a:stretch/>
        </p:blipFill>
        <p:spPr>
          <a:xfrm>
            <a:off x="250920" y="1773360"/>
            <a:ext cx="4214880" cy="343512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171" name="Рисунок 5" descr="C:\Users\Марианна\Documents\Алкоголь\Алкоголь и никотин во время беременности опасны для будущего ребенка.jpg"/>
          <p:cNvPicPr/>
          <p:nvPr/>
        </p:nvPicPr>
        <p:blipFill>
          <a:blip r:embed="rId4"/>
          <a:stretch/>
        </p:blipFill>
        <p:spPr>
          <a:xfrm>
            <a:off x="2843280" y="4890960"/>
            <a:ext cx="2109600" cy="196704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172" name="Picture 4" descr="C:\Users\Марианна\Desktop\Влияние на организм челоека\Алкоголь\images.jpeg"/>
          <p:cNvPicPr/>
          <p:nvPr/>
        </p:nvPicPr>
        <p:blipFill>
          <a:blip r:embed="rId5"/>
          <a:stretch/>
        </p:blipFill>
        <p:spPr>
          <a:xfrm>
            <a:off x="5076720" y="4508640"/>
            <a:ext cx="1727280" cy="187308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428760" y="42876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пьяняющих свойствах спиртных напитков люди узнали не менее чем за 8000 лет до нашей э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Марианна\Desktop\Влияние на организм челоека\Алкоголь\картинки\vine.jpg"/>
          <p:cNvPicPr/>
          <p:nvPr/>
        </p:nvPicPr>
        <p:blipFill>
          <a:blip r:embed="rId2"/>
          <a:stretch/>
        </p:blipFill>
        <p:spPr>
          <a:xfrm>
            <a:off x="5072040" y="2357280"/>
            <a:ext cx="3429000" cy="23576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4143240" y="4286160"/>
            <a:ext cx="1754280" cy="22147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99" name="Picture 4" descr=""/>
          <p:cNvPicPr/>
          <p:nvPr/>
        </p:nvPicPr>
        <p:blipFill>
          <a:blip r:embed="rId4"/>
          <a:stretch/>
        </p:blipFill>
        <p:spPr>
          <a:xfrm>
            <a:off x="428760" y="2357280"/>
            <a:ext cx="2835000" cy="3571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0" y="2852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 подростки, употребляющие алкоголь подвержены инфекционным заболев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357120" y="4143240"/>
            <a:ext cx="2214720" cy="25005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3143160" y="4572000"/>
            <a:ext cx="2571840" cy="1714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76" name="Picture 4" descr=""/>
          <p:cNvPicPr/>
          <p:nvPr/>
        </p:nvPicPr>
        <p:blipFill>
          <a:blip r:embed="rId4"/>
          <a:stretch/>
        </p:blipFill>
        <p:spPr>
          <a:xfrm>
            <a:off x="6357960" y="4143240"/>
            <a:ext cx="2071800" cy="25005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77" name="Picture 5" descr="C:\Users\Марианна\Desktop\Влияние на организм челоека\Алкоголь\картинки\152.jpg"/>
          <p:cNvPicPr/>
          <p:nvPr/>
        </p:nvPicPr>
        <p:blipFill>
          <a:blip r:embed="rId5"/>
          <a:stretch/>
        </p:blipFill>
        <p:spPr>
          <a:xfrm>
            <a:off x="3000240" y="571680"/>
            <a:ext cx="3143520" cy="1804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78" name="Picture 6" descr=""/>
          <p:cNvPicPr/>
          <p:nvPr/>
        </p:nvPicPr>
        <p:blipFill>
          <a:blip r:embed="rId6"/>
          <a:stretch/>
        </p:blipFill>
        <p:spPr>
          <a:xfrm>
            <a:off x="6500880" y="214200"/>
            <a:ext cx="242892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79" name="Picture 7" descr="C:\Users\Марианна\Desktop\1172935085.jpg"/>
          <p:cNvPicPr/>
          <p:nvPr/>
        </p:nvPicPr>
        <p:blipFill>
          <a:blip r:embed="rId7"/>
          <a:stretch/>
        </p:blipFill>
        <p:spPr>
          <a:xfrm>
            <a:off x="214200" y="214200"/>
            <a:ext cx="242892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3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действием спиртного у подростков нарушается работа ритма сердца, выработка ферментов в печени, нарушается фильтрующая функция почек, ухудшается память и мышлен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1143000" y="1928880"/>
            <a:ext cx="2714760" cy="31431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82" name="Picture 6" descr="C:\Users\Марианна\Desktop\2_3.jpg"/>
          <p:cNvPicPr/>
          <p:nvPr/>
        </p:nvPicPr>
        <p:blipFill>
          <a:blip r:embed="rId3"/>
          <a:stretch/>
        </p:blipFill>
        <p:spPr>
          <a:xfrm>
            <a:off x="5072040" y="1928880"/>
            <a:ext cx="2711520" cy="32148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715080" y="4286160"/>
            <a:ext cx="2214720" cy="23576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84" name="Picture 4" descr=""/>
          <p:cNvPicPr/>
          <p:nvPr/>
        </p:nvPicPr>
        <p:blipFill>
          <a:blip r:embed="rId5"/>
          <a:stretch/>
        </p:blipFill>
        <p:spPr>
          <a:xfrm>
            <a:off x="428760" y="4357800"/>
            <a:ext cx="1928520" cy="22622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85" name="Picture 7" descr="C:\Users\Марианна\Desktop\mem9.png"/>
          <p:cNvPicPr/>
          <p:nvPr/>
        </p:nvPicPr>
        <p:blipFill>
          <a:blip r:embed="rId6"/>
          <a:stretch/>
        </p:blipFill>
        <p:spPr>
          <a:xfrm>
            <a:off x="3500280" y="4500720"/>
            <a:ext cx="1600200" cy="2071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3"/>
          <p:cNvSpPr/>
          <p:nvPr/>
        </p:nvSpPr>
        <p:spPr>
          <a:xfrm>
            <a:off x="2857680" y="1643040"/>
            <a:ext cx="309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умственного развития детей -  одно из главных последствий алкоголизма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C:\Users\Марианна\Desktop\01_5_1.jpg"/>
          <p:cNvPicPr/>
          <p:nvPr/>
        </p:nvPicPr>
        <p:blipFill>
          <a:blip r:embed="rId2"/>
          <a:stretch/>
        </p:blipFill>
        <p:spPr>
          <a:xfrm>
            <a:off x="428760" y="500040"/>
            <a:ext cx="2205000" cy="30718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6000840" y="625320"/>
            <a:ext cx="2857320" cy="251784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189" name="Picture 5" descr=""/>
          <p:cNvPicPr/>
          <p:nvPr/>
        </p:nvPicPr>
        <p:blipFill>
          <a:blip r:embed="rId4"/>
          <a:stretch/>
        </p:blipFill>
        <p:spPr>
          <a:xfrm>
            <a:off x="214200" y="3929040"/>
            <a:ext cx="2643480" cy="250020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190" name="Picture 6" descr="C:\Users\Марианна\Desktop\edu6_b.jpg"/>
          <p:cNvPicPr/>
          <p:nvPr/>
        </p:nvPicPr>
        <p:blipFill>
          <a:blip r:embed="rId5"/>
          <a:stretch/>
        </p:blipFill>
        <p:spPr>
          <a:xfrm>
            <a:off x="6000840" y="3786120"/>
            <a:ext cx="2900160" cy="258300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4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500640" cy="21924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92" name="Picture 2" descr=""/>
          <p:cNvPicPr/>
          <p:nvPr/>
        </p:nvPicPr>
        <p:blipFill>
          <a:blip r:embed="rId3"/>
          <a:stretch/>
        </p:blipFill>
        <p:spPr>
          <a:xfrm>
            <a:off x="571680" y="4076640"/>
            <a:ext cx="3541680" cy="23767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93" name="Picture 1" descr=""/>
          <p:cNvPicPr/>
          <p:nvPr/>
        </p:nvPicPr>
        <p:blipFill>
          <a:blip r:embed="rId4"/>
          <a:stretch/>
        </p:blipFill>
        <p:spPr>
          <a:xfrm>
            <a:off x="4500720" y="285840"/>
            <a:ext cx="184932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94" name="Picture 3" descr=""/>
          <p:cNvPicPr/>
          <p:nvPr/>
        </p:nvPicPr>
        <p:blipFill>
          <a:blip r:embed="rId5"/>
          <a:stretch/>
        </p:blipFill>
        <p:spPr>
          <a:xfrm>
            <a:off x="6858000" y="285840"/>
            <a:ext cx="180324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195" name="Text Box 7"/>
          <p:cNvSpPr/>
          <p:nvPr/>
        </p:nvSpPr>
        <p:spPr>
          <a:xfrm>
            <a:off x="468360" y="1413000"/>
            <a:ext cx="359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сильно пьющих на 10 – 12 лет меньше сре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539640" y="692280"/>
            <a:ext cx="37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овый алкоголизм возникает и при чрезмерном употреблении п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Users\Марианна\Desktop\Влияние на организм челоека\1187678422_0836.250x225.jpg"/>
          <p:cNvPicPr/>
          <p:nvPr/>
        </p:nvPicPr>
        <p:blipFill>
          <a:blip r:embed="rId2"/>
          <a:stretch/>
        </p:blipFill>
        <p:spPr>
          <a:xfrm>
            <a:off x="5857920" y="428760"/>
            <a:ext cx="3052800" cy="25714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98" name="Picture 3" descr="C:\Users\Марианна\Desktop\Влияние на организм челоека\07_01_00.jpg"/>
          <p:cNvPicPr/>
          <p:nvPr/>
        </p:nvPicPr>
        <p:blipFill>
          <a:blip r:embed="rId3"/>
          <a:stretch/>
        </p:blipFill>
        <p:spPr>
          <a:xfrm>
            <a:off x="4857840" y="2857680"/>
            <a:ext cx="2773440" cy="21430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428760" y="3786120"/>
            <a:ext cx="3786120" cy="2671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00" name="Рисунок 6" descr=""/>
          <p:cNvPicPr/>
          <p:nvPr/>
        </p:nvPicPr>
        <p:blipFill>
          <a:blip r:embed="rId5"/>
          <a:stretch/>
        </p:blipFill>
        <p:spPr>
          <a:xfrm>
            <a:off x="3857760" y="4714920"/>
            <a:ext cx="2357280" cy="1967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324000" y="278100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алкоголиков в 3-4 раза чаще становятся алкогол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643800" y="3714840"/>
            <a:ext cx="2093760" cy="28573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5214960" y="4214880"/>
            <a:ext cx="1643040" cy="1643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6715080" y="571680"/>
            <a:ext cx="1795680" cy="2286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05" name="Picture 6" descr=""/>
          <p:cNvPicPr/>
          <p:nvPr/>
        </p:nvPicPr>
        <p:blipFill>
          <a:blip r:embed="rId5"/>
          <a:stretch/>
        </p:blipFill>
        <p:spPr>
          <a:xfrm>
            <a:off x="928800" y="214200"/>
            <a:ext cx="392904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06" name="Picture 8" descr="C:\Users\Марианна\Desktop\1201012007_0702.250x200.jpeg"/>
          <p:cNvPicPr/>
          <p:nvPr/>
        </p:nvPicPr>
        <p:blipFill>
          <a:blip r:embed="rId6"/>
          <a:stretch/>
        </p:blipFill>
        <p:spPr>
          <a:xfrm>
            <a:off x="208080" y="4572000"/>
            <a:ext cx="2149200" cy="2048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07" name="Picture 7" descr="C:\Users\Марианна\Desktop\132163.jpg"/>
          <p:cNvPicPr/>
          <p:nvPr/>
        </p:nvPicPr>
        <p:blipFill>
          <a:blip r:embed="rId7"/>
          <a:stretch/>
        </p:blipFill>
        <p:spPr>
          <a:xfrm>
            <a:off x="2000160" y="4071960"/>
            <a:ext cx="2571840" cy="18572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250920" y="54936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стие к алкоголю - причина различных преступ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C:\Users\Марианна\Desktop\Новый рисунок.png"/>
          <p:cNvPicPr/>
          <p:nvPr/>
        </p:nvPicPr>
        <p:blipFill>
          <a:blip r:embed="rId2"/>
          <a:stretch/>
        </p:blipFill>
        <p:spPr>
          <a:xfrm>
            <a:off x="6072120" y="1500120"/>
            <a:ext cx="2662200" cy="30718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10" name="Picture 2" descr="C:\Users\Марианна\Desktop\2_copy4.jpg"/>
          <p:cNvPicPr/>
          <p:nvPr/>
        </p:nvPicPr>
        <p:blipFill>
          <a:blip r:embed="rId3"/>
          <a:stretch/>
        </p:blipFill>
        <p:spPr>
          <a:xfrm>
            <a:off x="285840" y="4643280"/>
            <a:ext cx="4457520" cy="18957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11" name="Picture 3" descr="C:\Users\Марианна\Desktop\_1 (2).JPG"/>
          <p:cNvPicPr/>
          <p:nvPr/>
        </p:nvPicPr>
        <p:blipFill>
          <a:blip r:embed="rId4"/>
          <a:stretch/>
        </p:blipFill>
        <p:spPr>
          <a:xfrm>
            <a:off x="4071960" y="3882960"/>
            <a:ext cx="2786040" cy="1822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12" name="Picture 4" descr="C:\Users\Марианна\Desktop\travma.jpg"/>
          <p:cNvPicPr/>
          <p:nvPr/>
        </p:nvPicPr>
        <p:blipFill>
          <a:blip r:embed="rId5"/>
          <a:stretch/>
        </p:blipFill>
        <p:spPr>
          <a:xfrm>
            <a:off x="1285920" y="2000160"/>
            <a:ext cx="2195640" cy="23576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285840" y="21924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В. Белинс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ьют и едят все люди, но пьюнствуют и обжорствуют только дик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214200" y="442908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Л. Толстой. </a:t>
            </a:r>
            <a:r>
              <a:rPr b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янство заглушает голос совести. В этом главная причина самоодурманивания людей. Спирт так же консервирует душу и ум пьяницы, как он консервирует анатомические препа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3214800" y="3071880"/>
            <a:ext cx="55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А. Чех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одка белая, но краснит нос и чернит репу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714920" y="142920"/>
            <a:ext cx="2571840" cy="285732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357120" y="1357200"/>
            <a:ext cx="2643120" cy="29289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18" name="Picture 4" descr=""/>
          <p:cNvPicPr/>
          <p:nvPr/>
        </p:nvPicPr>
        <p:blipFill>
          <a:blip r:embed="rId4"/>
          <a:stretch/>
        </p:blipFill>
        <p:spPr>
          <a:xfrm>
            <a:off x="5572080" y="3857760"/>
            <a:ext cx="2571840" cy="28573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142920" y="28584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Феодосий Печерский</a:t>
            </a:r>
            <a:r>
              <a:rPr b="1" lang="en-US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сноватый страдает по неволе и может удостоится  жизни вечной, а пьяный страдает по собственной воле и предан на вечную м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5286240" y="54291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Н. Семашк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Можно сказать, что сколько мужья выпили водки, столько их жены и дети пролили сл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5"/>
          <p:cNvSpPr/>
          <p:nvPr/>
        </p:nvSpPr>
        <p:spPr>
          <a:xfrm>
            <a:off x="214200" y="271476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К. Ушинский</a:t>
            </a:r>
            <a:r>
              <a:rPr b="1" lang="en-US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яному на  светлой улице те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5286240" y="42148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И. Ефимов</a:t>
            </a:r>
            <a:r>
              <a:rPr b="1" lang="en-US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крепких вин, есть слабые голо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207180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6000840" y="1714680"/>
            <a:ext cx="2043000" cy="2286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25" name="Picture 4" descr=""/>
          <p:cNvPicPr/>
          <p:nvPr/>
        </p:nvPicPr>
        <p:blipFill>
          <a:blip r:embed="rId4"/>
          <a:stretch/>
        </p:blipFill>
        <p:spPr>
          <a:xfrm>
            <a:off x="2214720" y="3429000"/>
            <a:ext cx="2857320" cy="19051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26" name="Picture 5" descr=""/>
          <p:cNvPicPr/>
          <p:nvPr/>
        </p:nvPicPr>
        <p:blipFill>
          <a:blip r:embed="rId5"/>
          <a:stretch/>
        </p:blipFill>
        <p:spPr>
          <a:xfrm>
            <a:off x="428760" y="4071960"/>
            <a:ext cx="207144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3419640" y="6165720"/>
            <a:ext cx="1223640" cy="503280"/>
          </a:xfrm>
          <a:custGeom>
            <a:avLst/>
            <a:gdLst>
              <a:gd name="textAreaLeft" fmla="*/ 32400 w 1223640"/>
              <a:gd name="textAreaRight" fmla="*/ 1191240 w 122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495" h="21600">
                <a:moveTo>
                  <a:pt x="0" y="0"/>
                </a:moveTo>
                <a:lnTo>
                  <a:pt x="52495" y="0"/>
                </a:lnTo>
                <a:lnTo>
                  <a:pt x="52495" y="21600"/>
                </a:lnTo>
                <a:lnTo>
                  <a:pt x="0" y="21600"/>
                </a:lnTo>
                <a:close/>
              </a:path>
              <a:path fill="lightenLess" w="52495" h="21600">
                <a:moveTo>
                  <a:pt x="0" y="0"/>
                </a:moveTo>
                <a:lnTo>
                  <a:pt x="52495" y="0"/>
                </a:lnTo>
                <a:lnTo>
                  <a:pt x="51095" y="1400"/>
                </a:lnTo>
                <a:lnTo>
                  <a:pt x="1400" y="1400"/>
                </a:lnTo>
                <a:close/>
              </a:path>
              <a:path fill="darken" w="52495" h="21600">
                <a:moveTo>
                  <a:pt x="52495" y="0"/>
                </a:moveTo>
                <a:lnTo>
                  <a:pt x="52495" y="21600"/>
                </a:lnTo>
                <a:lnTo>
                  <a:pt x="51095" y="20200"/>
                </a:lnTo>
                <a:lnTo>
                  <a:pt x="51095" y="1400"/>
                </a:lnTo>
                <a:close/>
              </a:path>
              <a:path fill="darkenLess" w="52495" h="21600">
                <a:moveTo>
                  <a:pt x="5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95" y="20200"/>
                </a:lnTo>
                <a:close/>
              </a:path>
              <a:path fill="lighten" w="5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95" h="21600">
                <a:moveTo>
                  <a:pt x="26247" y="3837"/>
                </a:moveTo>
                <a:lnTo>
                  <a:pt x="28824" y="6448"/>
                </a:lnTo>
                <a:lnTo>
                  <a:pt x="28824" y="4707"/>
                </a:lnTo>
                <a:lnTo>
                  <a:pt x="30599" y="4707"/>
                </a:lnTo>
                <a:lnTo>
                  <a:pt x="30599" y="8224"/>
                </a:lnTo>
                <a:lnTo>
                  <a:pt x="33210" y="10800"/>
                </a:lnTo>
                <a:lnTo>
                  <a:pt x="31557" y="10800"/>
                </a:lnTo>
                <a:lnTo>
                  <a:pt x="31557" y="17989"/>
                </a:lnTo>
                <a:lnTo>
                  <a:pt x="20938" y="17989"/>
                </a:lnTo>
                <a:lnTo>
                  <a:pt x="20938" y="10800"/>
                </a:lnTo>
                <a:lnTo>
                  <a:pt x="19284" y="10800"/>
                </a:lnTo>
                <a:close/>
              </a:path>
              <a:path fill="darkenLess" w="52495" h="21600">
                <a:moveTo>
                  <a:pt x="28824" y="6448"/>
                </a:moveTo>
                <a:lnTo>
                  <a:pt x="28824" y="4707"/>
                </a:lnTo>
                <a:lnTo>
                  <a:pt x="30599" y="4707"/>
                </a:lnTo>
                <a:lnTo>
                  <a:pt x="30599" y="8224"/>
                </a:lnTo>
                <a:close/>
              </a:path>
              <a:path fill="darkenLess" w="52495" h="21600">
                <a:moveTo>
                  <a:pt x="25325" y="14299"/>
                </a:moveTo>
                <a:lnTo>
                  <a:pt x="27170" y="14299"/>
                </a:lnTo>
                <a:lnTo>
                  <a:pt x="27170" y="17989"/>
                </a:lnTo>
                <a:lnTo>
                  <a:pt x="31557" y="17989"/>
                </a:lnTo>
                <a:lnTo>
                  <a:pt x="31557" y="10800"/>
                </a:lnTo>
                <a:lnTo>
                  <a:pt x="20938" y="10800"/>
                </a:lnTo>
                <a:lnTo>
                  <a:pt x="20938" y="17989"/>
                </a:lnTo>
                <a:lnTo>
                  <a:pt x="25325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4600" spc="-1" strike="noStrike">
                <a:solidFill>
                  <a:srgbClr val="000000"/>
                </a:solidFill>
                <a:latin typeface="Perpetua Titling MT"/>
              </a:rPr>
              <a:t>ХОЧЕШЬ СТАТЬ НЕСЧАСТНЫМ - СТАНЬ ИМ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00"/>
                </a:solidFill>
                <a:latin typeface="Times New Roman"/>
              </a:rPr>
              <a:t>Наказание за употребление алкоголя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Древней Греции пьяному мужу строго запрещалось сходиться с женой. Там же был издан закон, запрещающий новобрачным употреблять вино в день свадьб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В Древней Индии за пьянство поили кипятком, расплавленным серебром, свинц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В Древнем Риме разрешалось безнаказанно убивать жен, злоупотреблявших спиртными напитк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285840" y="1580760"/>
            <a:ext cx="25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й Руси пили очень м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на избранные праздники варили медовуху, брагу или п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Users\Марианна\Desktop\1a33f622b6c0765978e095140b7d4652.jpg"/>
          <p:cNvPicPr/>
          <p:nvPr/>
        </p:nvPicPr>
        <p:blipFill>
          <a:blip r:embed="rId2"/>
          <a:stretch/>
        </p:blipFill>
        <p:spPr>
          <a:xfrm>
            <a:off x="3143160" y="285840"/>
            <a:ext cx="5572080" cy="320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04" name="Picture 4" descr="C:\Users\Марианна\Desktop\sbiten.jpg"/>
          <p:cNvPicPr/>
          <p:nvPr/>
        </p:nvPicPr>
        <p:blipFill>
          <a:blip r:embed="rId3"/>
          <a:stretch/>
        </p:blipFill>
        <p:spPr>
          <a:xfrm>
            <a:off x="5786280" y="2786040"/>
            <a:ext cx="2571840" cy="31971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105" name="Прямоугольник 8"/>
          <p:cNvSpPr/>
          <p:nvPr/>
        </p:nvSpPr>
        <p:spPr>
          <a:xfrm>
            <a:off x="3000960" y="635796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Старинная кр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3357720" y="3857760"/>
            <a:ext cx="1571400" cy="24858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5572440" y="60008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Русская пивова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000680" y="1928880"/>
            <a:ext cx="4905360" cy="36432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109" name="Rectangle 3"/>
          <p:cNvSpPr/>
          <p:nvPr/>
        </p:nvSpPr>
        <p:spPr>
          <a:xfrm>
            <a:off x="0" y="51444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ни или села имели свой питейный дом или корчму, где подавали пиво, брагу, меды, ква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0" y="600084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Квасир на средневековой гравю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785880" y="1785960"/>
            <a:ext cx="2071800" cy="42148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12" name="Picture 7" descr="C:\Users\Марианна\Desktop\20040105045246_big.jpg"/>
          <p:cNvPicPr/>
          <p:nvPr/>
        </p:nvPicPr>
        <p:blipFill>
          <a:blip r:embed="rId4"/>
          <a:stretch/>
        </p:blipFill>
        <p:spPr>
          <a:xfrm>
            <a:off x="3286080" y="5214960"/>
            <a:ext cx="1928880" cy="1282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3632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ши дни очень актуальна пробл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отребления алког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Users\Марианна\Desktop\s886_1161631242_1.jpg"/>
          <p:cNvPicPr/>
          <p:nvPr/>
        </p:nvPicPr>
        <p:blipFill>
          <a:blip r:embed="rId2"/>
          <a:stretch/>
        </p:blipFill>
        <p:spPr>
          <a:xfrm>
            <a:off x="6215040" y="2071800"/>
            <a:ext cx="2535120" cy="36525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15" name="Рисунок 7" descr=""/>
          <p:cNvPicPr/>
          <p:nvPr/>
        </p:nvPicPr>
        <p:blipFill>
          <a:blip r:embed="rId3"/>
          <a:stretch/>
        </p:blipFill>
        <p:spPr>
          <a:xfrm>
            <a:off x="357120" y="3286080"/>
            <a:ext cx="3672000" cy="2624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16" name="Picture 2" descr="C:\Users\Марианна\Desktop\Влияние на организм челоека\Алкоголь\картинки\817_head.jpg"/>
          <p:cNvPicPr/>
          <p:nvPr/>
        </p:nvPicPr>
        <p:blipFill>
          <a:blip r:embed="rId4"/>
          <a:stretch/>
        </p:blipFill>
        <p:spPr>
          <a:xfrm>
            <a:off x="3000240" y="1857240"/>
            <a:ext cx="2279880" cy="18576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500040" y="1220400"/>
            <a:ext cx="349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 алкоголя очевид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4788000" y="2997360"/>
            <a:ext cx="410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коголь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родукц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которая выпускается негосударственными предприятиями, содержит большое количество ядови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"/>
          <p:cNvPicPr/>
          <p:nvPr/>
        </p:nvPicPr>
        <p:blipFill>
          <a:blip r:embed="rId2"/>
          <a:stretch/>
        </p:blipFill>
        <p:spPr>
          <a:xfrm>
            <a:off x="357120" y="3571920"/>
            <a:ext cx="392904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20" name="Picture 2" descr="C:\Users\Марианна\Desktop\e13ccf64e46fb12eee2bc502ad299326_full.jpg"/>
          <p:cNvPicPr/>
          <p:nvPr/>
        </p:nvPicPr>
        <p:blipFill>
          <a:blip r:embed="rId3"/>
          <a:stretch/>
        </p:blipFill>
        <p:spPr>
          <a:xfrm>
            <a:off x="4572000" y="428760"/>
            <a:ext cx="3929040" cy="24764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57120" y="2901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 на растениях, жуках, птицах, животных показали, что алкоголь вреден для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85840" y="564372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ослабляет рост семян растений и убивает в них жизне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4143240" cy="30002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24" name="Picture 5" descr="C:\Users\Марианна\Desktop\f06.jpg"/>
          <p:cNvPicPr/>
          <p:nvPr/>
        </p:nvPicPr>
        <p:blipFill>
          <a:blip r:embed="rId3"/>
          <a:stretch/>
        </p:blipFill>
        <p:spPr>
          <a:xfrm>
            <a:off x="7072200" y="285840"/>
            <a:ext cx="1785960" cy="17143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25" name="Picture 8" descr="C:\Users\Марианна\Desktop\7271.jpeg"/>
          <p:cNvPicPr/>
          <p:nvPr/>
        </p:nvPicPr>
        <p:blipFill>
          <a:blip r:embed="rId4"/>
          <a:stretch/>
        </p:blipFill>
        <p:spPr>
          <a:xfrm>
            <a:off x="214200" y="2071800"/>
            <a:ext cx="2667240" cy="2286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26" name="Picture 10" descr=""/>
          <p:cNvPicPr/>
          <p:nvPr/>
        </p:nvPicPr>
        <p:blipFill>
          <a:blip r:embed="rId5"/>
          <a:stretch/>
        </p:blipFill>
        <p:spPr>
          <a:xfrm>
            <a:off x="6643800" y="5000760"/>
            <a:ext cx="2190600" cy="1643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0" y="21960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падании спиртового раствора в улей, пчелы прекращали рабочие вылеты и целыми днями оставались в улье,  забывая о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357120" y="3143160"/>
            <a:ext cx="3314880" cy="26290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4214880" y="1928880"/>
            <a:ext cx="2763720" cy="32148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6072120" y="4357800"/>
            <a:ext cx="2762280" cy="20714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50:03Z</dcterms:created>
  <dc:creator>Марианна</dc:creator>
  <dc:description/>
  <dc:language>en-US</dc:language>
  <cp:lastModifiedBy>Нурлана</cp:lastModifiedBy>
  <dcterms:modified xsi:type="dcterms:W3CDTF">2012-02-02T16:45:01Z</dcterms:modified>
  <cp:revision>76</cp:revision>
  <dc:subject/>
  <dc:title>ВЛИЯНИЕ АЛКОГОЛЯ НА ОРГАНИЗМ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3000000000001023620</vt:lpwstr>
  </property>
</Properties>
</file>