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5.gif" ContentType="image/gif"/>
  <Override PartName="/ppt/media/image9.wmf" ContentType="image/x-wmf"/>
  <Override PartName="/ppt/media/image13.jpeg" ContentType="image/jpeg"/>
  <Override PartName="/ppt/media/image18.gif" ContentType="image/gif"/>
  <Override PartName="/ppt/media/image20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6.gif" ContentType="image/gif"/>
  <Override PartName="/ppt/media/image23.gif" ContentType="image/gif"/>
  <Override PartName="/ppt/media/image21.gif" ContentType="image/gif"/>
  <Override PartName="/ppt/media/image19.png" ContentType="image/png"/>
  <Override PartName="/ppt/media/image17.gif" ContentType="image/gif"/>
  <Override PartName="/ppt/media/image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2.gif" ContentType="image/gif"/>
  <Override PartName="/ppt/media/image4.jpeg" ContentType="image/jpeg"/>
  <Override PartName="/ppt/media/image5.gif" ContentType="image/gif"/>
  <Override PartName="/ppt/media/image14.jpeg" ContentType="image/jpe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pictures" TargetMode="External"/><Relationship Id="rId3" Type="http://schemas.openxmlformats.org/officeDocument/2006/relationships/hyperlink" Target="http://www.google.com/pictures" TargetMode="External"/><Relationship Id="rId4" Type="http://schemas.openxmlformats.org/officeDocument/2006/relationships/hyperlink" Target="http://www.google.com/pictures" TargetMode="External"/><Relationship Id="rId5" Type="http://schemas.openxmlformats.org/officeDocument/2006/relationships/hyperlink" Target="http://www.google.com/pictures" TargetMode="External"/><Relationship Id="rId6" Type="http://schemas.openxmlformats.org/officeDocument/2006/relationships/hyperlink" Target="http://www.google.com/pictures" TargetMode="External"/><Relationship Id="rId7" Type="http://schemas.openxmlformats.org/officeDocument/2006/relationships/hyperlink" Target="http://www.google.com/pictures" TargetMode="External"/><Relationship Id="rId8" Type="http://schemas.openxmlformats.org/officeDocument/2006/relationships/hyperlink" Target="http://www.google.com/pictures" TargetMode="External"/><Relationship Id="rId9" Type="http://schemas.openxmlformats.org/officeDocument/2006/relationships/hyperlink" Target="http://www.zveryshki.ru/" TargetMode="External"/><Relationship Id="rId10" Type="http://schemas.openxmlformats.org/officeDocument/2006/relationships/hyperlink" Target="http://www.v3toys.ru/" TargetMode="External"/><Relationship Id="rId11" Type="http://schemas.openxmlformats.org/officeDocument/2006/relationships/hyperlink" Target="http://www.klopp.ru/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1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333360"/>
            <a:ext cx="3745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ареева А.Р. учитель английского язы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Акбашская ООШ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496360" cy="4851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916360" y="2133720"/>
            <a:ext cx="30016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F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Slim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Strong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Funny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Merry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0240" y="2231640"/>
            <a:ext cx="37494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Nic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Brav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appy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Sad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ngry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ставь словосочетания, используя прилагательные и животных, которых ты знаешь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4437000"/>
            <a:ext cx="1816200" cy="1631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55640" y="1413000"/>
            <a:ext cx="1784520" cy="251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596360" y="2852640"/>
            <a:ext cx="1547640" cy="154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2433600"/>
            <a:ext cx="8569080" cy="30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кажи, кто из животных у тебя есть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Используй фразу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 have got …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 have got a dog.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 have got a monkey.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2886120" cy="238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кажи как его зовут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Делай это по образцу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Monotype Corsiva"/>
              </a:rPr>
              <a:t>His name is Jack.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Monotype Corsiva"/>
              </a:rPr>
              <a:t>Her name is Bess.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кажи, какого он возраста и опиши его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ff"/>
                </a:solidFill>
                <a:latin typeface="Calisto MT"/>
              </a:rPr>
              <a:t>He/she is 5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ff"/>
                </a:solidFill>
                <a:latin typeface="Calisto MT"/>
              </a:rPr>
              <a:t>He/she is big and funny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ff"/>
                </a:solidFill>
                <a:latin typeface="Calisto MT"/>
              </a:rPr>
              <a:t>He/she is nice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9640" y="292428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остарайся подробнее описать его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He has got a big nose. He has got black eyes.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573280" cy="2664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Чтобы узнать тему урока, разгадай ребус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d4d4d"/>
                </a:solidFill>
                <a:latin typeface="Arial"/>
                <a:ea typeface="Arial"/>
              </a:rPr>
              <a:t>,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58920" y="242100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81800" y="184464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211640" y="2349360"/>
            <a:ext cx="2519280" cy="188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382160" y="24922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8880" y="24922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5280" y="4653000"/>
            <a:ext cx="4105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397080" y="263700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560" y="1125000"/>
            <a:ext cx="6553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азови, что он умеет делать и не умеет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637000"/>
            <a:ext cx="828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He/she can fly, but he/she cannot dance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311640" cy="2997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Назови, что любит есть твоё животно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e/she likes to eat meat.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40000" y="3573360"/>
            <a:ext cx="3122640" cy="2616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63640" y="141264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 теперь составь рассказ о твоём животном по плану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Животное, которое у тебя ест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м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зраст и его характеристи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ий вид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то он умеет делать и не умее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то он любит ест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4886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H/w 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оставить рассказ о своей любимой игрушке – животном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писок литератур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учебник М.З.Биболетова “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Enjoy English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” 3 класс, Титул, 2008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www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google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com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pictures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9"/>
              </a:rPr>
              <a:t>www.zveryshki.r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0"/>
              </a:rPr>
              <a:t>www.v3toys.r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1"/>
              </a:rPr>
              <a:t>www.klopp.ru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Назови животных, изображенных на картинках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592360" cy="2073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17720" y="0"/>
            <a:ext cx="4989600" cy="6446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12:21Z</dcterms:created>
  <dc:creator>JR</dc:creator>
  <dc:description/>
  <dc:language>en-US</dc:language>
  <cp:lastModifiedBy>Admin</cp:lastModifiedBy>
  <dcterms:modified xsi:type="dcterms:W3CDTF">2012-02-21T12:30:35Z</dcterms:modified>
  <cp:revision>14</cp:revision>
  <dc:subject/>
  <dc:title>ANIMALS</dc:title>
</cp:coreProperties>
</file>