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2C0-73D2-4D72-A826-FFB096B1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66D9-6DB1-403A-A454-07B69473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B60-2F84-47AB-A92F-95F982C6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FA6-FBA9-4ABA-A78D-914EC538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319-825B-43BF-ACAC-B39824AE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317-85B1-4AD5-9975-B42BA5D6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CBD-E2AB-4FBD-A89C-53CDF9AA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BB3-BA12-492B-A6A4-42944AB4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51F-7BD9-41F8-829D-7708164B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3D4-796D-4EEC-B052-DA8135F5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681-FBD3-4E26-8C91-2A6EE2E1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E10-11E8-452A-B91A-7FA1F42D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94CC-DE74-465F-B05C-B450DA233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99ccff"/>
                </a:solidFill>
                <a:uFillTx/>
                <a:latin typeface="Arial"/>
              </a:rPr>
              <a:t>Функц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41716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пределение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ункции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приближенное к современному, дал</a:t>
            </a:r>
            <a:r>
              <a:rPr b="0" i="1" lang="en-US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Иоганн Бернулли</a:t>
            </a:r>
            <a:r>
              <a:rPr b="0" i="1" lang="en-US" sz="2400" spc="-1" strike="noStrike">
                <a:solidFill>
                  <a:srgbClr val="9900ff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ункцией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переменной величины называется количество, образованное каким угодно способом из этой переменной величины и постоянн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328608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cc00"/>
                </a:solidFill>
                <a:uFillTx/>
                <a:latin typeface="Arial"/>
              </a:rPr>
              <a:t>Линейны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cc00"/>
                </a:solidFill>
                <a:uFillTx/>
                <a:latin typeface="Arial"/>
              </a:rPr>
              <a:t>Линейной функцией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функция,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оторую можно задать формулой вид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y=kx+b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независимая переменная,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некоторые числа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ля построения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рафик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линейной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функци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достаточно найти координаты двух точек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рафик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отметить эти точки в координатной плоскости и провести через них прям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Прямая пропорциональность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функция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вида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у=кх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независимая переменная,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не равное нулю число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рафиком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прямой пропорциональности является прямая, проходящая через начало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5540400" cy="65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cccc"/>
                </a:solidFill>
                <a:uFillTx/>
                <a:latin typeface="Arial"/>
              </a:rPr>
              <a:t>Построение графика линейной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Для построения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рафика линейной функции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необходимо: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выбрать любые два значения переменной х (аргумента), например 0 и 1;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вычислить соответствующие значения переменной y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функции).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Полученные результаты удобно записывать в табл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16000" y="4941720"/>
          <a:ext cx="1666800" cy="1035000"/>
        </p:xfrm>
        <a:graphic>
          <a:graphicData uri="http://schemas.openxmlformats.org/drawingml/2006/table">
            <a:tbl>
              <a:tblPr/>
              <a:tblGrid>
                <a:gridCol w="555480"/>
                <a:gridCol w="555480"/>
                <a:gridCol w="55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олученные точки А и В изображаем в системе координат;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соединяем по линейке точки А и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имер. Построим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рафик линейной функции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y =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-3·x+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900000" y="2997360"/>
          <a:ext cx="2027520" cy="1473120"/>
        </p:xfrm>
        <a:graphic>
          <a:graphicData uri="http://schemas.openxmlformats.org/drawingml/2006/table">
            <a:tbl>
              <a:tblPr/>
              <a:tblGrid>
                <a:gridCol w="675720"/>
                <a:gridCol w="676080"/>
                <a:gridCol w="67572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ffcc"/>
                </a:solidFill>
                <a:uFillTx/>
                <a:latin typeface="Arial"/>
              </a:rPr>
              <a:t>Квадратичн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66ffcc"/>
                </a:solidFill>
                <a:uFillTx/>
                <a:latin typeface="Arial"/>
              </a:rPr>
              <a:t>Квадратичной функцией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зывается функция,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оторую можно задать формулой вида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y=ax²+bx+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смотрим случай, когда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a=1,b=0 и c=0.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Формула примет вид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y=x²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ы, наверно, уже знаете, какая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висимость между площадью квадрата и длиной его стороны. Зависимость между площадью квадрата и длиной его стороны следующая: площадь квадрата равна квадрату его стор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как изменяется площадь в зависимости от изменения длины стороны? Эта зависимость является примером новой функции. Чтобы поближе с ней познакомиться, построим график этой функции. Для того, чтобы построить график этой функции, нам необходимо составить таблицу соответственных значений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y.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строим эти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очки на координатной плоскости. А затем через эти точки проведём плавную линию Мы получили график функции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y=x²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оторый называется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9999"/>
                </a:solidFill>
                <a:latin typeface="Arial"/>
              </a:rPr>
              <a:t>параболой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ли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х=0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о и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у=0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ли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х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≠0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то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у&gt;0.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отивоположным значениям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х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ответствует одно и тоже значение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у</a:t>
            </a:r>
            <a:r>
              <a:rPr b="0" i="1" lang="ru-RU" sz="24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547640" y="189000"/>
            <a:ext cx="6193080" cy="64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9999"/>
                </a:solidFill>
                <a:uFillTx/>
                <a:latin typeface="Arial"/>
              </a:rPr>
              <a:t>Свойства парабо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. Любая прямая, параллельная оси симметрии параболы, после отражения от параболы проходит через ее фокус.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. Касательная в любой точке параболы делит пополам угол между прямой, соединяющей точку касания с фокусом, и перпендикуляром, опущенным из этой точки на директрису.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Эти свойства парабол используют при конструировании солнечных печей, телескопов, параболических антенн.</a:t>
            </a:r>
            <a:r>
              <a:rPr b="0" i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Arial"/>
              </a:rPr>
              <a:t>Параболические антенны</a:t>
            </a: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ожно увидеть около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любого аэродрома – они используются для того, чтобы собрать в одну точку все сигналы радиолокатора, отраженные от самолета. В прожекторах, наоборот, свет, исходящий из фокуса параболического зеркала, после отражения образует параллельный пучок и не рассеивается. По этой причине форму параболоида вращения имеют и автомобильные фары.</a:t>
            </a: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6600"/>
                </a:solidFill>
                <a:uFillTx/>
                <a:latin typeface="Arial"/>
              </a:rPr>
              <a:t>Куб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Кубической функцией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ывается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ункция,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торую можно задать формулой вида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y=x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^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поближе с ней познакомиться, построим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афи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этой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унк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Для того, чтобы построить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афи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этой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ункции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м необходимо составить таблицу соответственных значений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роим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и точки на координатной плоскости. А затем через эти точки проведём плавную ли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получили график функции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y=x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^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оторый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ываетс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кубической парабо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627280" y="476280"/>
            <a:ext cx="3600360" cy="55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Arial"/>
              </a:rPr>
              <a:t>Что такое функц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ccff"/>
                </a:solidFill>
                <a:uFillTx/>
                <a:latin typeface="Arial"/>
              </a:rPr>
              <a:t>Функциональная зависимость, или функция,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это такая зависимость между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двумя переменными, при которой каждому значению независимой переменной соответствует единственное значение зависимой переме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Независимую переменную иначе называют аргументом, а о зависимой говорят, что она является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функцией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т этого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аргумента. Все значения, которые принимает независимая переменная, образуют область определения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функции</a:t>
            </a:r>
            <a:r>
              <a:rPr b="0" i="1" lang="en-US" sz="2800" spc="-1" strike="noStrike">
                <a:solidFill>
                  <a:srgbClr val="99c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cccc"/>
                </a:solidFill>
                <a:uFillTx/>
                <a:latin typeface="Arial"/>
              </a:rPr>
              <a:t>Свойства кубической функ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Если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х = 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о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у = 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.е. кубическа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бола</a:t>
            </a: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секает оси координат в точке (0; 0) - начале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ордина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Если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х &gt; 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о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у &gt; 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а если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х &lt; 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о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у &lt; 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.е.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бическа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бо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лежит в первой и третьей координатном четвертях.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Множеством значений функции y=x3 является вся числовая пряма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Если значения аргумента отличаются только знаком, то и значени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тличаются только знаком, т.е. кубическа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бо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имметрична относительно начала координат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я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y=x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ечетная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я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y=x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растающая в области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я.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Обратная пропорциона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братной пропорциональнос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зываетс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которую можно задать формулой вида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у=k/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где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езависимая переменная и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е равное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улю число. Областью определения тако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ется множество всех чисел, отличных от нуля. Если величины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y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братно пропорциональ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о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ональная зависимость между ними выражается уравнением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y = k / 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где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некоторая постоянная величина.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обратной пропорциональности есть кривая линия, состоящая из двух ветвей. Этот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фик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ерболой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висимости от знака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тв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ерболы</a:t>
            </a: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положены либо в 1 и 3 координатных четвертях (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ожительно), либо во 2 и 4 координатных четвертях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рицательно).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исунке изображен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функции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y = 2/ x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5329440" cy="62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Задачи прошедших веков, связанные с понятием </a:t>
            </a:r>
            <a:r>
              <a:rPr b="1" i="1" lang="en-US" sz="4000" spc="-1" strike="noStrike" u="sng">
                <a:solidFill>
                  <a:srgbClr val="99ccff"/>
                </a:solidFill>
                <a:uFillTx/>
                <a:latin typeface="Arial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6600"/>
                </a:solidFill>
                <a:uFillTx/>
                <a:latin typeface="Arial"/>
              </a:rPr>
              <a:t>Задача Лейбница о трактрисе (собачьей криво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Пусть по оси абсцисс бежит собака, а ее хозяин (первоначально находившийся на оси ординат) бежит за ней так, что поводок все время натянут. В этом случае поводок будет направлен по касательной к пути хозяина. Требуется найти, по какой линии бежит хозяин соб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Эту кривую называют трактрисой. Через полтора столетия после ее открытия она сыграла роль в утверждении неевклидовой геометрии Лобачевского: если повернуть трактрису вокруг оси абсцисс, то на полученной поверхности вращения будет выполняться геометрия Лобачев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84836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Пушки и учё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Траекторией снарядов интересовались многие ученые. Особенный интерес возник с момента изобретения пороха (в XIII веке). Ни одна тогдашняя крепость не могла долго выдержать артиллерийский огнь. Сначала применяли лишь настильный огонь, а это не давало возможности располагать артиллеристов в укреплении за холмом. Лишь позже догадались применять навесный огонь, позволяющий стрелять из-за укрытия. Чтобы обеспечить прицельность навесного огня, нужно было изучить движение тела, брошенного под углом к горизонту. Учёные доказали, что тело движется по параболе. Если при заданной начальной скорости снаряда V менять угол α, то получится бесконечное множество парабол. Все параболы, для которых 45° ≤ α ≤ 90°, касаются одной и той же линии, имеющей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Y=½(V²/g – gx²/ V²)Её называют параболой безопасности. Если точка N находится вне ограниченной ею области, то при начальной скорости V снаряд не попадёт в N ни при каком угле накл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856908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cccc"/>
                </a:solidFill>
                <a:uFillTx/>
                <a:latin typeface="Arial"/>
              </a:rPr>
              <a:t>Оптические свойства параболических зерк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По дошедшей до нас легенде Архимед построил вогнутые зеркала и с их помощью сжег римские корабли. Большинство ученых отвергают эту легенду, поскольку такие зеркала должны были бы иметь слишком большие размеры, а это невозможно при тогдашнем уровне техники. 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Но если даже история о сожжении кораблей легендарна, то все-таки сжечь римский флот при помощи параболических зеркал возможно.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Результаты, полученные Архимедом, были основаны на следующем утверждении: любая прямая, параллельная оси симметрии параболы, после отражения от параболы проходит через ее фокус. Это же свойство параболы можно сформулировать и так: касательная к любой точке параболы делит пополам угол между прямой, соединяющей точку касания с фокусом, и перпендикуляром, опущенным из этой точки на директрис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Для того чтобы построить зеркало, собирающее солнечные лучи в одной точке, нужно отшлифовать его по параболоиду вращения – поверхности, получаемой при вращении параболы вокруг ее оси. Если направить такое параболическое зеркало на Солнце, то все отраженные лучи пройдут через фокус параболы, и температура в нем окажется настолько большой, что с помощью солнечных лучей можно будет вскипятить воду, расплавить свинец и т.д. Отсюда происходит и само название «фокус», означающее по-латыни «очаг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cccc"/>
                </a:solidFill>
                <a:uFillTx/>
                <a:latin typeface="Arial"/>
              </a:rPr>
              <a:t>Способы задания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cc"/>
                </a:solidFill>
                <a:latin typeface="Arial"/>
              </a:rPr>
              <a:t>1.С помощью таб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cc"/>
                </a:solidFill>
                <a:latin typeface="Arial"/>
              </a:rPr>
              <a:t>2.Графическ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cc"/>
                </a:solidFill>
                <a:latin typeface="Arial"/>
              </a:rPr>
              <a:t>3.С помощью формулы.</a:t>
            </a:r>
            <a:r>
              <a:rPr b="0" i="1" lang="en-US" sz="2800" spc="-1" strike="noStrike">
                <a:solidFill>
                  <a:srgbClr val="33cccc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cc"/>
                </a:solidFill>
                <a:latin typeface="Arial"/>
              </a:rPr>
              <a:t>4.Описательный.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03640" y="1484280"/>
          <a:ext cx="3595680" cy="1324080"/>
        </p:xfrm>
        <a:graphic>
          <a:graphicData uri="http://schemas.openxmlformats.org/drawingml/2006/table">
            <a:tbl>
              <a:tblPr/>
              <a:tblGrid>
                <a:gridCol w="717480"/>
                <a:gridCol w="718920"/>
                <a:gridCol w="722520"/>
                <a:gridCol w="718920"/>
                <a:gridCol w="71784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19640" y="2924280"/>
            <a:ext cx="1922400" cy="166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640872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cc3300"/>
                </a:solidFill>
                <a:uFillTx/>
                <a:latin typeface="Arial"/>
              </a:rPr>
              <a:t>Задан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Линейны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.Из предложенных формул выберите ту формулу, которая задает функцию, представленную на граф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392720" cy="3543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3640" y="5373720"/>
            <a:ext cx="59403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 у=-3х+1;    б) у=2х+1;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) у=3х+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-31644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2. Лыжник вышел из поселка и через t ч оказался на расстоянии S км от него. Запишите формулу, задающую зависимость S от t, если скорость лыжника была равна 10 км/ч. 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S=10t ;   б) S=10+t ;   в) S=10-t.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3. Зависимость калорийности молока от его жирности можно выразить формулой k=100a+330, где k – калорийность молока в калориях, а – процент жира в молоке. Является ли эта зависимость линейной функцией? Исходя из личного опыта, укажите, какие из предложенных множеств наиболее точно задают область определения А и область значений K функции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А – все положительные числа, K – все положительные числа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А – все числа, удовлетворяющие неравенству 0&lt;а&lt;10, K – все положительные числа, удовлетворяющие неравенству 330&lt;а&lt;1330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А – натуральные числа от 0 до 10, K- натуральные числа от 330 до 1330.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Квадратичны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.Из предложенных формул выберите ту формулу, которая задает функцию, представленную на граф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5113080" cy="2982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356000" y="4581360"/>
            <a:ext cx="47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у=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^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;   б) у=-2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^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; 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) у= 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^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+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2.Используя формулу S=x2, где S – площадь квадрата, х – длина его стороны, определите, как изменится площадь квадрата, если его сторону увеличить в 10 раз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увеличится в 10 раз;    б) увеличится в 20 раз;    в) увеличится в 100 раз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3. Комета удаляется от Земли по параболе, задаваемой уравнением S=100000+ t·v², где v – скорость кометы, км/с, S – расстояние от кометы до Земли, км, t – время, с. Какое расстояние будет между кометой и Землей через один месяц, если v= 10 км/с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259300000 км,   б) 72000000км, 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) 7300000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Куб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1. Для y=x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^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3 найдите значение аргумента, соответствующее значению функции, равному 125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x=25;    б) x=5    в) x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920" y="2636640"/>
            <a:ext cx="8229600" cy="40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y=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^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/2;    б) y=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^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·2;   в) y=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^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3. Частица движется по закону S(t)=st3-1, где t-время, S-пройденное расстояние (в метрах). Через 5 секунд после начала движения частица сталкивается с препятствием и останавливается. Найти расстояние, пройденное частицей за последние 3 секунды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250 метров;    б) 351 метр;    в) 372 мет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624720" y="0"/>
            <a:ext cx="2519280" cy="2708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80" y="0"/>
            <a:ext cx="67989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2. Из предложенных формул выбе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ту формулу,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которая задает функци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представленную на граф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Обратная пропорциона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1.Обратная пропорциональность задана формулой у=10/х. Найдите значение функции, соответствующее значению аргумента, равному 100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10;    б) 0,1;   в) 0,01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2. В аквариум, имеющий форму прямоугольного параллелепипеда со сторонами основания 50 см и а см, вмещается 1200 см3 воды. Выразите формулой зависимость высоты b аквариума от длины основания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 помощью графиков можно создавать забавные рисун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3538440" cy="2654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3938760"/>
            <a:ext cx="3933720" cy="2950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179960" y="1844640"/>
            <a:ext cx="4964040" cy="37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Что такое график функц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Графиком функции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зывается множество всех точек координатной плоскости, абсциссы которых равны значениям аргумента, а ординаты - соответствующим значениям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езентацию создава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ливанова Валентина 8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Под руководств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Янченко Оксаны Викторо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5364000" cy="40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8075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нятие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ункции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уходит своими корнями в ту далёкую эпоху, когда люди впервые поняли, что окружающие их предметы взаимосвязаны. Они ещё не умели считать, но уже знали, чт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   • </a:t>
            </a:r>
            <a:r>
              <a:rPr b="0" i="1" lang="en-US" sz="2400" spc="-1" strike="noStrike">
                <a:solidFill>
                  <a:srgbClr val="99cc00"/>
                </a:solidFill>
                <a:latin typeface="Arial"/>
              </a:rPr>
              <a:t>чем больше оленей удастся убить на охоте, тем дольше племя будет избавлено от голода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чем сильнее натянута тетива лука, тем дальше полетит стрела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чем дольше горит костёр, тем теплее будет в пещере.</a:t>
            </a:r>
            <a:r>
              <a:rPr b="0" i="1" lang="en-US" sz="24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948360" y="2349360"/>
            <a:ext cx="1898640" cy="128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564320" y="3789360"/>
            <a:ext cx="157968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048440" y="5950080"/>
            <a:ext cx="209556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огда возникли первые цивилизации, образовались большие армии, началось строительство гигантских пирамид. Древние учёные стали составлять таблицы для облегчения вычислений. В Древнем Вавилоне были составлены таблицы для функций</a:t>
            </a:r>
            <a:r>
              <a:rPr b="0" i="1" lang="ru-RU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y=1/x, y=x^2, y= x^3, y= x^2+x^3.</a:t>
            </a:r>
            <a:r>
              <a:rPr b="0" i="1" lang="ru-RU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42447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нятие переменной величины было введено в науку французским учёным и математиком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Рене Декартом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596-1650). Он ввёл идею числовой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ункции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числового аргумента. При записи зависимостей между величинами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Декарт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тал применять буквы. Он начал геометрически изображать не только пары чисел, но и уравнения, связывающие два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395880" cy="39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42447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дновременно с</a:t>
            </a:r>
            <a:r>
              <a:rPr b="0" i="1" lang="ru-RU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Декартом</a:t>
            </a:r>
            <a:r>
              <a:rPr b="0" i="1" lang="ru-RU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 мысли о</a:t>
            </a:r>
            <a:r>
              <a:rPr b="0" i="1" lang="ru-RU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ответствии между линиями и уравнениями пришёл другой французский математик</a:t>
            </a:r>
            <a:r>
              <a:rPr b="0" i="1" lang="ru-RU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Пьер Ферма</a:t>
            </a:r>
            <a:r>
              <a:rPr b="0" i="1" lang="ru-RU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1601-1665). Он был советником тулузского парламента и занимался математическими исследованиями лишь в свободное время. Тем не менее Ферма получил ряд первоклассных результатов в различных областях математик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3224160" cy="44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Термин</a:t>
            </a:r>
            <a:r>
              <a:rPr b="0" i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99ccff"/>
                </a:solidFill>
                <a:latin typeface="Arial"/>
              </a:rPr>
              <a:t>«функция»</a:t>
            </a:r>
            <a:r>
              <a:rPr b="0" i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начал</a:t>
            </a:r>
            <a:r>
              <a:rPr b="0" i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применять в конце XVIII века</a:t>
            </a:r>
            <a:r>
              <a:rPr b="0" i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4000" spc="-1" strike="noStrike" u="sng">
                <a:solidFill>
                  <a:srgbClr val="cc3300"/>
                </a:solidFill>
                <a:uFillTx/>
                <a:latin typeface="Arial"/>
              </a:rPr>
              <a:t>Лейбниц</a:t>
            </a:r>
            <a:r>
              <a:rPr b="0" i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(1646-1716) и его учен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24:13Z</dcterms:created>
  <dc:creator>1</dc:creator>
  <dc:description/>
  <dc:language>en-US</dc:language>
  <cp:lastModifiedBy>COMP</cp:lastModifiedBy>
  <dcterms:modified xsi:type="dcterms:W3CDTF">2009-04-20T16:20:32Z</dcterms:modified>
  <cp:revision>11</cp:revision>
  <dc:subject/>
  <dc:title>График функции</dc:title>
</cp:coreProperties>
</file>