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E62-3CE5-4357-8702-86BBC89F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89C-185A-4EF0-86AC-C9BB5BEE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D30-6DE5-428F-B7EC-3BDAA2BB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34C-79F6-4E31-A4F7-5772AC36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3B68-8414-4C9F-8D59-2940B19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2AB-A306-41A5-B586-AFC36F0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403-638F-4A4A-87B8-AF2B9427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3EDF-2D6B-4574-AE5C-E04C01E1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A55A-1A80-4F2D-AFAC-FC0B0FED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1B16-50E3-442B-B231-453C3B25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345-C711-413F-B13D-9D21EF1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6B0-6180-485F-B3DC-A32A4D1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5808-9830-4A73-BE9D-00E953D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7B2-65FB-4CD2-9765-4B56460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51E0-6370-4F0A-9CA9-9038BB2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2B4-F8F2-4811-A99D-0B29FC18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794-2ABB-4363-8F11-2E220226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FE5-AE45-4FD6-8C0B-2D78A6FF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2F9-A17B-4763-AD8C-8C85FE8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B28-8BBB-481A-994B-0DA9C84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A58-1A53-41CF-81FB-B13A6250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703-5595-4ED1-9732-DEF25F3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95A-C79E-430E-86EF-26EE245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2C3-3617-4751-84C7-369431C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F0E-D35A-4914-9855-5FFC299B12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911-F82B-49AD-8B40-E19082E65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58920" y="33336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바탕"/>
              </a:rPr>
              <a:t>Глаго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03280" y="162864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155736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62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1700280"/>
            <a:ext cx="1368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2924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асть реч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4149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4076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42210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ействие пред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2924280"/>
            <a:ext cx="237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делают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549360"/>
            <a:ext cx="7775280" cy="57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лаголы изменяются по числа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единственном числе они обозначают действие одного предм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 множественном  числе они обозначают действи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скольких предме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58920" y="33336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바탕"/>
              </a:rPr>
              <a:t>Глаго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03280" y="162864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7640" y="155736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62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0360" y="1700280"/>
            <a:ext cx="1368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2924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асть реч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4149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4076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19640" y="42210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ействие пред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2360" y="2924280"/>
            <a:ext cx="237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дел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делают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07640" y="1628640"/>
            <a:ext cx="2016360" cy="30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479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меняется по чис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58920" y="26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варный дикта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836640"/>
            <a:ext cx="806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..реза, б..лет, в..гон, вдру.., д..рога, д..журный, з..вод, завтр..к, з..мл..ника, зап..д, сп..сиб.., ..зык, яг..д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58920" y="26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варный дикта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125360"/>
            <a:ext cx="80643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за, 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т, в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н, вдр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га, 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урный, з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д, завт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, з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ка, зап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, сп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ык, я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1369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03280" y="189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верка словарного дикта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413000"/>
            <a:ext cx="820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5» - нет ошибо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4» - 1 ошибка или 2 пома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3» - 2- 3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2» - 4 и более ошибо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57960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271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26920" y="260280"/>
            <a:ext cx="676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620640"/>
            <a:ext cx="655164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динственное числ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делаю?        Что делает?    Что будет дел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сделал?                Что сдел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3141720"/>
            <a:ext cx="72010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жественное число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делаем?        Что делают?     Что будем дел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сделали?            Что сделае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92360" y="2602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сьмо по памя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484280"/>
            <a:ext cx="727236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еремуха душист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звесившись, стоит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 зелень золотист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а солнышке гор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49040" y="33336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сьмо по памя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1557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                  ,        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                         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32000" y="620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628640"/>
            <a:ext cx="691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Найти глаголы, подчеркнуть двумя чертам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Определить числ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1:56:43Z</dcterms:created>
  <dc:creator>Ирина </dc:creator>
  <dc:description/>
  <dc:language>en-US</dc:language>
  <cp:lastModifiedBy>Ирина </cp:lastModifiedBy>
  <dcterms:modified xsi:type="dcterms:W3CDTF">2008-04-11T18:24:44Z</dcterms:modified>
  <cp:revision>13</cp:revision>
  <dc:subject/>
  <dc:title>Слайд 1</dc:title>
</cp:coreProperties>
</file>