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EBFB-F287-4A01-A01A-E9F5618EB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6063-EA31-432B-8674-BBC27EEBF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ает алгоритм решения задач по теме в соответствии с технологией поэлементного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мация позволяет выводить на экран необходимую часть информации. Структурно-логическая схема дает возможность визуализировать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B807-3161-4CA9-B504-D49D91934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17E-619F-419C-8BF1-1AB65A251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0131-B45F-4451-9A4E-B1B4AE86CA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т потерь энергии, то алгебраическая сумма количеств теплоты равна нулю. При этом разность температур определяется как разность конечного и начального значений и отдаваемые теплоты автоматически получаются отрицательны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мация при использовании технологии поэлементного решения задач позволяет «идти за учеником»,постепенно выводя на экран обсужденную информ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FC4-ED9A-43C0-BED3-29101646C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5F2B-2595-4122-9206-56E6A5AF6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участка ВС имеем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= -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афике изображен графически процесс литья дроби (расплавленный свинец через сито выливают в воду. Капельки свинца кристаллизуются и падают в в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7572-25B5-4EEC-AF08-6EED463CA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187-9BDB-40BB-AFAD-7C22B6F4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38B-F31F-43C1-BA7D-EAD6E5A6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2A4-18FC-4099-B522-91146C24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C46-55EB-4F18-B91C-83846B24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804F-3EFB-4497-9AEA-CF9CEA66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96E6-D71D-4F30-AC7B-4188D901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E236-CE81-47F5-A93E-90D6B2AA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975C-17ED-4C97-903C-B8474863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BD66-0566-481C-AB28-8F5B3BFC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F53C-5A7E-489A-B9AC-0317AD3D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E8B3-4E8D-4BA2-AB34-A03F274A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EE4-8EB8-45AF-9A4F-00DBB25A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69E7-8392-4025-B35F-6E61BBF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9E7F-FDE3-4189-AED3-45CFD85C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09DE-6239-4522-9E56-DBE85583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0B7-38EB-4EFB-BBB4-74A6F32B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C4F4-E684-4146-9863-8D5CF14F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E5D-5441-40AC-977C-BB947D34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649-69EF-4491-978A-1BE3DB81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ABA-67EB-48E8-B767-25E1C80E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F96-295E-4A3E-8777-A90C6242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1F1-E79F-4414-B6C2-A311E005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74D-5B1E-4801-A3C1-81802C19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DD5-0F92-4CC5-9904-00667378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1246-1B5E-4978-98F8-CFFE888E4C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0FB8-8987-4732-A7DC-CB4AB67045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Графическое представление тепловых процессов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067280" y="5805360"/>
            <a:ext cx="471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.И. Звягина, 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БОУ СОШ № 644 г. 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дача №1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907920"/>
            <a:ext cx="43308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кое количество теплоты потребуется, чтобы в алюминиевом чайнике массой 700г вскипятить 2кг воды? Начальная температура воды 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Bookman Old Style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3941640"/>
            <a:ext cx="814716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юминиевый чайник 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юминиевый чайник 10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а 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а 10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imes New Roman"/>
              </a:rPr>
              <a:t>общ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92720" y="980640"/>
            <a:ext cx="3394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 каких телах идет речь в задач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изменяется состояние каждого тел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4211640" y="4221000"/>
            <a:ext cx="79200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924360" y="5013360"/>
            <a:ext cx="86364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4140360" y="3573360"/>
            <a:ext cx="502920" cy="503280"/>
          </a:xfrm>
          <a:prstGeom prst="rect">
            <a:avLst/>
          </a:prstGeom>
          <a:solidFill>
            <a:srgbClr val="ffd05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067280" y="4437000"/>
            <a:ext cx="649080" cy="504720"/>
          </a:xfrm>
          <a:prstGeom prst="rect">
            <a:avLst/>
          </a:prstGeom>
          <a:solidFill>
            <a:srgbClr val="ffd05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Решение задачи №1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764640"/>
            <a:ext cx="4038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0.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0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/(кг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2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ж/(кг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51280" y="836280"/>
            <a:ext cx="5113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об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общ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4581360"/>
            <a:ext cx="829152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Q] 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/(к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 = Д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= (88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.7 +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200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0 = 72128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721,3 кД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3419640" y="83664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826920" y="3933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395280" y="386064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дача №2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907560"/>
            <a:ext cx="5508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льную болванку массой 150 г, раскаленную до 65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, опускают для закалки в сосуд, содержащий 800г воды при температуре 1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. Какова удельная теплоёмкость стали, если вода нагрелась до 2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53200" y="620640"/>
            <a:ext cx="289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тела участвуют в теплообмен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изменяется внутренняя энерг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3428640"/>
            <a:ext cx="425916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ль 6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ль 28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15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28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1692360" y="4292640"/>
            <a:ext cx="936720" cy="0"/>
          </a:xfrm>
          <a:prstGeom prst="line">
            <a:avLst/>
          </a:prstGeom>
          <a:ln w="38160">
            <a:solidFill>
              <a:srgbClr val="a26d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1619280" y="3716280"/>
            <a:ext cx="1150920" cy="433440"/>
          </a:xfrm>
          <a:prstGeom prst="rect">
            <a:avLst/>
          </a:prstGeom>
          <a:solidFill>
            <a:srgbClr val="ffd05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1547640" y="5300640"/>
            <a:ext cx="1008360" cy="0"/>
          </a:xfrm>
          <a:prstGeom prst="line">
            <a:avLst/>
          </a:prstGeom>
          <a:ln w="38160">
            <a:solidFill>
              <a:srgbClr val="a26d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47640" y="4724280"/>
            <a:ext cx="1151280" cy="432000"/>
          </a:xfrm>
          <a:prstGeom prst="rect">
            <a:avLst/>
          </a:prstGeom>
          <a:solidFill>
            <a:srgbClr val="ffd05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 flipV="1">
            <a:off x="5148360" y="4005360"/>
            <a:ext cx="0" cy="2016000"/>
          </a:xfrm>
          <a:prstGeom prst="line">
            <a:avLst/>
          </a:prstGeom>
          <a:ln w="38160">
            <a:solidFill>
              <a:srgbClr val="a26d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5003640" y="5950080"/>
            <a:ext cx="3456000" cy="0"/>
          </a:xfrm>
          <a:prstGeom prst="line">
            <a:avLst/>
          </a:prstGeom>
          <a:ln w="38160">
            <a:solidFill>
              <a:srgbClr val="a26d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5076720" y="4292640"/>
            <a:ext cx="71640" cy="730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5076720" y="5661000"/>
            <a:ext cx="71640" cy="730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5076720" y="5229360"/>
            <a:ext cx="71640" cy="71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5148360" y="530064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5148360" y="5300640"/>
            <a:ext cx="2087640" cy="433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5148360" y="4292640"/>
            <a:ext cx="2087640" cy="1008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573960" y="44578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588000" y="5516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529272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8317080" y="5589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Решение задачи №2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981000"/>
            <a:ext cx="40384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0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8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2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ж/(кг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708360" y="1484280"/>
            <a:ext cx="489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ru-RU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(t</a:t>
            </a:r>
            <a:r>
              <a:rPr b="0" lang="ru-RU" sz="28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– t</a:t>
            </a:r>
            <a:r>
              <a:rPr b="0" lang="ru-RU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)          Q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858920" y="4797000"/>
            <a:ext cx="3745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: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 468 Дж/к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324000" y="4797360"/>
                <a:ext cx="26668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Line 14"/>
          <p:cNvSpPr/>
          <p:nvPr/>
        </p:nvSpPr>
        <p:spPr>
          <a:xfrm>
            <a:off x="3276720" y="1341360"/>
            <a:ext cx="0" cy="316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5280" y="407664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дача №3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549000"/>
            <a:ext cx="4788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лориметре, теплоёмкостью которого можно пренебречь, находится 20 г льда при температуре – 1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. Затем в него наливают воду при 7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. Сколько воды было налито в калориметр, если окончательная температур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932000" y="1052280"/>
            <a:ext cx="42116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ода 70</a:t>
            </a:r>
            <a:r>
              <a:rPr b="0" lang="ru-RU" sz="24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ода 10</a:t>
            </a:r>
            <a:r>
              <a:rPr b="0" lang="ru-RU" sz="24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ед – 15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ед 0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ед 0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ода 0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ода 0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ода 10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436640"/>
            <a:ext cx="166680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6372360" y="1341360"/>
            <a:ext cx="10080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6640560" y="78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516720" y="981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6516720" y="22050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6732720" y="1773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6443640" y="256536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659640" y="2205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6443640" y="306864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6588000" y="27082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7"/>
          <p:cNvSpPr/>
          <p:nvPr/>
        </p:nvSpPr>
        <p:spPr>
          <a:xfrm flipV="1">
            <a:off x="3708360" y="3573000"/>
            <a:ext cx="0" cy="2808360"/>
          </a:xfrm>
          <a:prstGeom prst="line">
            <a:avLst/>
          </a:prstGeom>
          <a:ln w="38160">
            <a:solidFill>
              <a:srgbClr val="a26d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419640" y="5157720"/>
            <a:ext cx="5184720" cy="0"/>
          </a:xfrm>
          <a:prstGeom prst="line">
            <a:avLst/>
          </a:prstGeom>
          <a:ln w="38160">
            <a:solidFill>
              <a:srgbClr val="a26d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3635280" y="5516640"/>
            <a:ext cx="14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3635280" y="4724280"/>
            <a:ext cx="14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4643280" y="515772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3635280" y="3789360"/>
            <a:ext cx="14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5"/>
          <p:cNvSpPr/>
          <p:nvPr/>
        </p:nvSpPr>
        <p:spPr>
          <a:xfrm flipV="1">
            <a:off x="3708360" y="5157360"/>
            <a:ext cx="934920" cy="3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3780000" y="4724280"/>
            <a:ext cx="410508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5867280" y="4724280"/>
            <a:ext cx="1800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708360" y="3789360"/>
            <a:ext cx="3959280" cy="9349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924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810108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5435640" y="3645000"/>
            <a:ext cx="64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3995640" y="544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3"/>
          <p:cNvSpPr/>
          <p:nvPr/>
        </p:nvSpPr>
        <p:spPr>
          <a:xfrm>
            <a:off x="5076720" y="515772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7236000" y="4724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3203640" y="5373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6"/>
          <p:cNvSpPr/>
          <p:nvPr/>
        </p:nvSpPr>
        <p:spPr>
          <a:xfrm>
            <a:off x="3203640" y="45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7"/>
          <p:cNvSpPr/>
          <p:nvPr/>
        </p:nvSpPr>
        <p:spPr>
          <a:xfrm>
            <a:off x="3203640" y="3645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Решение задачи №</a:t>
            </a: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68360" y="765000"/>
            <a:ext cx="201600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0,02 к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1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843280" y="105264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3132000" y="1244520"/>
            <a:ext cx="425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= c</a:t>
            </a:r>
            <a:r>
              <a:rPr b="0" lang="ru-RU" sz="2000" spc="-1" strike="noStrike" baseline="-25000">
                <a:solidFill>
                  <a:srgbClr val="0066ff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0" lang="ru-RU" sz="2000" spc="-1" strike="noStrike" baseline="-25000">
                <a:solidFill>
                  <a:srgbClr val="0066ff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(t</a:t>
            </a:r>
            <a:r>
              <a:rPr b="0" lang="ru-RU" sz="20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– t</a:t>
            </a:r>
            <a:r>
              <a:rPr b="0" lang="ru-RU" sz="2000" spc="-1" strike="noStrike" baseline="-25000">
                <a:solidFill>
                  <a:srgbClr val="0066ff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  – </a:t>
            </a: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ет в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3130560" y="1676520"/>
            <a:ext cx="517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пл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– t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нагревание ль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3202560" y="2181240"/>
            <a:ext cx="507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л 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плавление ль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2985840" y="2612880"/>
            <a:ext cx="523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– t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Times New Roman"/>
              </a:rPr>
              <a:t>пл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-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нагревание в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3132000" y="3246480"/>
            <a:ext cx="396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843120" y="3716280"/>
            <a:ext cx="665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</a:t>
            </a:r>
            <a:r>
              <a:rPr b="0" lang="ru-RU" sz="2400" spc="-1" strike="noStrike" baseline="-25000">
                <a:solidFill>
                  <a:srgbClr val="0066ff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0066ff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(t</a:t>
            </a:r>
            <a:r>
              <a:rPr b="0" lang="ru-RU" sz="24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– t</a:t>
            </a:r>
            <a:r>
              <a:rPr b="0" lang="ru-RU" sz="2400" spc="-1" strike="noStrike" baseline="-25000">
                <a:solidFill>
                  <a:srgbClr val="0066ff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Times New Roman"/>
              </a:rPr>
              <a:t>п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t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t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Times New Roman"/>
              </a:rPr>
              <a:t>п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6"/>
              <p:cNvSpPr txBox="1"/>
              <p:nvPr/>
            </p:nvSpPr>
            <p:spPr>
              <a:xfrm>
                <a:off x="826920" y="4581360"/>
                <a:ext cx="51134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л</m:t>
                        </m:r>
                        <m:r>
                          <m:t xml:space="preserve">m</m:t>
                        </m:r>
                        <m:r>
                          <m:t xml:space="preserve">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пл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л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л</m:t>
                        </m:r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в</m:t>
                        </m:r>
                        <m:r>
                          <m:t xml:space="preserve">m</m:t>
                        </m:r>
                        <m:r>
                          <m:t xml:space="preserve">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п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в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17"/>
          <p:cNvSpPr/>
          <p:nvPr/>
        </p:nvSpPr>
        <p:spPr>
          <a:xfrm>
            <a:off x="6372360" y="558972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3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2195640" y="907920"/>
            <a:ext cx="0" cy="244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79280" y="299736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дача №4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35280" y="981000"/>
            <a:ext cx="370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графике изображен процесс теплообм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акие вещества (тела) участвуют в теплообмене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ъясните значение отдельных участков граф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чему участок КМ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зображен пунктир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 flipV="1">
            <a:off x="611280" y="1412640"/>
            <a:ext cx="0" cy="48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611280" y="6308640"/>
            <a:ext cx="446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826920" y="1197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284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0" y="522936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539640" y="5445000"/>
            <a:ext cx="14472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539640" y="2276640"/>
            <a:ext cx="14472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0" y="21337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611280" y="1628640"/>
            <a:ext cx="431640" cy="648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1042920" y="2276640"/>
            <a:ext cx="24494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3492360" y="2276640"/>
            <a:ext cx="1150920" cy="18730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68436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1042920" y="2276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 flipH="1">
            <a:off x="539280" y="414972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3492360" y="227664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3"/>
          <p:cNvSpPr/>
          <p:nvPr/>
        </p:nvSpPr>
        <p:spPr>
          <a:xfrm flipV="1">
            <a:off x="611280" y="4149720"/>
            <a:ext cx="7207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4"/>
          <p:cNvSpPr/>
          <p:nvPr/>
        </p:nvSpPr>
        <p:spPr>
          <a:xfrm flipV="1">
            <a:off x="611280" y="4149720"/>
            <a:ext cx="1944720" cy="129528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5"/>
          <p:cNvSpPr/>
          <p:nvPr/>
        </p:nvSpPr>
        <p:spPr>
          <a:xfrm flipV="1">
            <a:off x="611280" y="4149720"/>
            <a:ext cx="4032000" cy="1295280"/>
          </a:xfrm>
          <a:prstGeom prst="line">
            <a:avLst/>
          </a:prstGeom>
          <a:ln w="38160">
            <a:solidFill>
              <a:srgbClr val="cc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6"/>
          <p:cNvSpPr/>
          <p:nvPr/>
        </p:nvSpPr>
        <p:spPr>
          <a:xfrm>
            <a:off x="1332000" y="4149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27"/>
          <p:cNvSpPr/>
          <p:nvPr/>
        </p:nvSpPr>
        <p:spPr>
          <a:xfrm>
            <a:off x="2556000" y="4149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8"/>
          <p:cNvSpPr/>
          <p:nvPr/>
        </p:nvSpPr>
        <p:spPr>
          <a:xfrm>
            <a:off x="4643280" y="4149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179280" y="134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104292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334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471636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17928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234000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25092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8"/>
          <p:cNvSpPr/>
          <p:nvPr/>
        </p:nvSpPr>
        <p:spPr>
          <a:xfrm>
            <a:off x="901440" y="63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9"/>
          <p:cNvSpPr/>
          <p:nvPr/>
        </p:nvSpPr>
        <p:spPr>
          <a:xfrm>
            <a:off x="1258920" y="630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0"/>
          <p:cNvSpPr/>
          <p:nvPr/>
        </p:nvSpPr>
        <p:spPr>
          <a:xfrm>
            <a:off x="2484360" y="63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1"/>
          <p:cNvSpPr/>
          <p:nvPr/>
        </p:nvSpPr>
        <p:spPr>
          <a:xfrm>
            <a:off x="3419640" y="638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2"/>
          <p:cNvSpPr/>
          <p:nvPr/>
        </p:nvSpPr>
        <p:spPr>
          <a:xfrm>
            <a:off x="4500720" y="6381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8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дача №5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0072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графику определит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акие вещества участвовали в теплообмен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зменялось ли агрегатное состояние вещест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идумайте детективную историю о проведенном проце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684360" y="1773000"/>
            <a:ext cx="0" cy="4103640"/>
          </a:xfrm>
          <a:prstGeom prst="line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611280" y="5013360"/>
            <a:ext cx="14436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611280" y="4221000"/>
            <a:ext cx="14436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611280" y="3357720"/>
            <a:ext cx="14436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684360" y="5877000"/>
            <a:ext cx="37432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179280" y="4869000"/>
            <a:ext cx="432000" cy="276480"/>
          </a:xfrm>
          <a:prstGeom prst="rect">
            <a:avLst/>
          </a:prstGeom>
          <a:noFill/>
          <a:ln w="9360">
            <a:solidFill>
              <a:srgbClr val="fee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79280" y="4076640"/>
            <a:ext cx="432000" cy="276480"/>
          </a:xfrm>
          <a:prstGeom prst="rect">
            <a:avLst/>
          </a:prstGeom>
          <a:noFill/>
          <a:ln w="9360">
            <a:solidFill>
              <a:srgbClr val="fee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179280" y="3213000"/>
            <a:ext cx="468360" cy="276480"/>
          </a:xfrm>
          <a:prstGeom prst="rect">
            <a:avLst/>
          </a:prstGeom>
          <a:noFill/>
          <a:ln w="9360">
            <a:solidFill>
              <a:srgbClr val="fee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900000" y="1916280"/>
            <a:ext cx="647640" cy="368280"/>
          </a:xfrm>
          <a:prstGeom prst="rect">
            <a:avLst/>
          </a:prstGeom>
          <a:noFill/>
          <a:ln w="9360">
            <a:solidFill>
              <a:srgbClr val="fee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684360" y="3068640"/>
            <a:ext cx="10080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1692360" y="3068640"/>
            <a:ext cx="1727280" cy="2232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7"/>
          <p:cNvSpPr/>
          <p:nvPr/>
        </p:nvSpPr>
        <p:spPr>
          <a:xfrm flipV="1">
            <a:off x="684360" y="5229000"/>
            <a:ext cx="266364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V="1">
            <a:off x="684360" y="5013000"/>
            <a:ext cx="215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900000" y="501336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 flipV="1">
            <a:off x="684360" y="5300640"/>
            <a:ext cx="2735280" cy="43344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3924360" y="5229360"/>
            <a:ext cx="576360" cy="368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20:36:37Z</dcterms:created>
  <dc:creator>ROMEO</dc:creator>
  <dc:description/>
  <dc:language>en-US</dc:language>
  <cp:lastModifiedBy>Tatiana</cp:lastModifiedBy>
  <dcterms:modified xsi:type="dcterms:W3CDTF">2012-01-13T18:59:04Z</dcterms:modified>
  <cp:revision>21</cp:revision>
  <dc:subject/>
  <dc:title>Графическое представление тепловых процессов</dc:title>
</cp:coreProperties>
</file>