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93F-0C90-43C5-9F1B-38C31544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069-E9E8-4402-89A5-3000AF4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CE8-2DE9-44B1-9162-F0667B0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218-8519-44E5-9E06-FCAD0CFE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8DBC-411E-408A-AC5B-CBA7E0B2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7021-0572-4DE7-9FD3-6B5F5818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B62D-26BB-47B0-889B-854CFEE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05E-6A15-4285-B513-012BCEC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D1C7-C861-4884-9EE4-12A2D4D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782-3D13-4961-B31D-2157394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A91-F62D-41A3-A1B8-D0BFCC3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A05-A358-4A38-9A8B-A4C2B7E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AFD9-7CDD-4553-8CB4-4A6525B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7F1-DA68-4E00-A719-4EF83F6A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B1D9-52D5-4376-91B8-CFB43B95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B0C-180F-446C-AF98-0C67B6DF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729-DED2-4F07-B577-6C9B3874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B3E-B274-4D8C-9619-C89470C0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672-0F61-4E8D-AC82-45C6D36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7F6-D83D-4EFA-8F73-0BC0D862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4D8-9C24-465B-8391-E79CF4BE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85E-6C43-4575-99FC-75F64B4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E0D-F51C-428B-927F-D96C443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8FB-FF63-4BA9-A6A9-237BE85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9360"/>
            <a:ext cx="6873840" cy="13888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1d641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9360"/>
            <a:ext cx="3571920" cy="850680"/>
          </a:xfrm>
          <a:prstGeom prst="pie">
            <a:avLst/>
          </a:prstGeom>
          <a:gradFill rotWithShape="0">
            <a:gsLst>
              <a:gs pos="0">
                <a:srgbClr val="1a4b1b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6d3a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2f61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2d6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2f613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f613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f613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ec99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ec99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ec99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86C1-7E36-4DEE-83A9-D7CCE822A669}" type="slidenum">
              <a:rPr b="0" lang="ru-RU" sz="1200" spc="-1" strike="noStrike">
                <a:solidFill>
                  <a:srgbClr val="9ec99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0000"/>
              <a:ext cx="6866640" cy="865080"/>
              <a:chOff x="-14400" y="270000"/>
              <a:chExt cx="6866640" cy="86508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60" y="270000"/>
                <a:ext cx="683568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5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613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3800"/>
              <a:ext cx="6885000" cy="721800"/>
              <a:chOff x="-14400" y="343800"/>
              <a:chExt cx="6885000" cy="7218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" y="343800"/>
                <a:ext cx="686160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9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613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2374560" y="1476720"/>
            <a:ext cx="3943440" cy="54864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6001920" y="7146000"/>
            <a:ext cx="117360" cy="2062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7560" y="7754040"/>
            <a:ext cx="6873840" cy="138924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1d641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3286080" y="8292960"/>
            <a:ext cx="3571920" cy="851040"/>
          </a:xfrm>
          <a:prstGeom prst="pie">
            <a:avLst/>
          </a:prstGeom>
          <a:gradFill rotWithShape="0">
            <a:gsLst>
              <a:gs pos="0">
                <a:srgbClr val="1a4b1b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6d3a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a6d3a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2f61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2d6f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2f613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2f613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2f613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613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f613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ec99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ec99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ec99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66E-E96E-49C9-9891-CB0609367048}" type="slidenum">
              <a:rPr b="0" lang="ru-RU" sz="1200" spc="-1" strike="noStrike">
                <a:solidFill>
                  <a:srgbClr val="9ec99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96720" y="1042920"/>
            <a:ext cx="6040440" cy="3279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veselayakartinka.png"/>
          <p:cNvPicPr/>
          <p:nvPr/>
        </p:nvPicPr>
        <p:blipFill>
          <a:blip r:embed="rId2"/>
          <a:stretch/>
        </p:blipFill>
        <p:spPr>
          <a:xfrm>
            <a:off x="428760" y="5072040"/>
            <a:ext cx="3214440" cy="3443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computer.png"/>
          <p:cNvPicPr/>
          <p:nvPr/>
        </p:nvPicPr>
        <p:blipFill>
          <a:blip r:embed="rId3"/>
          <a:stretch/>
        </p:blipFill>
        <p:spPr>
          <a:xfrm>
            <a:off x="3929040" y="5572080"/>
            <a:ext cx="2511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2571173_rodas_quadradas.jpg"/>
          <p:cNvPicPr/>
          <p:nvPr/>
        </p:nvPicPr>
        <p:blipFill>
          <a:blip r:embed="rId1"/>
          <a:stretch/>
        </p:blipFill>
        <p:spPr>
          <a:xfrm>
            <a:off x="1000080" y="428760"/>
            <a:ext cx="4876920" cy="36576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  <p:pic>
        <p:nvPicPr>
          <p:cNvPr id="115" name="Рисунок 2" descr="2571168_peixeaocontrc3a1rio.jpg"/>
          <p:cNvPicPr/>
          <p:nvPr/>
        </p:nvPicPr>
        <p:blipFill>
          <a:blip r:embed="rId2"/>
          <a:stretch/>
        </p:blipFill>
        <p:spPr>
          <a:xfrm>
            <a:off x="1000080" y="4643280"/>
            <a:ext cx="4876920" cy="36576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71156_cama_na_baliza.jpg"/>
          <p:cNvPicPr/>
          <p:nvPr/>
        </p:nvPicPr>
        <p:blipFill>
          <a:blip r:embed="rId1"/>
          <a:stretch/>
        </p:blipFill>
        <p:spPr>
          <a:xfrm>
            <a:off x="1071720" y="642960"/>
            <a:ext cx="4876560" cy="36576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  <p:pic>
        <p:nvPicPr>
          <p:cNvPr id="117" name="Рисунок 2" descr="2571176_tvaocontrc3a1rio.jpg"/>
          <p:cNvPicPr/>
          <p:nvPr/>
        </p:nvPicPr>
        <p:blipFill>
          <a:blip r:embed="rId2"/>
          <a:stretch/>
        </p:blipFill>
        <p:spPr>
          <a:xfrm>
            <a:off x="1071720" y="4786200"/>
            <a:ext cx="4876560" cy="36576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2571151_42.jpg"/>
          <p:cNvPicPr/>
          <p:nvPr/>
        </p:nvPicPr>
        <p:blipFill>
          <a:blip r:embed="rId1"/>
          <a:stretch/>
        </p:blipFill>
        <p:spPr>
          <a:xfrm>
            <a:off x="1000080" y="857160"/>
            <a:ext cx="4876920" cy="36576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  <p:pic>
        <p:nvPicPr>
          <p:cNvPr id="119" name="Рисунок 4" descr="2571163_falta_metade_da_bola.jpg"/>
          <p:cNvPicPr/>
          <p:nvPr/>
        </p:nvPicPr>
        <p:blipFill>
          <a:blip r:embed="rId2"/>
          <a:stretch/>
        </p:blipFill>
        <p:spPr>
          <a:xfrm>
            <a:off x="1000080" y="4857840"/>
            <a:ext cx="4876920" cy="36576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938160"/>
            <a:ext cx="61722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Что лишнее в каждом ряду?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21" name="Содержимое 3" descr="65_2.jpg"/>
          <p:cNvPicPr/>
          <p:nvPr/>
        </p:nvPicPr>
        <p:blipFill>
          <a:blip r:embed="rId1"/>
          <a:stretch/>
        </p:blipFill>
        <p:spPr>
          <a:xfrm>
            <a:off x="642960" y="1714680"/>
            <a:ext cx="5500800" cy="318132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  <p:pic>
        <p:nvPicPr>
          <p:cNvPr id="122" name="Рисунок 4" descr="65_3.jpg"/>
          <p:cNvPicPr/>
          <p:nvPr/>
        </p:nvPicPr>
        <p:blipFill>
          <a:blip r:embed="rId2"/>
          <a:stretch/>
        </p:blipFill>
        <p:spPr>
          <a:xfrm>
            <a:off x="642960" y="5070600"/>
            <a:ext cx="5500800" cy="354636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«Последовательность».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24" name="Содержимое 5" descr="21_21.jpg"/>
          <p:cNvPicPr/>
          <p:nvPr/>
        </p:nvPicPr>
        <p:blipFill>
          <a:blip r:embed="rId1"/>
          <a:stretch/>
        </p:blipFill>
        <p:spPr>
          <a:xfrm>
            <a:off x="1000080" y="2214720"/>
            <a:ext cx="4714920" cy="624672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21_22.jpg"/>
          <p:cNvPicPr/>
          <p:nvPr/>
        </p:nvPicPr>
        <p:blipFill>
          <a:blip r:embed="rId1"/>
          <a:stretch/>
        </p:blipFill>
        <p:spPr>
          <a:xfrm>
            <a:off x="1071720" y="1285920"/>
            <a:ext cx="4946400" cy="682308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938160"/>
            <a:ext cx="61722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«Назови одним словом»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27" name="Содержимое 3" descr="61_5.jpg"/>
          <p:cNvPicPr/>
          <p:nvPr/>
        </p:nvPicPr>
        <p:blipFill>
          <a:blip r:embed="rId1"/>
          <a:stretch/>
        </p:blipFill>
        <p:spPr>
          <a:xfrm>
            <a:off x="1071720" y="1785960"/>
            <a:ext cx="4714560" cy="331956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  <p:pic>
        <p:nvPicPr>
          <p:cNvPr id="128" name="Рисунок 4" descr="61_6.jpg"/>
          <p:cNvPicPr/>
          <p:nvPr/>
        </p:nvPicPr>
        <p:blipFill>
          <a:blip r:embed="rId2"/>
          <a:stretch/>
        </p:blipFill>
        <p:spPr>
          <a:xfrm>
            <a:off x="1071720" y="5357880"/>
            <a:ext cx="4763880" cy="33084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61_5.jpg"/>
          <p:cNvPicPr/>
          <p:nvPr/>
        </p:nvPicPr>
        <p:blipFill>
          <a:blip r:embed="rId1"/>
          <a:srcRect l="0" t="50002" r="0" b="0"/>
          <a:stretch/>
        </p:blipFill>
        <p:spPr>
          <a:xfrm>
            <a:off x="714240" y="642960"/>
            <a:ext cx="5384880" cy="380988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  <p:pic>
        <p:nvPicPr>
          <p:cNvPr id="130" name="Рисунок 2" descr="61_4.jpg"/>
          <p:cNvPicPr/>
          <p:nvPr/>
        </p:nvPicPr>
        <p:blipFill>
          <a:blip r:embed="rId2"/>
          <a:stretch/>
        </p:blipFill>
        <p:spPr>
          <a:xfrm>
            <a:off x="714240" y="4714920"/>
            <a:ext cx="5384880" cy="390528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8160"/>
            <a:ext cx="61722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«Запомни картинку»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32" name="Содержимое 5" descr="64_4.jpg"/>
          <p:cNvPicPr/>
          <p:nvPr/>
        </p:nvPicPr>
        <p:blipFill>
          <a:blip r:embed="rId1"/>
          <a:stretch/>
        </p:blipFill>
        <p:spPr>
          <a:xfrm>
            <a:off x="1071720" y="2214720"/>
            <a:ext cx="4500360" cy="618624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938160"/>
            <a:ext cx="61722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Что изменилось?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34" name="Содержимое 5" descr="64_4.jpg"/>
          <p:cNvPicPr/>
          <p:nvPr/>
        </p:nvPicPr>
        <p:blipFill>
          <a:blip r:embed="rId1"/>
          <a:stretch/>
        </p:blipFill>
        <p:spPr>
          <a:xfrm>
            <a:off x="1143000" y="2143080"/>
            <a:ext cx="46134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-6480" y="853920"/>
            <a:ext cx="6583320" cy="871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57120" y="2214720"/>
            <a:ext cx="6143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6130"/>
                </a:solidFill>
                <a:latin typeface="Arial"/>
              </a:rPr>
              <a:t>Социально-экономическое развитие современного общества неразрывно связано с научно-техническим прогрессом. Информационно- коммуникационные технологии прочно входят во все сферы жизни человека. Соответственно, система образования предъявляет новые требования к воспитанию и обучению подрастающего поколения, внедрению новых подходов, которые должны способствовать не замене традиционных методов, а расширению их возможностей.</a:t>
            </a: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613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6130"/>
                </a:solidFill>
                <a:latin typeface="Arial"/>
              </a:rPr>
              <a:t>Практика показала, что при использовании ИКТ в детском саду  значительно возрастает интерес детей к образовательной деятельности, повышается уровень познавательных возможностей. </a:t>
            </a: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6130"/>
                </a:solidFill>
                <a:latin typeface="Arial"/>
              </a:rPr>
              <a:t>В непосредственно образовательной деятельности и в свободной деятельности мы используем различные игры на развитие интеллектуальных способностей детей. Игры на развитие внимания, памяти и мышления. </a:t>
            </a:r>
            <a:endParaRPr b="0" lang="en-US" sz="1800" spc="-1" strike="noStrike">
              <a:solidFill>
                <a:srgbClr val="2f61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55440" y="933480"/>
            <a:ext cx="6809040" cy="2359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500040" y="4143240"/>
            <a:ext cx="592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втор: Смолякова Екатерина Павловна</a:t>
            </a:r>
            <a:endParaRPr b="0" lang="en-US" sz="20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МБ ДОУ «Детский сад № 255» комбинированного вида. Город Новокузнецк</a:t>
            </a:r>
            <a:endParaRPr b="0" lang="en-US" sz="20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61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олжность: воспитатель</a:t>
            </a:r>
            <a:endParaRPr b="0" lang="en-US" sz="2000" spc="-1" strike="noStrike">
              <a:solidFill>
                <a:srgbClr val="2f61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57120" y="1213920"/>
            <a:ext cx="61581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f61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613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2f61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613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2f61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613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2f61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6130"/>
              </a:solidFill>
              <a:latin typeface="Constantia"/>
            </a:endParaRPr>
          </a:p>
        </p:txBody>
      </p:sp>
      <p:pic>
        <p:nvPicPr>
          <p:cNvPr id="101" name="Схема 5" descr=""/>
          <p:cNvPicPr/>
          <p:nvPr/>
        </p:nvPicPr>
        <p:blipFill>
          <a:blip r:embed="rId1"/>
          <a:stretch/>
        </p:blipFill>
        <p:spPr>
          <a:xfrm>
            <a:off x="695160" y="3139920"/>
            <a:ext cx="5632560" cy="39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61722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«Найди 10 отличий»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03" name="Содержимое 6" descr="4252932_018.jpg"/>
          <p:cNvPicPr/>
          <p:nvPr/>
        </p:nvPicPr>
        <p:blipFill>
          <a:blip r:embed="rId1"/>
          <a:stretch/>
        </p:blipFill>
        <p:spPr>
          <a:xfrm>
            <a:off x="285840" y="1571760"/>
            <a:ext cx="6178320" cy="72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71388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a6d3a7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05" name="Содержимое 3" descr="4252929_013.jpg"/>
          <p:cNvPicPr/>
          <p:nvPr/>
        </p:nvPicPr>
        <p:blipFill>
          <a:blip r:embed="rId1"/>
          <a:stretch/>
        </p:blipFill>
        <p:spPr>
          <a:xfrm>
            <a:off x="285840" y="1714680"/>
            <a:ext cx="6342120" cy="700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64296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«Найди предметы на картинке»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07" name="Содержимое 3" descr="741.jpg"/>
          <p:cNvPicPr/>
          <p:nvPr/>
        </p:nvPicPr>
        <p:blipFill>
          <a:blip r:embed="rId1"/>
          <a:stretch/>
        </p:blipFill>
        <p:spPr>
          <a:xfrm>
            <a:off x="142920" y="2928960"/>
            <a:ext cx="6429240" cy="557208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3445"/>
                </a:solidFill>
                <a:latin typeface="Calibri"/>
              </a:rPr>
              <a:t>«Две одинаковые картинки»</a:t>
            </a:r>
            <a:endParaRPr b="0" lang="en-US" sz="36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09" name="Содержимое 3" descr="54713407_2_kart_2.jpg"/>
          <p:cNvPicPr/>
          <p:nvPr/>
        </p:nvPicPr>
        <p:blipFill>
          <a:blip r:embed="rId1"/>
          <a:stretch/>
        </p:blipFill>
        <p:spPr>
          <a:xfrm>
            <a:off x="285840" y="3000240"/>
            <a:ext cx="6300720" cy="535788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938160"/>
            <a:ext cx="61722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«Две одинаковые рыбки»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11" name="Содержимое 9" descr="57762870_fish_1.jpg"/>
          <p:cNvPicPr/>
          <p:nvPr/>
        </p:nvPicPr>
        <p:blipFill>
          <a:blip r:embed="rId1"/>
          <a:stretch/>
        </p:blipFill>
        <p:spPr>
          <a:xfrm>
            <a:off x="285840" y="2928960"/>
            <a:ext cx="6286320" cy="507204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445"/>
                </a:solidFill>
                <a:latin typeface="Calibri"/>
              </a:rPr>
              <a:t>Что неправильно нарисовал художник?</a:t>
            </a:r>
            <a:endParaRPr b="0" lang="en-US" sz="4000" spc="-1" strike="noStrike">
              <a:solidFill>
                <a:srgbClr val="a6d3a7"/>
              </a:solidFill>
              <a:latin typeface="Calibri"/>
            </a:endParaRPr>
          </a:p>
        </p:txBody>
      </p:sp>
      <p:pic>
        <p:nvPicPr>
          <p:cNvPr id="113" name="Содержимое 3" descr="2571148_c3a1guadoregadorasubir.jpg"/>
          <p:cNvPicPr/>
          <p:nvPr/>
        </p:nvPicPr>
        <p:blipFill>
          <a:blip r:embed="rId1"/>
          <a:stretch/>
        </p:blipFill>
        <p:spPr>
          <a:xfrm>
            <a:off x="428760" y="3214800"/>
            <a:ext cx="5984640" cy="4489200"/>
          </a:xfrm>
          <a:prstGeom prst="rect">
            <a:avLst/>
          </a:prstGeom>
          <a:ln w="9360">
            <a:solidFill>
              <a:srgbClr val="1830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10:16Z</dcterms:created>
  <dc:creator>Катерина</dc:creator>
  <dc:description/>
  <dc:language>en-US</dc:language>
  <cp:lastModifiedBy>Катерина</cp:lastModifiedBy>
  <dcterms:modified xsi:type="dcterms:W3CDTF">2012-02-21T17:48:32Z</dcterms:modified>
  <cp:revision>30</cp:revision>
  <dc:subject/>
  <dc:title>Игры на развитие интеллектуальных способностей</dc:title>
</cp:coreProperties>
</file>