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787-B4A9-4245-ABED-102CF31B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8C0F-A16B-459F-ABA7-79C65FCE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0096-4505-4E68-9133-3C27BC88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BC65-705E-41AD-BE0E-6B706859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0CC7-3782-4F60-8DAD-39C8539B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0FF0-1FAC-4D19-B0AC-F9004557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18ED-9225-455A-90EA-73E826A6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F64E-D3C9-49E5-B657-B2FFF9EC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F3C3-8AF7-44B7-A353-2D0DE66A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C910-C4DA-4797-90B3-AD92C0B1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9B89-C0E5-48FD-81F1-D5396852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2E9-6850-4371-A4B5-1E0AC274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2F69-7389-4927-BB12-EC0035F6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0650-ACF4-4D8A-8EA9-D264AED8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1429-65EA-4737-811E-0D49B1C7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8D1F-848A-498A-8473-3B0BA311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EDAC-A5F5-4603-BC7E-FE4E2864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4FA-1926-4B01-A792-3CE1E78C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433-7ADE-4E43-BD39-779CCCC9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5F1C-7FF8-47BA-8B06-EF95A290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EF4-4B7E-497C-845C-EEAB684C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D6E-0ABF-4452-87FC-1665042E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244-5D03-4480-B570-1B73EF74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F2E-33F7-465E-B5A5-C8F3AD9F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7121-E5BF-4EEB-AF1D-2EA66B536B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80B1-E181-4D66-B924-048D0B1C756D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2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image" Target="../media/image3.png"/><Relationship Id="rId6" Type="http://schemas.openxmlformats.org/officeDocument/2006/relationships/slide" Target="slide14.xml"/><Relationship Id="rId7" Type="http://schemas.openxmlformats.org/officeDocument/2006/relationships/image" Target="../media/image3.png"/><Relationship Id="rId8" Type="http://schemas.openxmlformats.org/officeDocument/2006/relationships/slide" Target="slide15.xml"/><Relationship Id="rId9" Type="http://schemas.openxmlformats.org/officeDocument/2006/relationships/image" Target="../media/image3.png"/><Relationship Id="rId10" Type="http://schemas.openxmlformats.org/officeDocument/2006/relationships/slide" Target="slide16.xml"/><Relationship Id="rId11" Type="http://schemas.openxmlformats.org/officeDocument/2006/relationships/image" Target="../media/image3.png"/><Relationship Id="rId12" Type="http://schemas.openxmlformats.org/officeDocument/2006/relationships/slide" Target="slide17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2f1311"/>
                </a:solidFill>
                <a:latin typeface="Arial"/>
              </a:rPr>
              <a:t>Метод обучения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– базисная категория методики, понимание которой оказывает существенное влияние на трактовку других терминов и понятий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477200" cy="391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По Пассову: </a:t>
            </a:r>
            <a:br>
              <a:rPr sz="2400"/>
            </a:b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Методы исследования </a:t>
            </a: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представляют собой научно разработанные способы получения фактического материала и теоретических знаний об объекте, они являются своего рода правилами действия в познании. 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cxnSp>
        <p:nvCxnSpPr>
          <p:cNvPr id="202" name="Прямая со стрелкой 3"/>
          <p:cNvCxnSpPr/>
          <p:nvPr/>
        </p:nvCxnSpPr>
        <p:spPr>
          <a:xfrm flipH="1">
            <a:off x="1356840" y="2784960"/>
            <a:ext cx="1215360" cy="429480"/>
          </a:xfrm>
          <a:prstGeom prst="straightConnector1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</p:cxnSp>
      <p:cxnSp>
        <p:nvCxnSpPr>
          <p:cNvPr id="203" name="Прямая со стрелкой 4"/>
          <p:cNvCxnSpPr/>
          <p:nvPr/>
        </p:nvCxnSpPr>
        <p:spPr>
          <a:xfrm>
            <a:off x="2571840" y="2786040"/>
            <a:ext cx="714960" cy="643320"/>
          </a:xfrm>
          <a:prstGeom prst="straightConnector1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</p:cxnSp>
      <p:sp>
        <p:nvSpPr>
          <p:cNvPr id="204" name="TextBox 13"/>
          <p:cNvSpPr/>
          <p:nvPr/>
        </p:nvSpPr>
        <p:spPr>
          <a:xfrm>
            <a:off x="285840" y="3357720"/>
            <a:ext cx="235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Теоретически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2286000" y="3286080"/>
            <a:ext cx="2214720" cy="19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спомогательные-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анкетирование, тестирование (или метод срезов), хронометраж, метод интервью и метод компетентных судей, а также наблюдени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142920" y="3929040"/>
            <a:ext cx="200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анализ и синтез, построение гипотез, моделирование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07" name="Прямая со стрелкой 17"/>
          <p:cNvCxnSpPr/>
          <p:nvPr/>
        </p:nvCxnSpPr>
        <p:spPr>
          <a:xfrm>
            <a:off x="2643120" y="2786040"/>
            <a:ext cx="2929680" cy="572400"/>
          </a:xfrm>
          <a:prstGeom prst="straightConnector1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</p:cxnSp>
      <p:sp>
        <p:nvSpPr>
          <p:cNvPr id="208" name="TextBox 22"/>
          <p:cNvSpPr/>
          <p:nvPr/>
        </p:nvSpPr>
        <p:spPr>
          <a:xfrm>
            <a:off x="4643280" y="350028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опытные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эксперимент в строгом смысле этого слова, опытную работу, наблюдение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лассификация метод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По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И.Ф.Харламов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4" action="ppaction://hlinksldjump"/>
              </a:rPr>
              <a:t>По И.Я.Лернер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6" action="ppaction://hlinksldjump"/>
              </a:rPr>
              <a:t>По Ю.К.Бабанском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8" action="ppaction://hlinksldjump"/>
              </a:rPr>
              <a:t>Ц- Ж.Ц.Цыдып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10" action="ppaction://hlinksldjump"/>
              </a:rPr>
              <a:t>Г.Ц.Молон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12" action="ppaction://hlinksldjump"/>
              </a:rPr>
              <a:t>И.Л.Би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ето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стного изложения знаний учителем и активизация познавательной деятельности учащихся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акрепления изучаемого материала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амостоятельной работы учащихся по осмыслению и усвоению нового учебного материала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чебной работы по применению знаний  на практике и выработке навыков и умений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оверки и оценки </a:t>
            </a:r>
            <a:r>
              <a:rPr b="0" lang="ru-RU" sz="2400" spc="-1" strike="noStrike" u="sng">
                <a:solidFill>
                  <a:srgbClr val="f0b854"/>
                </a:solidFill>
                <a:uFillTx/>
                <a:latin typeface="Arial"/>
                <a:hlinkClick r:id="rId6" action="ppaction://hlinksldjump"/>
              </a:rPr>
              <a:t>знаний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, навыков и умений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Стрелка влево 3">
            <a:hlinkClick r:id="rId7" action="ppaction://hlinksldjump"/>
          </p:cNvPr>
          <p:cNvSpPr/>
          <p:nvPr/>
        </p:nvSpPr>
        <p:spPr>
          <a:xfrm>
            <a:off x="2643120" y="5857920"/>
            <a:ext cx="500040" cy="3571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бъяснительно – иллюстративны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епродуктивны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астично – поисковы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сследовательски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вристически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Стрелка влево 3">
            <a:hlinkClick r:id="rId1" action="ppaction://hlinksldjump"/>
          </p:cNvPr>
          <p:cNvSpPr/>
          <p:nvPr/>
        </p:nvSpPr>
        <p:spPr>
          <a:xfrm>
            <a:off x="2571840" y="6072120"/>
            <a:ext cx="500040" cy="3571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ето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63160" y="1598760"/>
            <a:ext cx="80233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рганизации осуществления учебно – познавательной деятельност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тимулирования и мотивации у – п д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нтроля и самоконтрол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Стрелка влево 3">
            <a:hlinkClick r:id="rId4" action="ppaction://hlinksldjump"/>
          </p:cNvPr>
          <p:cNvSpPr/>
          <p:nvPr/>
        </p:nvSpPr>
        <p:spPr>
          <a:xfrm>
            <a:off x="2428920" y="592920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Шэнэ материалаа тайлбарилг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  <a:ea typeface="Times New Roman"/>
              </a:rPr>
              <a:t>Үзэ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  <a:ea typeface="Times New Roman"/>
              </a:rPr>
              <a:t>h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  <a:ea typeface="Times New Roman"/>
              </a:rPr>
              <a:t>энөө бэхижүүлгэ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  <a:ea typeface="Times New Roman"/>
              </a:rPr>
              <a:t>h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  <a:ea typeface="Times New Roman"/>
              </a:rPr>
              <a:t>урагшадай мэдэсые, шадабари ба дадал шалгалг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Стрелка влево 3">
            <a:hlinkClick r:id="rId2" action="ppaction://hlinksldjump"/>
          </p:cNvPr>
          <p:cNvSpPr/>
          <p:nvPr/>
        </p:nvSpPr>
        <p:spPr>
          <a:xfrm>
            <a:off x="2428920" y="5715000"/>
            <a:ext cx="500040" cy="42876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ействие учителя(объяснение учебного материала, инструктаж, консультация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ействия в период совместной деятельности учителя и учащихся (повторение учебного материала и первичное знакомство с ним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ыполнение самостоятельной работы учащихся под руководством учител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Стрелка влево 3">
            <a:hlinkClick r:id="rId1" action="ppaction://hlinksldjump"/>
          </p:cNvPr>
          <p:cNvSpPr/>
          <p:nvPr/>
        </p:nvSpPr>
        <p:spPr>
          <a:xfrm>
            <a:off x="2500200" y="6215040"/>
            <a:ext cx="500040" cy="412920"/>
          </a:xfrm>
          <a:prstGeom prst="leftArrow">
            <a:avLst>
              <a:gd name="adj1" fmla="val 50000"/>
              <a:gd name="adj2" fmla="val 50031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13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Методы обучения – это методы организации ознакомления (показ/,объяснение), организации тренировки и организации применения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63520" y="1071720"/>
            <a:ext cx="738648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опутствующим методом выступает контроль, включающий коррекцию и оценк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Методы учения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2f1311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Ознакомлен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2f1311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Размышление, рассужден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2f1311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Трениров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2f1311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Применен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опутствующим методом выступает самоконтрол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Стрелка влево 3">
            <a:hlinkClick r:id="rId2" action="ppaction://hlinksldjump"/>
          </p:cNvPr>
          <p:cNvSpPr/>
          <p:nvPr/>
        </p:nvSpPr>
        <p:spPr>
          <a:xfrm>
            <a:off x="4857840" y="6143760"/>
            <a:ext cx="428400" cy="4284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214200" y="1329480"/>
            <a:ext cx="7643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Метод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(буквально путь к чему-то) означает способ достижения цели, определенным образом упорядоченную деятельность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f1311"/>
                </a:solidFill>
                <a:uFillTx/>
                <a:latin typeface="Arial"/>
                <a:ea typeface="Times New Roman"/>
              </a:rPr>
              <a:t>Методом обучения</a:t>
            </a:r>
            <a:r>
              <a:rPr b="0" lang="ru-RU" sz="2400" spc="-1" strike="noStrike" u="sng">
                <a:solidFill>
                  <a:srgbClr val="2f1311"/>
                </a:solidFill>
                <a:uFillTx/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называют способ упорядоченной взаимосвязанной деятельности преподавателя и обучаемых, деятельности, направленной на решение задач образования, воспитания и развития в процессе обучени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f1311"/>
                </a:solidFill>
                <a:uFillTx/>
                <a:latin typeface="Arial"/>
                <a:ea typeface="Times New Roman"/>
              </a:rPr>
              <a:t>Методы обучения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являются одним из важнейших компонентов учебного процесса. Без соответствующих методов деятельности невозможно реализовать цели и задачи обучения, достичь усвоения обучаемыми определенного содержания учебного материал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9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Метод обучения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едставляет собой систему целенаправленных действий учителя, организующих познавательную и практическую деятельность учащихся, обеспечивающих содержание образования и тем самым, достижение целей обучения» /Скаткин.М.Н.,1972/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Метод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есть система функционально взаимо- обусловленных принципов, направленных на достижение строго определенной цели и находящихся в соответствии с объективными психофизическими данными усвоения определенного вида речевой деятельности и условиями, в которых протекает учебный процесс» /Пассов Е.И.,1977/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428760" y="227880"/>
            <a:ext cx="721512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В методике обучения ИЯ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«метод»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– обобщенная модель обучения, основанная на одном из направлений и опирающаяся на конкретные подходы, типичные для данного направления (Колесникова И.А., Долгина О.А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  <a:ea typeface="Times New Roman"/>
              </a:rPr>
              <a:t>.)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Метод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в широком смысле слова) – генеральная стратегия обучения в определенный исторический период (переводные, прямой, аудиовизуальный…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Метод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(в узком смысле слова) – способ совместной деятельности учителя и учащихся по достижению поставленной цели (ознакомление, тренировка, применение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Основные группы методов. 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Из них следует выделить три основные группы методов обучения: </a:t>
            </a:r>
            <a:br>
              <a:rPr sz="2400"/>
            </a:b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1) методы организации и осуществления учебно-познавательной деятельности;</a:t>
            </a:r>
            <a:br>
              <a:rPr sz="2400"/>
            </a:b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 2) методы стимулирования и мотивации учебной деятельности; </a:t>
            </a:r>
            <a:br>
              <a:rPr sz="2400"/>
            </a:b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3) методы контроля и самоконтроля за эффективностью учебно-познавательной деятельности.</a:t>
            </a:r>
            <a:br>
              <a:rPr sz="2400"/>
            </a:b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1"/>
          <p:cNvSpPr/>
          <p:nvPr/>
        </p:nvSpPr>
        <p:spPr>
          <a:xfrm>
            <a:off x="285840" y="285840"/>
            <a:ext cx="7215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сследователи единодушно высказывают мнение о том, что не существует абсолютно правильного и эффективного для всех условий обучения метода и приходят к выводу, что необходимо </a:t>
            </a: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комбинирование различных подходов, принципов и элементов различных методов с учетом специфики обучения,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кольку то, что эффективно в одних условиях, может иметь совершенно противоположный результат в иных условиях обуч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7d4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МЕТОДЫ ОБУЧЕНИЯ БУРЯТСКОМУ ЯЗЫКУ</a:t>
            </a:r>
            <a:br>
              <a:rPr sz="4000"/>
            </a:br>
            <a:br>
              <a:rPr sz="4000"/>
            </a:b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1. По источнику получения знаний:</a:t>
            </a:r>
            <a:br>
              <a:rPr sz="3200"/>
            </a:br>
            <a:r>
              <a:rPr b="1" lang="ru-RU" sz="3200" spc="-1" strike="noStrike">
                <a:solidFill>
                  <a:srgbClr val="f7d47d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словесные (лекция, беседа, рассказ и т.п.);</a:t>
            </a:r>
            <a:br>
              <a:rPr sz="3200"/>
            </a:br>
            <a:r>
              <a:rPr b="1" lang="ru-RU" sz="3200" spc="-1" strike="noStrike">
                <a:solidFill>
                  <a:srgbClr val="f7d47d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практические (упражнения);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 - наглядные (иллюстрирование, демонстрация).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. По уровню активности познавательной деятельности: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объяснительно- иллюстративный (беседа, сообщение учителя, чтение учебника);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репродуктивный (анализ языковых единиц, их функционирования в речи, построение  предложений по моделям, подбор синонимов, однокоренных слов)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проблемное изложение изучаемого материала (создание проблемной ситуации, решение частной лексической, грамматической задачи);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эвристический (продуцирование текстов, устное словесное рисование, творческий пересказ);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исследовательский (анализ языковых единиц разных уровней во взаимосвязи и взаимодействии).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3. По функциям:</a:t>
            </a:r>
            <a:br>
              <a:rPr sz="2000"/>
            </a:b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методы устного изложения знаний учителем и активизации познавательной деятельности учащихся (объяснение учителя, рассказ, лекция, иллюстрирование);</a:t>
            </a:r>
            <a:br>
              <a:rPr sz="2000"/>
            </a:b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методы закрепления изучаемого материала (беседа, работа с учебником, языковой разбор);</a:t>
            </a:r>
            <a:br>
              <a:rPr sz="2000"/>
            </a:b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методы самостоятельной работы учащихся по осмыслению и усвоению нового материала (выполнение аналитико-синтетических упражнений, преобразование языкового материала);</a:t>
            </a:r>
            <a:br>
              <a:rPr sz="2000"/>
            </a:b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методы учебной работы по применению знаний на практике и выработке умений и навыков (трансформация текста, конструирование, моделирование, подбор синонимов, изложение, сочинение, монологическое высказывание);</a:t>
            </a:r>
            <a:br>
              <a:rPr sz="2000"/>
            </a:b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методы проверки и оценки знаний, умений и навыков учащихся (диктант, лабораторная работа, контрольная работа)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08:28:54Z</dcterms:created>
  <dc:creator>аюр</dc:creator>
  <dc:description/>
  <dc:language>en-US</dc:language>
  <cp:lastModifiedBy>ADMIN</cp:lastModifiedBy>
  <dcterms:modified xsi:type="dcterms:W3CDTF">2011-06-16T15:28:48Z</dcterms:modified>
  <cp:revision>21</cp:revision>
  <dc:subject/>
  <dc:title>Метод обучения – базисная категория методики, понимание которой оказывает существенное влияние на трактовку других терминов и понятий.</dc:title>
</cp:coreProperties>
</file>