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F42-F25A-42C3-BFB1-7F3FD0A6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960-101C-47CD-8BF8-EBDDA65C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50D-C918-454A-8BF6-7ADE0EBA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208-A8C8-468D-B0B4-2A3955C4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7217-8549-48BE-B03F-B4590F18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8D99-0655-46D7-91A7-53918FC4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B97D-D310-43E9-BFB7-D3B0BA17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27EE-D6A9-4811-AF8A-BEFB7911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A885-4493-4BA5-BEF0-97E0B561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4D56-96E1-4CA6-8C61-FDD427FF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6D03-7752-4291-BA23-3873B0CE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2462-9027-4FBC-98F7-8BB8C976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D046-0A4F-4B5C-80BC-C3C3F505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ADC3-7D46-413F-A064-7F9259BC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7875-24C2-4E99-BDC1-ED2DD779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D9A1-BA1C-4CB3-AFBD-0E3FA384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8B33-FB10-4DC1-9B85-02A5C3FD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12C-90A3-49D5-A786-131EC374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A00-F04B-4DC3-B69A-2CDEEFFC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659-7658-437C-84BB-69A42BD8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4FA2-1C9E-4B42-8615-D2140530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C31-5560-400A-B3DC-A4966B0D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FB05-D0A6-4E5B-8AA6-75E6D408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9BA-EB47-4D9E-87F6-EA76FC46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770C-0E3F-47B0-88AD-9CCDD1A4812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E00E-E6CE-4D41-B02C-E4D68B47F51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699920"/>
            <a:ext cx="6400800" cy="4824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Общее недоразвитие речи детей старшего дошкольного возраста и его причины 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учитель –логопед Карабчукова И.В.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Октябрь 2011 г.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260280"/>
            <a:ext cx="6032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ОУ «Начальная школа- детский сад №1» г. Черемхо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Осложненный вариант ОНР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врологическая симптоматика (негрубое  повреждение отдельных мозговых структур)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индром повышенного внутричерепного давлен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повышенная  нервно-психическая истощаемость)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индромы двигательных расстройств(нарушения мышечного тонуса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83400" y="0"/>
            <a:ext cx="15606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собенности речевого развития детей логогруп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обенность детей с ОНР заключается в том, что качество и объём активного словаря у детей этой группы не соответствует возрастной норме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А именно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6960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ети затрудняются употреблять в речи обобщающие сло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ети затрудняются объединить предложенные картинки по группам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справляются с заданием на подбор слов антонимов и эпитетов к предмета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ножественные ошибки встречаются при выполнении заданий на исследование грамматического строя речи. Даже получая помощь взрослого, дети допускают значительное количество ошибок при выполнении заданий на изменение существительных по числа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ольшие затруднения вызывают задания на согласование прилагательных с существительными и существительных с числительными в роде и числ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ольшинство детей не могут самостоятельно выполнить задание на словообразование: им требуется наглядный образец и помощь взрослого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пример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Не зная наименований частей предметов, дети заменяют их названием самого предмета («рукав» - «рубашка»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звание действий заменяют словами, близкими по ситуации и внешним признакам («подшивает» - «шьёт»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звание предмета заменяется названием действий («тётя продаёт яблоки» -вместо «продавец»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мена видовых понятий родовыми и наоборот («ромашка» - «роза», «колокольчик» - «цветок»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асто они не знают названий оттенков цветов: «оранжевый», «серый», «голубой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пример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охо различают форму предметов: «круглый», «овальный», «квадратный», «треугольный»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ловаре детей мало обобщающих понятий, в основном это игрушки, посуда, одежда, цвет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дко используются антонимы, практически отсутствуют синонимы (характеризуют величину предмета, используют только понятие: «большой -маленький», которыми заменяют слова: «длинный», «короткий», «высокий», «низкий», «толстый», «тонкий», «широкий», «узкий»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ти затрудняются в образовании существительных с помощью уменьшительно- ласкательных суффиксов некоторых прилагательных («мехная шапка», «глинный кувшин»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И в заключени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сформированность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ловообразовательных операций приводит, с одной стороны, к неполноценной речевой коммуникации, а с другой - ограничивает когнитивные (познавательные) способности детей. Поэтому актуальность развития всех сторон речи, в том числе и лексической, в системы речевого формирования одна из главных задач в дошкольном периоде. Чем раньше произойдёт коррекционное воздействие на неполноценную речь ребёнка, тем успешнее будет его дальнейшее развитие и обучение в школ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то же делать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паниковать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браться терпен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оворить с ребенком  четко и ясно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истематически обращать внимание на его речь и произношен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вивать речь ребенка не от случая к случаю , а ежедневно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полнять ВСЕ рекомендации логопеда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ИСЛОВИЕ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рвые осмысленные слова появляются у детей к концу первого года жизни (10-12 слов); в конце второго года жизни лексический состав составляет 300-400 слов; к трём годам - 1500 слов; к четырём - 1900; в пять лет - до 2000 - 2500, в шесть семь лет - до 3500- 4000 сл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овершенствование речи детей 5-ти лет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бразование прилагательных от существительных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зличные части речи от одного корня (бегун - бежать - бегущий, певец - петь - поющий, синий - синеть - синева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уществительные от прилагательны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овершенствование речи детей 5-ти лет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лементы звуковой стороны слова, необходимые для формирования высказывания: темп, дикция, сила голоса и интонационная выразительность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высказываниях детей этого возраста появляются разнообразные слова, которые выражают состояние и переживание, начинает развиваться связная речь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Основные признаки общего недоразвития речи: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зднее начало развития реч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медленный темп речевого развити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граниченный, не соответствующий возрасту словарный запас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рушение формирования грамматического строя реч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рушение звукопроизношения и фонематического восприяти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бщее недоразвитие ре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щее недоразвитие речи - это системное нарушение усвоения всех уровней языка, требующее длительного и систематического логопедического воздействи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чины возникновения ОНР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здоровь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условия воспитания и развит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социальные услов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чина  № 1.  Здоров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чевые центры - самое позднее образование мозга человека (с точки зрения эволюции головного мозга), а значит, - они самые «юные». Это делает их наиболее уязвимыми по сравнению с другими центрами. И при малейших неблагоприятных условиях развития организма речевые центры одни из первых дают сбой. Именно поэтому речь ребёнка - это своеобразная «лакмусовая бумажка» общего развития дет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64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Причины: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2644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Осложнения во время беременности и родах у матери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Недоношенность, незрелость при рождении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Частая заболеваемость, соматическая ослабленность в первые месяцы и года жизни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небольшие мозговые  дисфункции, с  нарушением мышечного тонуса, недостаточностью тонких дифференцированных движений  пальцев рук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583400" y="0"/>
            <a:ext cx="15606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12:25:46Z</dcterms:created>
  <dc:creator>Admin</dc:creator>
  <dc:description/>
  <dc:language>en-US</dc:language>
  <cp:lastModifiedBy>Admin</cp:lastModifiedBy>
  <dcterms:modified xsi:type="dcterms:W3CDTF">2011-10-19T14:39:21Z</dcterms:modified>
  <cp:revision>6</cp:revision>
  <dc:subject/>
  <dc:title> Общее недоразвитие речи детей старшего дошкольного возраста и его причины   </dc:title>
</cp:coreProperties>
</file>