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9.png" ContentType="image/png"/>
  <Override PartName="/ppt/media/image13.jpeg" ContentType="image/jpeg"/>
  <Override PartName="/ppt/media/image3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F6-43A0-47CB-9C54-AF3B4B0E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332-A967-458A-9EE9-A9D399A5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2F0-6EC8-4014-BD39-9470D4CD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9C1-9F53-4D7D-AC3C-EEEF7DAC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D5F-2A11-48D4-8916-C5B0CE07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C40-BC5C-446D-9DC6-224E0FD0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B96-6C04-4019-B28B-72E4501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23F-16A7-48CB-93E4-2EDB7CD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74D-E663-4B49-B2C3-C96717D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CF7-652E-46A1-82F9-DCBFE25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62B-B0A8-4186-A66F-5A75321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08F-CB96-4652-A497-6806D1E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E423-C8B8-4117-9EE3-F6DB5CA98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0800000">
            <a:off x="400068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11280" y="189000"/>
            <a:ext cx="80438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- граждане Казахста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2072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ава казахстанцев записаны в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главном законе –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нститу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Республ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азах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186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220006.jpg"/>
          <p:cNvPicPr/>
          <p:nvPr/>
        </p:nvPicPr>
        <p:blipFill>
          <a:blip r:embed="rId3"/>
          <a:stretch/>
        </p:blipFill>
        <p:spPr>
          <a:xfrm>
            <a:off x="539640" y="1547640"/>
            <a:ext cx="806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2"/>
          <a:stretch/>
        </p:blipFill>
        <p:spPr>
          <a:xfrm>
            <a:off x="219240" y="128520"/>
            <a:ext cx="8827920" cy="206532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3" descr="220011.jpg"/>
          <p:cNvPicPr/>
          <p:nvPr/>
        </p:nvPicPr>
        <p:blipFill>
          <a:blip r:embed="rId3"/>
          <a:stretch/>
        </p:blipFill>
        <p:spPr>
          <a:xfrm>
            <a:off x="1459080" y="2357280"/>
            <a:ext cx="6225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3" descr="220012.jpg"/>
          <p:cNvPicPr/>
          <p:nvPr/>
        </p:nvPicPr>
        <p:blipFill>
          <a:blip r:embed="rId3"/>
          <a:stretch/>
        </p:blipFill>
        <p:spPr>
          <a:xfrm>
            <a:off x="539640" y="1547640"/>
            <a:ext cx="777744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32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220009.jpg"/>
          <p:cNvPicPr/>
          <p:nvPr/>
        </p:nvPicPr>
        <p:blipFill>
          <a:blip r:embed="rId3"/>
          <a:stretch/>
        </p:blipFill>
        <p:spPr>
          <a:xfrm>
            <a:off x="684360" y="1477800"/>
            <a:ext cx="7991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38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220007.jpg"/>
          <p:cNvPicPr/>
          <p:nvPr/>
        </p:nvPicPr>
        <p:blipFill>
          <a:blip r:embed="rId3"/>
          <a:stretch/>
        </p:blipFill>
        <p:spPr>
          <a:xfrm>
            <a:off x="468360" y="1608120"/>
            <a:ext cx="82072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9720"/>
            <a:ext cx="990108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Р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з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̅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, дв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Р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з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̅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, дв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ть у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͜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н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в</a:t>
            </a:r>
            <a:r>
              <a:rPr b="1" lang="en-US" sz="55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права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Три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, ч</a:t>
            </a:r>
            <a:r>
              <a:rPr b="1" lang="en-US" sz="55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ты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55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пя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ть, ше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ть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͜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55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бя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занн</a:t>
            </a:r>
            <a:r>
              <a:rPr b="1" lang="en-US" sz="55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ти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5500" spc="-1" strike="noStrike">
                <a:solidFill>
                  <a:srgbClr val="0000ff"/>
                </a:solidFill>
                <a:latin typeface="Arial"/>
              </a:rPr>
              <a:t>сть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328320"/>
            <a:ext cx="8251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Ō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я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нн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ō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ти д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ē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й в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͜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Р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ē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пу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лик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ē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Казахста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юд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ь зак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ы 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п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ики Казахст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Уважа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ть г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ō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уда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ств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ē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нные си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мв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ō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ē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пу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блики Казахста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важа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ть други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 люде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аб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т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̅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̅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̅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̅͜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р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ō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и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ē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ē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ь п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̅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ники ист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ии и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͜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культу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ō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хран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ь прир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́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64160" y="2708280"/>
            <a:ext cx="2679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Знай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свои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прав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   и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выполняй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обязанност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-66600" y="0"/>
            <a:ext cx="9210600" cy="1689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3975120" cy="553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00720" y="119700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076720" y="371808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9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617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708360" y="765000"/>
            <a:ext cx="495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а ребёнка в Казахстан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s3img_4987759_18649_1.jpg"/>
          <p:cNvPicPr/>
          <p:nvPr/>
        </p:nvPicPr>
        <p:blipFill>
          <a:blip r:embed="rId2"/>
          <a:stretch/>
        </p:blipFill>
        <p:spPr>
          <a:xfrm>
            <a:off x="1692360" y="1557360"/>
            <a:ext cx="5465520" cy="5472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4380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3" descr=""/>
          <p:cNvPicPr/>
          <p:nvPr/>
        </p:nvPicPr>
        <p:blipFill>
          <a:blip r:embed="rId2"/>
          <a:stretch/>
        </p:blipFill>
        <p:spPr>
          <a:xfrm>
            <a:off x="468360" y="0"/>
            <a:ext cx="8265960" cy="147636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5" descr="220001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25960" cy="544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93560" y="43812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rcRect l="0" t="12938" r="0" b="24032"/>
          <a:stretch/>
        </p:blipFill>
        <p:spPr>
          <a:xfrm>
            <a:off x="1476360" y="1833480"/>
            <a:ext cx="5975280" cy="502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4"/>
          <a:srcRect l="0" t="12938" r="0" b="24032"/>
          <a:stretch/>
        </p:blipFill>
        <p:spPr>
          <a:xfrm>
            <a:off x="1476360" y="1833480"/>
            <a:ext cx="59752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220008.jpg"/>
          <p:cNvPicPr/>
          <p:nvPr/>
        </p:nvPicPr>
        <p:blipFill>
          <a:blip r:embed="rId3"/>
          <a:stretch/>
        </p:blipFill>
        <p:spPr>
          <a:xfrm>
            <a:off x="1463760" y="2143080"/>
            <a:ext cx="62164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66320" cy="14763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220004.jpg"/>
          <p:cNvPicPr/>
          <p:nvPr/>
        </p:nvPicPr>
        <p:blipFill>
          <a:blip r:embed="rId3"/>
          <a:stretch/>
        </p:blipFill>
        <p:spPr>
          <a:xfrm>
            <a:off x="2484360" y="1484280"/>
            <a:ext cx="410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5984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220010.jpg"/>
          <p:cNvPicPr/>
          <p:nvPr/>
        </p:nvPicPr>
        <p:blipFill>
          <a:blip r:embed="rId3"/>
          <a:stretch/>
        </p:blipFill>
        <p:spPr>
          <a:xfrm>
            <a:off x="900000" y="1484280"/>
            <a:ext cx="7201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50:13Z</dcterms:created>
  <dc:creator>Алёна</dc:creator>
  <dc:description/>
  <dc:language>en-US</dc:language>
  <cp:lastModifiedBy>Customer</cp:lastModifiedBy>
  <dcterms:modified xsi:type="dcterms:W3CDTF">2012-02-21T06:05:23Z</dcterms:modified>
  <cp:revision>27</cp:revision>
  <dc:subject/>
  <dc:title>Документы по правам ребёнка</dc:title>
</cp:coreProperties>
</file>