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B5A3-0142-4626-9419-29AAA5E49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EBC6-8A23-48D0-9485-43365E91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B18E-259B-42FA-B575-3B1BD864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A3B3-D7FD-4AAE-A2DC-F42F290EA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072E0-A544-409B-A057-2FCD6B5F4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3C924-D2B0-4A4D-A3E9-68A1432B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64C2F-6AF4-474C-A2BC-2B37B783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8E38F-DD25-4D17-80E6-6A948B61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E9F88-2239-435F-8F1B-043ACCDB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E8681-B918-4B7A-A178-43BC0F50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41DAE-DD13-4616-995B-C053E3F7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103E-535C-42E5-AD4C-E33B6ED1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9A701-F95C-4AF7-8225-F40F3646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C2BE8-BF44-46C2-9239-8A288094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434D3-BC96-4ACE-9D1C-61C8210F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CF9A7-AC47-4065-9927-2201496D3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B6455-C1F9-4ACC-A349-A139B09AC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0E42-5752-440D-8807-8F8FA933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CC23-9143-434C-AAB1-B119E456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5606-1B55-459F-83F1-725B274D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5958-0A47-43B7-8CE9-B42C3DE0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45E7-9CDA-47BD-A645-11F47B96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AA4E-8A6E-4800-B67E-FFBB2F91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1368-8DBC-442B-BC95-75F62D5D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588E-D569-4A39-941B-6C70C2C611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72DA-1117-4D5B-88D1-EA150FF954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Урок немецкого языка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в 6-ом класс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м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ши «знайки» языка!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788000" y="2276640"/>
            <a:ext cx="4032000" cy="424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-ий ря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ch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t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lein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ng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ss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s Dorf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s We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932360" y="2787480"/>
            <a:ext cx="3960720" cy="373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7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2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7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обери пословицу!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-ый ря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ist nicht alles Gold,………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Wer zulezt lacht, …………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588000" y="1916280"/>
            <a:ext cx="2556000" cy="46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 –ой ря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ist nicht alle T…………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duld und Fleiss, ………………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-ий ря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undschaft bewehrt sich…………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r viel redet,………………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овтори скороговорку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-ый ряд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ritze,kratzi macht die Katze mit der Tan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98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98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98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-ой ряд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eze, mieeze, Katzchen, wie weich sind deine Tatzch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98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98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-ий ряд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ten ess ich Essig. Ess ich Essig, ess ich Essig im Salat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98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898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огда это бывает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-ый ряд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r Schnee wird weich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taut der Teich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ng wird Tag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nn wird ist das? Sag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0" y="253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-ой ряд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e Sonne gluht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e Linde bluht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s Korn wird vo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nn ist das woh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-ий ряд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e Felder weiss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f Flussen E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weht der Wi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nn ist das, Kin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тветь на вопросы!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-ый ря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07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lches Tier besucht die Deutchen Kinder zu Oster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                       B                          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 Elefant          der Hase                der Wo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-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й ря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e heisst das deutsche Kleingel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                  B                      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fenning         Kopeken            Ma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-ий ря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 geht nach diesem Thema nich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                    B                     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.Straus           K.Wagner          A.Einste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оставь слово!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-ый ря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берите к этим словам одно общее слово, чтобы получилось сложное существительно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e Klasse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 der Schlaf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 das Kind 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 der Sport 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-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й ря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 Schnee 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der Fluss 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die Feder 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Volley 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292720" y="2133720"/>
            <a:ext cx="1924200" cy="2728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-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я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57704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die Woche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die Frau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die Schule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die Arbeit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830680" y="1996920"/>
            <a:ext cx="5184720" cy="3498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ереведи слово!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- ый ря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t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pfer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se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hnell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tt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stig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uri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788000" y="2654280"/>
            <a:ext cx="316692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8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3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- ря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 Tag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s Auto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 Morgen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s Café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 Abend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s Madchen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s Ki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148360" y="2060640"/>
            <a:ext cx="3995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0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12:36:43Z</dcterms:created>
  <dc:creator>2</dc:creator>
  <dc:description/>
  <dc:language>en-US</dc:language>
  <cp:lastModifiedBy>2</cp:lastModifiedBy>
  <dcterms:modified xsi:type="dcterms:W3CDTF">2007-02-15T15:25:24Z</dcterms:modified>
  <cp:revision>5</cp:revision>
  <dc:subject/>
  <dc:title>   Урок немецкого языка           в 6-ом классе</dc:title>
</cp:coreProperties>
</file>