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C2F-A012-4681-9A6D-46AFF682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217-C746-4F77-92FE-D91877A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21F-C714-49F0-B912-8EA324EE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EF0-ACC1-4ECB-BCCF-91A3F6F2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DEA-B5E6-45F7-8AC8-7D420CC3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3FE-71D5-4D50-9985-EA00F998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BF5-67C4-4273-8711-8954DF8F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D95-8A14-49FC-8030-4C8BD8D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673-B0F5-4981-AA9B-1DB35BF2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A3A-80B3-45D3-890B-55A499B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6D4-62A6-4A2F-A287-F27DF04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8B1-A2D7-4295-BF61-714D5DC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fdde"/>
            </a:gs>
            <a:gs pos="50000">
              <a:srgbClr val="71b5ff"/>
            </a:gs>
            <a:gs pos="100000">
              <a:srgbClr val="6bfdd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68F-58E5-422C-BAFA-01112AE0F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8000" y="25992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стояние больного тяж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имптомов множ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о рта исходит нездоровый за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го лихорадит так, как никогда пр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е попытки снять лихорадку безуспеш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жидкостях организма обнаружен 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успеют врачи побороть одни симптомы, как возникают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бы это был обычный пациент, они бы сочли, что он болен хронически и безнаде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зная, что еще можно предпринять, они бы делали все возможное, чтобы облегчить страдания больного до тех пор, пока не наступит его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 в данном случае болен не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8200" indent="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ольна земля – наш общи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12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688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812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843280" y="625320"/>
            <a:ext cx="345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хногенез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539640" y="2708280"/>
            <a:ext cx="835344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цесс   изменения природных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лексов под воздействием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зводственной деятельности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ловека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179280" y="2060640"/>
            <a:ext cx="8658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хногенез: глобальные масштабы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региональные проявления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50920" y="1197000"/>
          <a:ext cx="8569080" cy="5392800"/>
        </p:xfrm>
        <a:graphic>
          <a:graphicData uri="http://schemas.openxmlformats.org/drawingml/2006/table">
            <a:tbl>
              <a:tblPr/>
              <a:tblGrid>
                <a:gridCol w="2404800"/>
                <a:gridCol w="3635640"/>
                <a:gridCol w="252864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ых с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нтроп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а,    собирательство    и т.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очечный техн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новение земледелия, первых поселений челове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очечные»       участки террито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окальный техн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новение   многополь­ных систем земледелия, ис­пользование тягловой силы скота, зарождение гор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аниченные участки территории и аквато­рии в ряде мест земно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икрорегиональный техн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ая революц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, использо­вание силы пара, развитие добывающей и обрабатыва­ющей промышлен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ромы­шленных центров, свя­занных между собой зарождающимися транспортными систем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езорегиональный техн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йшее развитие добывающих отраслей, машиностроения и металлообработки, формирование большой химии,      гидроэнергетик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ние    освоения    земель, пригодных для ведения   сельского   хозяйства, интенсивное   развитие   железнодорожного  и  воздушного транспор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обшир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ов   с   пол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ной    пр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средой,  наблюдаются       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 на акваторию и аэротор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акрорегиональный техн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йшее промышле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, форм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ерной энергетики, интенсивное развитие реактивного воздушного транспор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кание    районов   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ной    пр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средой, образование единой техногенной среды, начало влияния на климатические процес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Глобальный техногене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ое  и  качественное расширение процессов хозяйственной деятельности, охватывающее   всю план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ториальное  смыкание географиче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ы и географической   оболочки,   влияние на клима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" name="WordArt 169"/>
          <p:cNvSpPr txBox="1"/>
          <p:nvPr/>
        </p:nvSpPr>
        <p:spPr>
          <a:xfrm>
            <a:off x="1405080" y="241200"/>
            <a:ext cx="575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апы техногенез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-151" t="4463" r="0" b="22174"/>
          <a:stretch/>
        </p:blipFill>
        <p:spPr>
          <a:xfrm>
            <a:off x="-36360" y="0"/>
            <a:ext cx="9180360" cy="691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278000" y="0"/>
            <a:ext cx="7181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астся ли спасти</a:t>
            </a:r>
            <a:endParaRPr b="0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ету?</a:t>
            </a:r>
            <a:endParaRPr b="0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539640" y="836640"/>
            <a:ext cx="71629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92240" y="1484280"/>
            <a:ext cx="8772480" cy="125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шлое учит настоящее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овторять ошибок в будущем.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5842080" y="3357720"/>
            <a:ext cx="276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99"/>
                    </a:gs>
                    <a:gs pos="50000">
                      <a:srgbClr val="0066ff"/>
                    </a:gs>
                    <a:gs pos="100000">
                      <a:srgbClr val="00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. Леонов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99"/>
                  </a:gs>
                  <a:gs pos="50000">
                    <a:srgbClr val="0066ff"/>
                  </a:gs>
                  <a:gs pos="100000">
                    <a:srgbClr val="00ff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73080" y="115920"/>
            <a:ext cx="2914560" cy="21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73080" y="3701880"/>
            <a:ext cx="2698560" cy="311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2610000" cy="521964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3851280" y="620640"/>
            <a:ext cx="446400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инпис России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859040" y="2637000"/>
            <a:ext cx="429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1428, Москв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СП -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985680" y="1052640"/>
            <a:ext cx="711540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 эти земли, эти воды,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468360" y="4152960"/>
            <a:ext cx="842940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бивайте лишь зверей внутри себя!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927000" y="2065320"/>
            <a:ext cx="702972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же малую былиночку любя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800280" y="3073320"/>
            <a:ext cx="737208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 всех зверей природы,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ПАСИБО ЗА УРОК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4" descr="Дарю хорошее настроение!!!.jpg"/>
          <p:cNvPicPr/>
          <p:nvPr/>
        </p:nvPicPr>
        <p:blipFill>
          <a:blip r:embed="rId1"/>
          <a:stretch/>
        </p:blipFill>
        <p:spPr>
          <a:xfrm>
            <a:off x="1619280" y="1700280"/>
            <a:ext cx="5400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8:38:52Z</dcterms:created>
  <dc:creator>Sergej</dc:creator>
  <dc:description/>
  <dc:language>en-US</dc:language>
  <cp:lastModifiedBy>лена</cp:lastModifiedBy>
  <dcterms:modified xsi:type="dcterms:W3CDTF">2012-02-21T08:12:37Z</dcterms:modified>
  <cp:revision>48</cp:revision>
  <dc:subject/>
  <dc:title>Слайд 1</dc:title>
</cp:coreProperties>
</file>