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92C7-E29A-4698-BC82-A53B04804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BFC4-33C0-4B89-8178-1EFE2002C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6BE9-8268-4098-AC75-015B842A7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5B74-58F7-4ECF-9659-6D4DD1989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DD22-E266-4716-B4C6-74C89AFB0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0BA2-5F10-4C22-837E-C391C95D1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F364-0735-4FFE-8D57-CFF88D944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1078-D4C4-4BFB-B612-C3E5F40D1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BB48-FD9F-4C82-9986-C247DE472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A43F-4811-4DC4-A808-7E6DFDD2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6112-D332-45D5-A960-04B8226E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A932-7C03-4E63-B1DB-DF58001C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89B99-C49D-4585-BEF6-D295FDCFA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униципальное бюджетное                общеобразовательное учреждение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Средняя общеобразовательная школа №1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838080" y="2438280"/>
            <a:ext cx="76964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Impact"/>
              </a:rPr>
              <a:t>Герб моей семь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124080" y="6095880"/>
            <a:ext cx="30099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ерхний Уфалей - 2011г.</a:t>
            </a:r>
            <a:endParaRPr b="0" lang="en-US" sz="20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80880" y="304920"/>
            <a:ext cx="84582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9933ff"/>
                </a:solidFill>
                <a:latin typeface="Impact"/>
              </a:rPr>
              <a:t>Герб семьи Каменевых - Холматовых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9933ff"/>
              </a:solidFill>
              <a:latin typeface="Impact"/>
              <a:ea typeface="Impact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828800" y="1219320"/>
            <a:ext cx="51814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057400" y="685800"/>
            <a:ext cx="4876920" cy="61722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457200" y="0"/>
            <a:ext cx="7924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ff"/>
                </a:solidFill>
                <a:latin typeface="Impact"/>
              </a:rPr>
              <a:t>Герб семьи Воробьевы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ff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905120" y="990720"/>
            <a:ext cx="5333760" cy="5867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990720" y="228600"/>
            <a:ext cx="7238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ff"/>
                  </a:solidFill>
                  <a:miter/>
                </a:ln>
                <a:solidFill>
                  <a:srgbClr val="0000ff"/>
                </a:solidFill>
                <a:latin typeface="Impact"/>
              </a:rPr>
              <a:t>Герб семьи Яковлевых</a:t>
            </a:r>
            <a:endParaRPr b="0" lang="en-US" sz="1800" spc="1" strike="noStrike">
              <a:ln w="9360">
                <a:solidFill>
                  <a:srgbClr val="9933ff"/>
                </a:solidFill>
                <a:miter/>
              </a:ln>
              <a:solidFill>
                <a:srgbClr val="0000ff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914400" y="228600"/>
            <a:ext cx="7315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9900cc"/>
                </a:solidFill>
                <a:latin typeface="Impact"/>
              </a:rPr>
              <a:t>Герб семьи Нефедовых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9900cc"/>
              </a:solidFill>
              <a:latin typeface="Impact"/>
              <a:ea typeface="Impact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905120" y="914400"/>
            <a:ext cx="50292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914400" y="838080"/>
            <a:ext cx="7467480" cy="143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600200" y="2362320"/>
            <a:ext cx="563868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90720" y="706320"/>
            <a:ext cx="59706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93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вто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93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робьева Ксения Евгеньев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93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. В.Уфалей, МБОУ «СОШ №1», класс 4 «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93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менев Никита Олегович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93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. В.Уфалей, МБОУ «СОШ №1», класс 4 «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93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федова Елена Евгеньев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93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. В.Уфалей, МБОУ «СОШ №1», класс 4 «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93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Яковлев Георгий Евгеньевич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93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. В.Уфалей, МБОУ «СОШ №1», класс 4 «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93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93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уководите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93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ерничкина Галина Валентинов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93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подава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93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сшей катег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93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БОУ «СОШ №1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93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ЦЕЛЬ: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знакомиться с разнообразием гербов; с правилами их составления; научиться читать и понимать символику гербов; развивать умение работать с текстом; воспитывать чувство гордости за свою семь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ЗАДАЧИ:</a:t>
            </a: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общить знания о герб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ктивизировать интерес к изучению геральдик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ставить герб своей семь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Предмет исследо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ерб и его составные ч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ff"/>
                </a:solidFill>
                <a:latin typeface="Georgia"/>
              </a:rPr>
              <a:t>Геральдика</a:t>
            </a:r>
            <a:r>
              <a:rPr b="1" lang="en-US" sz="2000" spc="-1" strike="noStrike">
                <a:solidFill>
                  <a:srgbClr val="6600ff"/>
                </a:solidFill>
                <a:latin typeface="Georg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– гербоведение, вспомогательная историческая дисциплина, занимающаяся изучением герб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Elementy herbu"/>
          <p:cNvPicPr/>
          <p:nvPr/>
        </p:nvPicPr>
        <p:blipFill>
          <a:blip r:embed="rId2"/>
          <a:stretch/>
        </p:blipFill>
        <p:spPr>
          <a:xfrm>
            <a:off x="2743200" y="1752480"/>
            <a:ext cx="3657600" cy="4430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380880" y="6324480"/>
            <a:ext cx="83059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8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Герб - эмблема, отличительный знак, передаваемый по наследству.</a:t>
            </a:r>
            <a:endParaRPr b="0" lang="en-US" sz="2000" spc="1" strike="noStrike">
              <a:ln w="12600">
                <a:solidFill>
                  <a:srgbClr val="800000"/>
                </a:solidFill>
                <a:miter/>
              </a:ln>
              <a:solidFill>
                <a:srgbClr val="80008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885840" y="1600200"/>
            <a:ext cx="480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треугольная</a:t>
            </a: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варяж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овальная</a:t>
            </a: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- итальян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квадратная, закругленная внизу</a:t>
            </a: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испан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четырехугольная, заостренная внизу</a:t>
            </a: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француз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вырезна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герман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28600" y="1600200"/>
            <a:ext cx="2728800" cy="4952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914400" y="457200"/>
            <a:ext cx="708660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Формы гербового щита</a:t>
            </a:r>
            <a:endParaRPr b="0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3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3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7000"/>
                            </p:stCondLst>
                            <p:childTnLst>
                              <p:par>
                                <p:cTn id="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2000"/>
                            </p:stCondLst>
                            <p:childTnLst>
                              <p:par>
                                <p:cTn id="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7000"/>
                            </p:stCondLst>
                            <p:childTnLst>
                              <p:par>
                                <p:cTn id="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3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3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133360" y="837720"/>
            <a:ext cx="65530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ff"/>
                </a:solidFill>
                <a:latin typeface="Arial"/>
              </a:rPr>
              <a:t>Два метал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золот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еребр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cc"/>
                </a:solidFill>
                <a:latin typeface="Arial"/>
              </a:rPr>
              <a:t>Пять цветных финифтей (эмале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рас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олуб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еле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урп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ер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геральдике допускаются и натуральные цв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cc"/>
                </a:solidFill>
                <a:latin typeface="Arial"/>
              </a:rPr>
              <a:t>Применяют два меха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орностаев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елич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1870200" cy="5715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2286000" y="152280"/>
            <a:ext cx="52578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Цветовая гамм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590920" y="914400"/>
            <a:ext cx="5638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ля этого существуют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" dur="2000" fill="hold"/>
                                        <p:tgtEl>
                                          <p:spTgt spid="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1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20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20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20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2000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2000"/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2000"/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1000"/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1000"/>
                                        <p:tgtEl>
                                          <p:spTgt spid="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1000"/>
                                        <p:tgtEl>
                                          <p:spTgt spid="5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0066"/>
                </a:solidFill>
                <a:latin typeface="Georgia"/>
              </a:rPr>
              <a:t>Геральдическ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Georgia"/>
              </a:rPr>
              <a:t>(около двухсот вид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Глава щи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Оконечн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Стол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Поя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Перевяз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Стропил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419720" y="2590920"/>
            <a:ext cx="733320" cy="952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5257800" y="3048120"/>
            <a:ext cx="723960" cy="9525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6095880" y="3505320"/>
            <a:ext cx="723960" cy="952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6934320" y="4343400"/>
            <a:ext cx="733320" cy="952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7315200" y="5410080"/>
            <a:ext cx="1619280" cy="952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2362320" y="380880"/>
            <a:ext cx="4038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993366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Фигуры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993366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0948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66"/>
                </a:solidFill>
                <a:latin typeface="Georgia"/>
              </a:rPr>
              <a:t>Негеральдическ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Georgia"/>
              </a:rPr>
              <a:t>Естественные 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(изображения живых существ, небесных светил и стихи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Georgia"/>
              </a:rPr>
              <a:t>Искусственные</a:t>
            </a:r>
            <a:r>
              <a:rPr b="1" lang="en-US" sz="3200" spc="-1" strike="noStrike">
                <a:solidFill>
                  <a:srgbClr val="6600cc"/>
                </a:solidFill>
                <a:latin typeface="Georgi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( изображения самых различных предметов, созданных человеко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Georgia"/>
              </a:rPr>
              <a:t>Легендарные</a:t>
            </a:r>
            <a:r>
              <a:rPr b="1" lang="en-US" sz="3200" spc="-1" strike="noStrike">
                <a:solidFill>
                  <a:srgbClr val="6600cc"/>
                </a:solidFill>
                <a:latin typeface="Georgi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( изображения существ, не имеющихся в природ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620120" y="304920"/>
            <a:ext cx="1276200" cy="1600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7635960" y="5105520"/>
            <a:ext cx="1280880" cy="1600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52280" y="228600"/>
            <a:ext cx="1044720" cy="1219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52280" y="5486400"/>
            <a:ext cx="9144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Шлем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часто помещавшийся над щитом, в основном был двух видов — округлой формы (западноевропейский) и остроконечной (русский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Корона</a:t>
            </a:r>
            <a:r>
              <a:rPr b="0" lang="en-US" sz="32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огла помещаться как над шлемом, так и под ним. Иногда она заменяла собой шл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Нашлемник</a:t>
            </a:r>
            <a:r>
              <a:rPr b="0" lang="en-US" sz="32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едставлял собой фигуру (как правило, изображение животного), выходящую сверху из шлема или коро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Мант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архатное полотнище, выходящее из-под короны и подложенное мехом горноста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Щитодержатели</a:t>
            </a:r>
            <a:r>
              <a:rPr b="0" lang="en-US" sz="32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это естественные или легендарные фигуры, поддерживающие щит с боковых сторон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Девиз</a:t>
            </a:r>
            <a:r>
              <a:rPr b="0" lang="en-US" sz="32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это краткое изречение (часто на латинском языке), характеризующее определенные принципы жизни, поведения, убеждения и     т. п. владельца герб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1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6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05-01-01T00:13:3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