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16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5BA-1441-498A-8A87-2573D785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21FA-5F8F-4992-B55E-AD97CBF8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27D-0C9B-4361-82EA-4917A0E7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DD52-DD14-491B-BA14-8556F767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F44-27B1-4020-9B64-1EBE3F3E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B05-E6C5-44AC-A329-46D2D1CD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327-5633-4CD8-8F36-3182D7F6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A67C-ADB4-4747-9AFA-1A3898DA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5A39-0834-4557-8183-D959B00D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44A-87A8-4159-95A4-BC3457B6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C51F-7FF2-42DA-8B33-8003E0A5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D864-D140-47F5-8706-59370468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2EF4-2382-49FC-825E-7861781FB2E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559000">
            <a:off x="350640" y="1809360"/>
            <a:ext cx="7772400" cy="18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46c0a"/>
                </a:solidFill>
                <a:latin typeface="Calibri"/>
              </a:rPr>
              <a:t>Боевой путь генерала</a:t>
            </a:r>
            <a:br>
              <a:rPr sz="6000"/>
            </a:br>
            <a:r>
              <a:rPr b="1" lang="ru-RU" sz="6000" spc="-1" strike="noStrike">
                <a:solidFill>
                  <a:srgbClr val="e46c0a"/>
                </a:solidFill>
                <a:latin typeface="Calibri"/>
              </a:rPr>
              <a:t> В.Г. Рязанова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 rot="20577000">
            <a:off x="2598840" y="410796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Выполнил: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Ученик 6 класса Б МОУ СОШ №12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Русаков Роман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Научный руководитель: Новгородцева А.В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2" descr="C:\Program Files\Microsoft Office\MEDIA\CAGCAT10\j0233070.wmf"/>
          <p:cNvPicPr/>
          <p:nvPr/>
        </p:nvPicPr>
        <p:blipFill>
          <a:blip r:embed="rId2"/>
          <a:stretch/>
        </p:blipFill>
        <p:spPr>
          <a:xfrm>
            <a:off x="0" y="260280"/>
            <a:ext cx="2962440" cy="14842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ооп.jpg"/>
          <p:cNvPicPr/>
          <p:nvPr/>
        </p:nvPicPr>
        <p:blipFill>
          <a:blip r:embed="rId3"/>
          <a:stretch/>
        </p:blipFill>
        <p:spPr>
          <a:xfrm>
            <a:off x="0" y="4397400"/>
            <a:ext cx="19080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1-й шак. На Калининском фронт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196640"/>
            <a:ext cx="8424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вой боевой путь 1-й штурмовой авиакорпус начал в октябре 1942 года на Калининском фронт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 разместившись в лесисто-болотистом районе неподалеку от Андреаполя. Все ждали направления под Сталинград. Но Калининский фронт отвлекал силы неприятеля от Сталинградского направления. Да и подступы к Москве, на которую могло последовать новое вражеское наступление, надо было защищать. Штаб корпуса располагался в небольшой деревне Роженка около города Андреаполя. Все самолеты перелетели в район Андреаполя без поломок и аварий. 292-й штурмовой авиадивизии под командованием Н.П. Каманина поставили задачу вести боевую работу по заданиям командующего 41-й армии. Слабым местом были тылы наземных войск и авиации: мало горючего, в обрез боеприпасов, туговато с продовольствием. В этот период готовилось наступление под Великими Луками, которое должна была поддерживать 3-я воздушная армия под командованием генерал-полковника авиации М.М. Громова, в которую входил 1-й ШАК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енняя слякоть еще более ухудшила дороги и полевые аэродромы этого трудного театра военных действий. Несмотря на скверную погоду, снежную пургу и низкую облачность, лётчики В.Г. Рязанова поддержали наступление войск Калининского фронта, помогли прорвать сильно укрепленную оборону противника и нанести ему крупное поражение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179280" y="18900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асти корпуса участвовали в Старо-Русской операции, с 15 по 23 февраля 1943 г. во взаимодействии с 53-й и 1-й ударной армиями участвовали в ликвидации Демьянской группировки противника. Наши войска создали "Демьянский котел", окружив значительные силы противника. Немцы, понеся большие потери, смогли выйти из окружения. 21 февраля 1943 г наши войска заняли город Демьянс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4356000" y="2852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Демянской операции командиром корпуса генералом В.Г. Рязановым была впервые применена разработанная им система управления штурмовой авиацией на поле боя. При ликвидации Демянского плацдарма свой командный пункт - КП В.Г. Рязанов организовал на переднем кра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Рисунок 6" descr="07t.jpg"/>
          <p:cNvPicPr/>
          <p:nvPr/>
        </p:nvPicPr>
        <p:blipFill>
          <a:blip r:embed="rId1"/>
          <a:stretch/>
        </p:blipFill>
        <p:spPr>
          <a:xfrm>
            <a:off x="1116000" y="2997360"/>
            <a:ext cx="1584360" cy="20224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7"/>
          <p:cNvSpPr/>
          <p:nvPr/>
        </p:nvSpPr>
        <p:spPr>
          <a:xfrm>
            <a:off x="324000" y="5041800"/>
            <a:ext cx="343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alibri"/>
              </a:rPr>
              <a:t>На снимке Рязанов на Северо-Западном фронте в январе 1943-го года. На нем новые погоны, только что, 6 января, введенные указом Президиума Верховного Совета для личного состава армии. Для личного состава военно-морского флота погоны были введены указом от 15 февраля 1943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Рисунок 9" descr="09t.jpg"/>
          <p:cNvPicPr/>
          <p:nvPr/>
        </p:nvPicPr>
        <p:blipFill>
          <a:blip r:embed="rId2"/>
          <a:stretch/>
        </p:blipFill>
        <p:spPr>
          <a:xfrm>
            <a:off x="4788000" y="189000"/>
            <a:ext cx="403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 Курской дуг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692000" y="1916280"/>
            <a:ext cx="6994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марте 1943 года 1-й ШАК перебазировали под Белгород. В июне 1943 года в состав корпуса В.Г. Рязанова вошла 203-я истребительная авиационная дивизия. Это количественное расширение корпуса дало качественные результаты во взаимодействии истребителей и штурмовиков и прикрытии штурмовиков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перация по уничтожению немецких самолетов на аэродромах была назначена на 6 мая 1943 г. Время первого массированного удара по аэродромам для всех воздушных армий фронтов определялось с 4.30 до 5.00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результате бомбоштурмовых ударов 2-я воздушная армия уничтожила и повредила до 50 немецких самолетов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Рисунок 3" descr="08t.jpg"/>
          <p:cNvPicPr/>
          <p:nvPr/>
        </p:nvPicPr>
        <p:blipFill>
          <a:blip r:embed="rId1"/>
          <a:stretch/>
        </p:blipFill>
        <p:spPr>
          <a:xfrm>
            <a:off x="0" y="0"/>
            <a:ext cx="1835280" cy="2205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4"/>
          <p:cNvSpPr/>
          <p:nvPr/>
        </p:nvSpPr>
        <p:spPr>
          <a:xfrm>
            <a:off x="0" y="242100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Calibri"/>
              </a:rPr>
              <a:t>На фото Рязанов перед сражением под Курс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0" y="189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газете «Красная звезда», 24 мая 1945 года В.Г. Рязанов писа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«Достоинством массированных ударов штурмовой авиации является максимальная концентрация огня по ограниченному количеству объектов. Этим достигается не только материальное поражение, но и сильное моральное потрясение войск противник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179280" y="299736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 Курской битвы началась дружба Рязанова с танкистами, продлившаяся до конца войны и оказавшаяся очень плодотворной для успехов нашего оружия. Штурмовики, уничтожавшие танки врага, получали советы от танковых специалистов, как с ними лучше бороться, как уберечься от танковых пулеметов. Штурмовики, в свою очередь, учили танкистов, как лучше прикрыться от ударов с воздуха. Но главным, конечно, был их объединенный неудержимый атакующий напор и прикрытие танков с воздух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4967280" y="4272120"/>
            <a:ext cx="41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За отличное руководство боевыми частями Военный совет Воронежского фронта вынес благодарность генерал-лейтенанту В.Г. Рязанову и всему личному составу авиационного корпуса, участвовавшему в разгроме наступавших бронетанковых сил против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Рисунок 5" descr="ррпа.jpg"/>
          <p:cNvPicPr/>
          <p:nvPr/>
        </p:nvPicPr>
        <p:blipFill>
          <a:blip r:embed="rId1"/>
          <a:stretch/>
        </p:blipFill>
        <p:spPr>
          <a:xfrm>
            <a:off x="5148360" y="18900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частие В.Г. Рязанова в других сражениях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i="1" lang="ru-RU" sz="1600" spc="-1" strike="noStrike">
                <a:solidFill>
                  <a:srgbClr val="002060"/>
                </a:solidFill>
                <a:latin typeface="Calibri"/>
              </a:rPr>
              <a:t>В.Г.Рязанов участвовал в освобождении: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Левобережной Украины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в форсировании Днепра,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В Львовско-Сандомирской, Висло-Одерской, Берлинской операциях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В битве под Прагой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где проявил себя храбрым генералом, в нём удивительным образом сочетались беззаветное мужество,  с железной самодисциплиной и требованиями строжайшего порядка от подчиненных. При всей преданности делу, которому он посвятил жизнь, он трезво воспринимал действительность, реально оценивая силы и факторы, решающие в какой-то ситуации. Неожиданные импульсные порывы естественно сочетались у него с глубоким анализом. Так, он мог очень резко отругать кого-то из провинившихся. Но почти всегда следом за уничтожающим разносом следовал разбор ошибки, совет, как исправить ее и как поступить в дальнейшем. Василий Георгиевич учил не отчаиваться, даже если с тобой поступают несправедливо или оговаривают, "Главное - мерить все в соответствии со своей совестью, Поступать так, как велят тебе долг и совесть", - слова Рязанова. Людей Рязанов оценивал по их делам и в зависимости от этого дорожил человеком или ругал его. И его самого или ненавидели или любили. Он был горячим, но отходчивым, не уделял внимания мелкому, суетному. Отделив главное, существенное и необходимое от незначительного, он совершенно спокойно почти не реагировал на то, что не было важным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Рисунок 3" descr="07t.jpg"/>
          <p:cNvPicPr/>
          <p:nvPr/>
        </p:nvPicPr>
        <p:blipFill>
          <a:blip r:embed="rId1"/>
          <a:stretch/>
        </p:blipFill>
        <p:spPr>
          <a:xfrm>
            <a:off x="7524720" y="1052640"/>
            <a:ext cx="1368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Жизнь после войн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пряженно и интенсивно трудился Василий Георгиевич всю свою жизнь. После войны ему довелось прожить 6 лет и 2 месяца. Но и это время оказалось заполнено трудами, хотя уже дважды Герой, мог бы расслабиться и отдохнуть. Но время снова изменилось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ервное напряжение, в котором все пребывали в военное время, сразу не отпускало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Рисунок 3" descr="24t.jpg"/>
          <p:cNvPicPr/>
          <p:nvPr/>
        </p:nvPicPr>
        <p:blipFill>
          <a:blip r:embed="rId1"/>
          <a:stretch/>
        </p:blipFill>
        <p:spPr>
          <a:xfrm>
            <a:off x="179280" y="189000"/>
            <a:ext cx="1368360" cy="1458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26t.jpg"/>
          <p:cNvPicPr/>
          <p:nvPr/>
        </p:nvPicPr>
        <p:blipFill>
          <a:blip r:embed="rId2"/>
          <a:stretch/>
        </p:blipFill>
        <p:spPr>
          <a:xfrm rot="20567400">
            <a:off x="5603760" y="4066920"/>
            <a:ext cx="3240360" cy="25207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23t.jpg"/>
          <p:cNvPicPr/>
          <p:nvPr/>
        </p:nvPicPr>
        <p:blipFill>
          <a:blip r:embed="rId3"/>
          <a:stretch/>
        </p:blipFill>
        <p:spPr>
          <a:xfrm rot="20551800">
            <a:off x="2673360" y="3772080"/>
            <a:ext cx="3672000" cy="2786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www.allaces.ru/sssr/publ/ryazanov/28.jpg"/>
          <p:cNvPicPr/>
          <p:nvPr/>
        </p:nvPicPr>
        <p:blipFill>
          <a:blip r:embed="rId4"/>
          <a:stretch/>
        </p:blipFill>
        <p:spPr>
          <a:xfrm rot="20443200">
            <a:off x="610920" y="4436640"/>
            <a:ext cx="138564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Наград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едаль «Золотая Звезда» Героя Советского Союза № 1467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едаль «Золотая Звезда» Героя Советского Союза № 481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 ордена Ленин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 ордена Красного Знамен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рден Богдана Хмельницкого I-й степен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рден Суворова II-й степен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рден Красной Звезд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ветские медали и иностранные орден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Рисунок 3" descr="gold_star.jpg"/>
          <p:cNvPicPr/>
          <p:nvPr/>
        </p:nvPicPr>
        <p:blipFill>
          <a:blip r:embed="rId1"/>
          <a:stretch/>
        </p:blipFill>
        <p:spPr>
          <a:xfrm>
            <a:off x="108000" y="1773360"/>
            <a:ext cx="728640" cy="13636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2477_1.gif"/>
          <p:cNvPicPr/>
          <p:nvPr/>
        </p:nvPicPr>
        <p:blipFill>
          <a:blip r:embed="rId2"/>
          <a:stretch/>
        </p:blipFill>
        <p:spPr>
          <a:xfrm>
            <a:off x="3780000" y="3068640"/>
            <a:ext cx="668160" cy="11127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2476_1.jpg"/>
          <p:cNvPicPr/>
          <p:nvPr/>
        </p:nvPicPr>
        <p:blipFill>
          <a:blip r:embed="rId3"/>
          <a:stretch/>
        </p:blipFill>
        <p:spPr>
          <a:xfrm>
            <a:off x="5219640" y="3500280"/>
            <a:ext cx="720720" cy="10810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hmel-1.jpg"/>
          <p:cNvPicPr/>
          <p:nvPr/>
        </p:nvPicPr>
        <p:blipFill>
          <a:blip r:embed="rId4"/>
          <a:stretch/>
        </p:blipFill>
        <p:spPr>
          <a:xfrm>
            <a:off x="7236000" y="4292640"/>
            <a:ext cx="720720" cy="11224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suvorov-2_kolodka_a.jpg"/>
          <p:cNvPicPr/>
          <p:nvPr/>
        </p:nvPicPr>
        <p:blipFill>
          <a:blip r:embed="rId5"/>
          <a:stretch/>
        </p:blipFill>
        <p:spPr>
          <a:xfrm>
            <a:off x="179280" y="4869000"/>
            <a:ext cx="611280" cy="9046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RedStar.jpg"/>
          <p:cNvPicPr/>
          <p:nvPr/>
        </p:nvPicPr>
        <p:blipFill>
          <a:blip r:embed="rId6"/>
          <a:stretch/>
        </p:blipFill>
        <p:spPr>
          <a:xfrm>
            <a:off x="4427640" y="5445000"/>
            <a:ext cx="576000" cy="7984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9" descr="193.jpg"/>
          <p:cNvPicPr/>
          <p:nvPr/>
        </p:nvPicPr>
        <p:blipFill>
          <a:blip r:embed="rId7"/>
          <a:stretch/>
        </p:blipFill>
        <p:spPr>
          <a:xfrm>
            <a:off x="7308720" y="5780160"/>
            <a:ext cx="79236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чало войн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вышение в должност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-й шак. На Калининском фронт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 курской дуг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частие В.Г. Рязанова в других сражениях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Жизнь после войн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град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Рисунок 3" descr="baby_with_bagpipes.gif"/>
          <p:cNvPicPr/>
          <p:nvPr/>
        </p:nvPicPr>
        <p:blipFill>
          <a:blip r:embed="rId1"/>
          <a:stretch/>
        </p:blipFill>
        <p:spPr>
          <a:xfrm>
            <a:off x="539640" y="18900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чало войн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196640"/>
            <a:ext cx="8424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Рязанов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в первый же день войны 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написал заявление с просьбой отправить его на фронт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действующую армию, и уже с 27.06.41 он заместитель командующего ВВС 5-й армии юго-западного фронта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Основные задачи, которые решала авиац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состояли в нанесении бомбовых ударов по мотомехчастям противника и в прикрытии войск. До 5 июля авиация наносила удары по противнику, наступающему на житомирском направлении, и по противнику, наступающему на тернопольском направлении. С 6 по 10 июля она переключает свое внимание на группировку сил XXXXVIII моторизованного корпуса, действующего в прорыве на участке Новоград-Волынский — Шепетовка. Наконец, 10 июля вся авиация бросается на борьбу с частями III моторизованного армейского корпуса, прорвавшегося на киевском направлении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Но, несмотря на самоотверженность и мужество наших летчиков, 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немецкая авиация завоевала господство в воздухе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что существенно влияло и на ход боевых действий. Воспоминания участников этих боев пестрят жалобами на постоянную угрозу со стороны немецких летчиков. Сказывалось и отсутствие радиосвязи в управлении нашей авиацией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Рязанову 40 лет, возраст силы и мужества. </a:t>
            </a:r>
            <a:r>
              <a:rPr b="0" lang="ru-RU" sz="1600" spc="-1" strike="noStrike">
                <a:solidFill>
                  <a:srgbClr val="f2f2f2"/>
                </a:solidFill>
                <a:latin typeface="Calibri"/>
              </a:rPr>
              <a:t>Он, как и немецкие асы, тоже уверен в своих силах. Но прямолинейный стандартный удар, как видно, не проходит. Надо искать нестандартные подходы, отходить от шаблонов, думать, творить в зависимости от складывающейся сиюминутной обстановки. Нужен был и даже был необходим анализ происходящего. Нельзя воевать вслепую, безрассудно. 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Издается следующий приказ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3" descr="imagesCANUDFBX.jpg"/>
          <p:cNvPicPr/>
          <p:nvPr/>
        </p:nvPicPr>
        <p:blipFill>
          <a:blip r:embed="rId1"/>
          <a:stretch/>
        </p:blipFill>
        <p:spPr>
          <a:xfrm>
            <a:off x="179280" y="0"/>
            <a:ext cx="223200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971640" y="413280"/>
            <a:ext cx="705636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СЕКРЕТНО                                                                                      Экз. №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                                               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ПРИКАЗ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                             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ВОЕННО-ВОЗДУШНЫМ СИЛАМ ЮГО-ЗАПАДНОГО ФРОНТ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1 августа 41 г.                                   №8                                              м. Бровары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                                                 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§1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   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С целью выявления, изучения и быстрейшего использования опыта текущей воздушной войны частями ВВС фронта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                                            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ПРИКАЗЫВАЮ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   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Полковнику Рязанову Василию Георгиевичу непосредственно на месте в частях и соединениях ВВС фронта, путем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опроса отдельных командиров, летчиков и экипажей, а также используя имеющиеся документы, собирать и изучать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опыт боевых действий ВВС фронт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   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Материал должен отражать тактику ВВС, как нашу, так и противника, какие тактические приемы вырабатываются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где слабые места у противника, а также недочеты и упущения в наших действиях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   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Особое внимание уделять элементам военной хитрост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   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По мере накопления материала, периодически докладывать мне выводы и предложения по использованию опыта 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новых тактических приемов во всех частях ВВС фронт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                                                 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§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   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На полковника Рязанова В.Г. возложить проверку боеспособности и обеспеченности для боевой работы частей 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соединений ВВС фронта, с ежедневным докладом мн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                                                 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§3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   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В помощь полковнику Рязанову В.Г. для вышеуказанных работ выделить майора Левенберг Илью Александрович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Командующий ВВС ЮЗФ                                                                  Военный комиссар ВВС ЮЗ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Генерал-лейтенант авиации                                                            дивизионный комиссар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  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(Астахов)                                                                              (Гальцев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                                        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Начальник штаба ВВС ЮЗ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                                        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Генерал-майор авиаци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                                                  </a:t>
            </a:r>
            <a:r>
              <a:rPr b="0" i="1" lang="ru-RU" sz="1000" spc="-1" strike="noStrike">
                <a:solidFill>
                  <a:srgbClr val="0d0d0d"/>
                </a:solidFill>
                <a:latin typeface="Courier New"/>
                <a:ea typeface="Times New Roman"/>
              </a:rPr>
              <a:t>(Шкурин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 результате этого приказа, от Рязанова последовал ряд рекомендаций, которым сам Рязанов строго следовал до конца войны:</a:t>
            </a: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84000" y="1773000"/>
            <a:ext cx="64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ежде всего, отмечалось слабое использование радиосвязи.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Отмечалась также слабая работа штабов.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Базовые аэродромы удалены от линии фронта.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остоянные личные контакты командиров авиационных соединений с командирами общевойсковых соединений отсутствуют.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Слабо используется обстановка для маскировки и для маневра при заходе на цель, бомбы для поражения цели выбираются без достаточного учета объекта удара и цели действий.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и атаке противника часто повторяются одни и те же стандартные приемы. Необходимо разнообразить способы атаки противника, не повторять их, изменять маршруты следования к цели и обратно, менять высоты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умело втягивается в боевые действия молодой летный состав. Им не передается в достаточной мере опыт летчиков, имеющих большое количество боевых вылетов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Рисунок 7" descr="12t.jpg"/>
          <p:cNvPicPr/>
          <p:nvPr/>
        </p:nvPicPr>
        <p:blipFill>
          <a:blip r:embed="rId1"/>
          <a:stretch/>
        </p:blipFill>
        <p:spPr>
          <a:xfrm>
            <a:off x="324000" y="1052640"/>
            <a:ext cx="21603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Повышение в должнос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5554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0 марта 1942 года Рязанов был назначен командующим маневренной группой ВВС фронта. В группу входили 6-й иап, 10 гв. бап, 52 бап, 186 иап, 285 иап, 512 иап, 273 иап, 243 шап, 619 шап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есной, в марте сорок второго он на несколько дней прилетал на родину в Большое Козино. Очевидцы вспоминают, как его самолет, польская авиетка на лыжах, садился на поле за прудом, и мальчишки, сломя голову, бежали к нему, потом привязывали машину к каким-то корягам, заборам, и чуть ли не дрались с мужиками за право охранять ее. Среди мальчишек бежал и его сын Гора. Когда самолет остановился на земле, летчик вышел из него, широко улыбаясь, он показался очевидцам былинным богатырем, орлом, спустившимся с небес. Сейчас уже почти никого не осталось из этих бывших мальчишек. Но этот образ, как и другие, созданные его друзьями, сослуживцами, подчиненными и командирами, любящими его женщинами, витает где-то в астральных мирах, вдохновляя на новые подвиги уже других мальчишек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Рисунок 3" descr="imagesCA8NZUZB.jpg"/>
          <p:cNvPicPr/>
          <p:nvPr/>
        </p:nvPicPr>
        <p:blipFill>
          <a:blip r:embed="rId1"/>
          <a:stretch/>
        </p:blipFill>
        <p:spPr>
          <a:xfrm>
            <a:off x="6084720" y="4653000"/>
            <a:ext cx="3059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324000" y="260280"/>
            <a:ext cx="7993080" cy="69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22 марта 1942 года Рязанову было присвоено звание генерал-майор авиации. Сохранился оригинал телеграммы от 28.03.4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«Полковнику Рязанову. Вручить немедленно. Горячо поздравляем с присвоением военного звания генерал-майор авиации. Глубоко верим и убеждены, что свои знания, приобретенный боевой опыт, свою неиссякаемую энергию вы отдадите полностью для достижения нашей священной цели – разгрома германского фашизма, великому делу вооруженной защиты нашей матери Родины. От всего сердца желаем Вам и Вашим боевым частям новых успехов. Фалалеев, Брагин, Шкурин»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торое (и последнее для него) генеральское звание генерал-лейтенант он получил 17 февраля 1943 года. Сохранилось несколько газетных заметок мая 1942 года, описывающих подвиги летчиков, где отмечается: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«...особенно отличились летчики, которыми командуют тт. Рязанов и Борисенко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а в одной: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«...особенно отличились летчики, которыми командуют т. Рязанов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Рисунок 5" descr="50px-Russian_police_major_general.png"/>
          <p:cNvPicPr/>
          <p:nvPr/>
        </p:nvPicPr>
        <p:blipFill>
          <a:blip r:embed="rId1"/>
          <a:stretch/>
        </p:blipFill>
        <p:spPr>
          <a:xfrm>
            <a:off x="8317080" y="836640"/>
            <a:ext cx="6346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611280" y="260280"/>
            <a:ext cx="655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аневренную авиационную группу Юго-Западного направления под командованием Рязанова преобразовали в 268-ю истребительную авиационную дивизию, вошедшую в состав 8-й воздушной арм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 У Рязанова, участника Сталинградской битвы, есть медаль «За оборону Сталинграда», но командовал 268-й истребительной авиационной дивизией он недол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скоре В.Г. Рязанова отозвали с фронта в Москву. Его принял командующий Военно-воздушными силами и заместитель наркома обороны генерал-лейтенант авиации А.А. Нов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н объяснил В.Г. Рязанову причину вызова: принято решение о создании воздушных и авиационных армий и однородных авиационных дивизий и армий вместо существовавших до этого Военно-воздушных сил фронтов.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.Г. Рязанов с 1 июля 1942 года был назначен командующим 2-й истребительной авиационной армией и немедленно приступил к ее формированию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Рисунок 2" descr="imagesCAR3FXSN.jpg"/>
          <p:cNvPicPr/>
          <p:nvPr/>
        </p:nvPicPr>
        <p:blipFill>
          <a:blip r:embed="rId1"/>
          <a:stretch/>
        </p:blipFill>
        <p:spPr>
          <a:xfrm>
            <a:off x="7093080" y="944640"/>
            <a:ext cx="2050920" cy="2025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94346.jpg"/>
          <p:cNvPicPr/>
          <p:nvPr/>
        </p:nvPicPr>
        <p:blipFill>
          <a:blip r:embed="rId2"/>
          <a:stretch/>
        </p:blipFill>
        <p:spPr>
          <a:xfrm>
            <a:off x="2987640" y="4797360"/>
            <a:ext cx="2332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539640" y="476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полнить до конца приказ о формировании 2-й истребительной авиационной армии В.Г. Рязанов не успел. В соответствии с приказом НКО СССР от 1 июля 1942 г. намечалось формирование двух истребительных авиационных арм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4356000" y="227664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10 сентября 1942 года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.Г. Рязанову поручили сформировать и возглавить 1-й штурмовой авиационный корпус. Авиационными корпусами резерва Верховного Главнокомандования при необходимости могли усиливаться воздушные армии в важнейших операциях. Создание авиационных корпусов позволило улучшить маневренность воздушных сил и облегчить руководство частями при проведении локальных опера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Рисунок 3" descr="16t.jpg"/>
          <p:cNvPicPr/>
          <p:nvPr/>
        </p:nvPicPr>
        <p:blipFill>
          <a:blip r:embed="rId1"/>
          <a:stretch/>
        </p:blipFill>
        <p:spPr>
          <a:xfrm>
            <a:off x="5435640" y="189000"/>
            <a:ext cx="2881440" cy="21319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imagesCANUDFBX.jpg"/>
          <p:cNvPicPr/>
          <p:nvPr/>
        </p:nvPicPr>
        <p:blipFill>
          <a:blip r:embed="rId2"/>
          <a:stretch/>
        </p:blipFill>
        <p:spPr>
          <a:xfrm>
            <a:off x="395280" y="2997360"/>
            <a:ext cx="3745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6:01:13Z</dcterms:created>
  <dc:creator>User</dc:creator>
  <dc:description/>
  <dc:language>en-US</dc:language>
  <cp:lastModifiedBy>UserXP</cp:lastModifiedBy>
  <dcterms:modified xsi:type="dcterms:W3CDTF">2012-02-21T15:06:56Z</dcterms:modified>
  <cp:revision>25</cp:revision>
  <dc:subject/>
  <dc:title>Боевой путь генерала  В.Г. Рязанова</dc:title>
</cp:coreProperties>
</file>