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B9C-465E-455A-94D7-4E898C5C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A84-298E-48F4-8833-8C7989A6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241-6717-4AC0-BB7E-BCE55356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3FF-6C3B-41E5-B2B4-9EF976AE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F9F-BA83-4CB2-9F5E-5BADAA57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87F-704B-49CE-A8EB-810C87F4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C9E-E77A-4F8F-AE60-4F87FD78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846-8254-4B93-A415-CEA0DB7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F8B-2BF1-4E16-80F2-14F1F3F4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B33-9522-43E9-B894-BA607274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C9E-2DEF-472C-9F1F-7EA3A7F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2E2-EA50-4372-9989-82F0149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4754-AA25-4E82-879F-35660FC9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19/636/19636042_1204725540_lazarenko_vt_vesn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seng.org/uploads/posts/2009-04/1239210731_oli_004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nevsedoma.com.ua/images/2008/36/3/vesna_25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livejournal.com/prorog/pic/0001axt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etherway.ru/uploads/monthly_06_2008/post-15382-1213203458_thum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amonitore.ru/uploads/catalog/bears/buriy_i_trezviy_medved_60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ms.24open.ru/images/190429d6a17b9c955d0f807e993fc38b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ur-nature.ucoz.ru/_fr/0/5322027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5.photosight.ru/2b4/2823975_larg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okrug.tv/pic/product/8/8/1/5/medium_8815b733590109155bed71d342d9a944.jpe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05957767/post-40296-1206092786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4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3333ff"/>
                </a:solidFill>
                <a:latin typeface="Monotype Corsiva"/>
              </a:rPr>
              <a:t>СОРОК СОРОКО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14 из 808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5 из 808"/>
          <p:cNvPicPr/>
          <p:nvPr/>
        </p:nvPicPr>
        <p:blipFill>
          <a:blip r:embed="rId2"/>
          <a:stretch/>
        </p:blipFill>
        <p:spPr>
          <a:xfrm>
            <a:off x="3879720" y="0"/>
            <a:ext cx="526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36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74 из 96000"/>
          <p:cNvPicPr/>
          <p:nvPr/>
        </p:nvPicPr>
        <p:blipFill>
          <a:blip r:embed="rId5"/>
          <a:stretch/>
        </p:blipFill>
        <p:spPr>
          <a:xfrm>
            <a:off x="0" y="0"/>
            <a:ext cx="4716360" cy="3481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123 из 96000"/>
          <p:cNvPicPr/>
          <p:nvPr/>
        </p:nvPicPr>
        <p:blipFill>
          <a:blip r:embed="rId6"/>
          <a:stretch/>
        </p:blipFill>
        <p:spPr>
          <a:xfrm>
            <a:off x="4427640" y="3513240"/>
            <a:ext cx="47163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60 из 8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0"/>
            <a:ext cx="632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1 из 3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7236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-main-pic" descr="Картинка 2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1 из 473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0"/>
            <a:ext cx="7020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2 из 312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9600"/>
            <a:ext cx="73803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main-pic" descr="Картинка 8 из 35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727236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2 из 343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6 из 881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0:06:10Z</dcterms:created>
  <dc:creator>Секретарь</dc:creator>
  <dc:description/>
  <dc:language>en-US</dc:language>
  <cp:lastModifiedBy>Секретарь</cp:lastModifiedBy>
  <dcterms:modified xsi:type="dcterms:W3CDTF">2011-04-19T00:38:35Z</dcterms:modified>
  <cp:revision>3</cp:revision>
  <dc:subject/>
  <dc:title>Слайд 1</dc:title>
</cp:coreProperties>
</file>