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9C0-1F1E-49AB-9009-8B8090A9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EC1-C03F-4794-925B-F6B0A829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901-50F3-4431-8A48-C227AD6A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0C6-55D0-4DD7-9057-D2D34A3F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6FD-326E-4086-9170-14FA6230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DF6-ECF7-4E77-A5AD-1BD1A866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C66-5791-498A-918A-932C490E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12D-3F19-4599-8761-AA85A7C1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69F-E507-4A94-A0FA-D7C6D42C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1AE-34E0-496E-8F6A-BFE15398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72A-BD9F-4C41-984C-D50D8AD0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397-4CC8-4792-8B8D-A47054A4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0C91-9910-4953-9842-CAE09CAC3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одержимое 2"/>
          <p:cNvSpPr/>
          <p:nvPr/>
        </p:nvSpPr>
        <p:spPr>
          <a:xfrm>
            <a:off x="304920" y="121932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Arial"/>
              </a:rPr>
              <a:t>Определение степени с целым отрицательным показател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≠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целое отрицательное число, 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200400" y="3962520"/>
                <a:ext cx="228600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!!!!МОИ работа Т.А\на конкурс Мозаика презентаций\bird21.gif"/>
          <p:cNvPicPr/>
          <p:nvPr/>
        </p:nvPicPr>
        <p:blipFill>
          <a:blip r:embed="rId1"/>
          <a:stretch/>
        </p:blipFill>
        <p:spPr>
          <a:xfrm>
            <a:off x="-25560" y="2057400"/>
            <a:ext cx="1683000" cy="136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F:\!!!!МОИ работа Т.А\на конкурс Мозаика презентаций\bird21.gif"/>
          <p:cNvPicPr/>
          <p:nvPr/>
        </p:nvPicPr>
        <p:blipFill>
          <a:blip r:embed="rId2"/>
          <a:stretch/>
        </p:blipFill>
        <p:spPr>
          <a:xfrm flipH="1">
            <a:off x="6934320" y="2647800"/>
            <a:ext cx="1866960" cy="1543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F:\!!!!МОИ работа Т.А\на конкурс Мозаика презентаций\bird21.gif"/>
          <p:cNvPicPr/>
          <p:nvPr/>
        </p:nvPicPr>
        <p:blipFill>
          <a:blip r:embed="rId3"/>
          <a:stretch/>
        </p:blipFill>
        <p:spPr>
          <a:xfrm>
            <a:off x="3352680" y="-22860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F:\!!!!МОИ работа Т.А\на конкурс Мозаика презентаций\bird21.gif"/>
          <p:cNvPicPr/>
          <p:nvPr/>
        </p:nvPicPr>
        <p:blipFill>
          <a:blip r:embed="rId4"/>
          <a:stretch/>
        </p:blipFill>
        <p:spPr>
          <a:xfrm>
            <a:off x="3657600" y="548640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F:\!!!!МОИ работа Т.А\на конкурс Мозаика презентаций\bird21.gif"/>
          <p:cNvPicPr/>
          <p:nvPr/>
        </p:nvPicPr>
        <p:blipFill>
          <a:blip r:embed="rId5"/>
          <a:stretch/>
        </p:blipFill>
        <p:spPr>
          <a:xfrm>
            <a:off x="4314960" y="-22860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F:\!!!!МОИ работа Т.А\на конкурс Мозаика презентаций\bird21.gif"/>
          <p:cNvPicPr/>
          <p:nvPr/>
        </p:nvPicPr>
        <p:blipFill>
          <a:blip r:embed="rId6"/>
          <a:stretch/>
        </p:blipFill>
        <p:spPr>
          <a:xfrm>
            <a:off x="1828800" y="5541840"/>
            <a:ext cx="1905120" cy="154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:\!!!!МОИ работа Т.А\на конкурс Мозаика презентаций\bird21.gif"/>
          <p:cNvPicPr/>
          <p:nvPr/>
        </p:nvPicPr>
        <p:blipFill>
          <a:blip r:embed="rId7"/>
          <a:stretch/>
        </p:blipFill>
        <p:spPr>
          <a:xfrm>
            <a:off x="-76320" y="304812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F:\!!!!МОИ работа Т.А\на конкурс Мозаика презентаций\bird21.gif"/>
          <p:cNvPicPr/>
          <p:nvPr/>
        </p:nvPicPr>
        <p:blipFill>
          <a:blip r:embed="rId8"/>
          <a:stretch/>
        </p:blipFill>
        <p:spPr>
          <a:xfrm flipH="1">
            <a:off x="7218000" y="1803240"/>
            <a:ext cx="1676520" cy="1543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133720" y="1905120"/>
            <a:ext cx="4738680" cy="17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406 -0.01042 L -8.33333E-007 -1.11111E-006 E">
                                      <p:cBhvr>
                                        <p:cTn id="40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25 -0.09861 L -0.82709 -0.0875 E">
                                      <p:cBhvr>
                                        <p:cTn id="51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5695 L 0.01667 0.90555 E">
                                      <p:cBhvr>
                                        <p:cTn id="62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0.07222 L -0.04584 -0.9125 E">
                                      <p:cBhvr>
                                        <p:cTn id="73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71 -0.07917 C 0.13299 -0.07917 0.33855 0.13472 0.33855 0.39861 C 0.33855 0.6618 0.13299 0.87639 -0.11771 0.87639 C -0.36997 0.87639 -0.57396 0.6618 -0.57396 0.39861 C -0.57396 0.13472 -0.36997 -0.07917 -0.11771 -0.07917 Z">
                                      <p:cBhvr>
                                        <p:cTn id="84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333 0.06412 C 0.44271 0.06412 0.65417 -0.15186 0.65417 -0.41922 C 0.65417 -0.68588 0.44271 -0.90255 0.18333 -0.90255 C -0.07639 -0.90255 -0.2875 -0.68588 -0.2875 -0.41922 C -0.2875 -0.15186 -0.07639 0.06412 0.18333 0.06412 Z">
                                      <p:cBhvr>
                                        <p:cTn id="95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0625 C -0.09583 0.19792 0.00781999999999999 0.40973 0.1342 0.40973 C 0.28316 0.40973 0.33716 0.17431 0.35973 0.03195 L 0.38334 -0.15856 C 0.40643 -0.3 0.46372 -0.53472 0.63195 -0.53472 C 0.73976 -0.53472 0.8625 -0.32384 0.8625 -0.0625 C 0.8625 0.19792 0.73976 0.40973 0.63195 0.40973 C 0.46372 0.40973 0.40643 0.17431 0.38334 0.03195 L 0.35973 -0.15856 C 0.33716 -0.3 0.28316 -0.53472 0.1342 -0.53472 C 0.00781999999999999 -0.53472 -0.09583 -0.32384 -0.09583 -0.0625 Z">
                                      <p:cBhvr>
                                        <p:cTn id="106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22 0.13519 C 0.07222 0.39283 -0.02848 0.60232 -0.15035 0.60232 C -0.2941 0.60232 -0.34636 0.36922 -0.36841 0.22871 L -0.39045 0.04167 C -0.4132 -0.09884 -0.46858 -0.33102 -0.63091 -0.33102 C -0.73542 -0.33102 -0.85278 -0.12222 -0.85278 0.13519 C -0.85278 0.39283 -0.73542 0.60232 -0.63091 0.60232 C -0.46858 0.60232 -0.4132 0.36922 -0.39045 0.22871 L -0.36841 0.04167 C -0.34636 -0.09884 -0.2941 -0.33102 -0.15035 -0.33102 C -0.02848 -0.33102 0.07222 -0.12222 0.07222 0.13519 Z">
                                      <p:cBhvr>
                                        <p:cTn id="117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одержимое 2"/>
          <p:cNvSpPr/>
          <p:nvPr/>
        </p:nvSpPr>
        <p:spPr>
          <a:xfrm>
            <a:off x="304920" y="762120"/>
            <a:ext cx="84582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войство возведения произведения и дроби в степен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Если а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≠ 0, 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b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≠ 0 ,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  <a:ea typeface="Arial"/>
              </a:rPr>
              <a:t> n –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 целое число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(а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ru-RU" sz="66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 =a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 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(a /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b )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 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 = a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 /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Работа на карточках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( с комментирование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 (1/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)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9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1 уров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Упростить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2.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Вычисл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 уров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Упростить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2.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Вычисли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Rectangle 3"/>
              <p:cNvSpPr txBox="1"/>
              <p:nvPr/>
            </p:nvSpPr>
            <p:spPr>
              <a:xfrm>
                <a:off x="3429000" y="2286000"/>
                <a:ext cx="16765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           </a:t>
            </a: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ПОДВЕДЁМ ИТОГ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209680" y="1828800"/>
            <a:ext cx="7467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язательный уров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 214, вопросы 1-6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05 (а,б), № 1008 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вышенный уров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05 (а, б), № 1007 (в,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ворческий уров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математическую шифровку, используя степень с целым отрицательным показ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6"/>
          <p:cNvSpPr txBox="1"/>
          <p:nvPr/>
        </p:nvSpPr>
        <p:spPr>
          <a:xfrm>
            <a:off x="1981080" y="1143000"/>
            <a:ext cx="57150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popurry_102616"/>
          <p:cNvPicPr/>
          <p:nvPr/>
        </p:nvPicPr>
        <p:blipFill>
          <a:blip r:embed="rId1"/>
          <a:stretch/>
        </p:blipFill>
        <p:spPr>
          <a:xfrm>
            <a:off x="1828800" y="4191120"/>
            <a:ext cx="57913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одержимое 2"/>
          <p:cNvSpPr/>
          <p:nvPr/>
        </p:nvSpPr>
        <p:spPr>
          <a:xfrm>
            <a:off x="0" y="0"/>
            <a:ext cx="84582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80000"/>
          </a:bodyPr>
          <a:p>
            <a:pPr marL="211680" indent="-21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Заменить степень с целым показателем дробь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ru-RU" sz="5400" spc="-1" strike="noStrike" baseline="30000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ru-RU" sz="54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=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ru-RU" sz="5400" spc="-1" strike="noStrike" baseline="30000">
                <a:solidFill>
                  <a:srgbClr val="0033cc"/>
                </a:solidFill>
                <a:latin typeface="Times New Roman"/>
              </a:rPr>
              <a:t>-2 </a:t>
            </a:r>
            <a:r>
              <a:rPr b="0" lang="ru-RU" sz="5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а</a:t>
            </a:r>
            <a:r>
              <a:rPr b="1" lang="ru-RU" sz="5400" spc="-1" strike="noStrike" baseline="30000">
                <a:solidFill>
                  <a:srgbClr val="0033cc"/>
                </a:solidFill>
                <a:latin typeface="Times New Roman"/>
              </a:rPr>
              <a:t>-1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ru-RU" sz="5400" spc="-1" strike="noStrike" baseline="30000">
                <a:solidFill>
                  <a:srgbClr val="0033cc"/>
                </a:solidFill>
                <a:latin typeface="Times New Roman"/>
              </a:rPr>
              <a:t>-2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(а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ru-RU" sz="5400" spc="-1" strike="noStrike" baseline="30000">
                <a:solidFill>
                  <a:srgbClr val="0033cc"/>
                </a:solidFill>
                <a:latin typeface="Times New Roman"/>
              </a:rPr>
              <a:t>-3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029200" y="1905120"/>
                <a:ext cx="12762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981080" y="1066680"/>
                <a:ext cx="14065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752480" y="3048120"/>
                <a:ext cx="1160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38280" y="4800600"/>
                <a:ext cx="15256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Rectangle 3"/>
              <p:cNvSpPr txBox="1"/>
              <p:nvPr/>
            </p:nvSpPr>
            <p:spPr>
              <a:xfrm>
                <a:off x="5181480" y="3886200"/>
                <a:ext cx="142092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Содержимое 2"/>
          <p:cNvSpPr/>
          <p:nvPr/>
        </p:nvSpPr>
        <p:spPr>
          <a:xfrm>
            <a:off x="0" y="380880"/>
            <a:ext cx="845820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Представьте выражение в виде степени с отрицательным показателе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62120" y="2209680"/>
                <a:ext cx="124920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09680" y="2209680"/>
                <a:ext cx="1249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86200" y="2209680"/>
                <a:ext cx="12096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410080" y="2286000"/>
                <a:ext cx="11988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83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286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934320" y="2286000"/>
                <a:ext cx="15048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Содержимое 2"/>
          <p:cNvSpPr/>
          <p:nvPr/>
        </p:nvSpPr>
        <p:spPr>
          <a:xfrm>
            <a:off x="304920" y="762120"/>
            <a:ext cx="84582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60000"/>
          </a:bodyPr>
          <a:p>
            <a:pPr marL="158760" indent="-158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Имеет ли смысл выраж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ru-RU" sz="66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0033cc"/>
                </a:solidFill>
                <a:latin typeface="Times New Roman"/>
              </a:rPr>
              <a:t>и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30000">
                <a:solidFill>
                  <a:srgbClr val="0033cc"/>
                </a:solidFill>
                <a:latin typeface="Times New Roman"/>
              </a:rPr>
              <a:t>Ответ: </a:t>
            </a:r>
            <a:r>
              <a:rPr b="1" lang="ru-RU" sz="5400" spc="-1" strike="noStrike" baseline="30000">
                <a:solidFill>
                  <a:srgbClr val="663300"/>
                </a:solidFill>
                <a:latin typeface="Times New Roman"/>
              </a:rPr>
              <a:t>Не имеет смысл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30000">
                <a:solidFill>
                  <a:srgbClr val="663300"/>
                </a:solidFill>
                <a:latin typeface="Times New Roman"/>
              </a:rPr>
              <a:t>так как основание степени с отрицательным показателем должно быть </a:t>
            </a:r>
            <a:r>
              <a:rPr b="1" lang="ru-RU" sz="5400" spc="-1" strike="noStrike" baseline="30000">
                <a:solidFill>
                  <a:srgbClr val="663300"/>
                </a:solidFill>
                <a:latin typeface="Times New Roman"/>
                <a:ea typeface="Times New Roman"/>
              </a:rPr>
              <a:t>≠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Содержимое 2"/>
          <p:cNvSpPr/>
          <p:nvPr/>
        </p:nvSpPr>
        <p:spPr>
          <a:xfrm>
            <a:off x="304920" y="1219320"/>
            <a:ext cx="84582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82000"/>
          </a:bodyPr>
          <a:p>
            <a:pPr marL="217080" indent="-217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Если а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≠ 0, 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  <a:ea typeface="Arial"/>
              </a:rPr>
              <a:t>m, n –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 целые числа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а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ru-RU" sz="66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∙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 =a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m+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ри умножении степеней с одинаковыми основаниями, основание оставляют тем же, а показатели склады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одержимое 2"/>
          <p:cNvSpPr/>
          <p:nvPr/>
        </p:nvSpPr>
        <p:spPr>
          <a:xfrm>
            <a:off x="304920" y="762120"/>
            <a:ext cx="84582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78000"/>
          </a:bodyPr>
          <a:p>
            <a:pPr marL="206640" indent="-206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Если а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≠ 0, 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  <a:ea typeface="Arial"/>
              </a:rPr>
              <a:t>m, n –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 целые числа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а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ru-RU" sz="66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 =a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m</a:t>
            </a:r>
            <a:r>
              <a:rPr b="1" lang="ru-RU" sz="66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ри делении степеней с одинаковыми основаниями, основание оставляют тем же, а из  показателя степени делимого вычитают показатель степени дел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Содержимое 2"/>
          <p:cNvSpPr/>
          <p:nvPr/>
        </p:nvSpPr>
        <p:spPr>
          <a:xfrm>
            <a:off x="304920" y="762120"/>
            <a:ext cx="84582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82000"/>
          </a:bodyPr>
          <a:p>
            <a:pPr marL="217080" indent="-217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Если а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≠ 0, 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  <a:ea typeface="Arial"/>
              </a:rPr>
              <a:t>m, n –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  <a:ea typeface="Arial"/>
              </a:rPr>
              <a:t> целые числа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(а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ru-RU" sz="66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 =a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m</a:t>
            </a:r>
            <a:r>
              <a:rPr b="1" lang="ru-RU" sz="66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∙</a:t>
            </a:r>
            <a:r>
              <a:rPr b="1" lang="en-US" sz="6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ри возведении степени в степень основание оставляют тем же, а показатели степеней перемнож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Вычислительная пау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исать ответ, сопоставить с данными в таблиц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• 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 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• 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• 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 С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171440" cy="142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3733920" y="3276720"/>
          <a:ext cx="4876200" cy="1981080"/>
        </p:xfrm>
        <a:graphic>
          <a:graphicData uri="http://schemas.openxmlformats.org/drawingml/2006/table">
            <a:tbl>
              <a:tblPr/>
              <a:tblGrid>
                <a:gridCol w="812160"/>
                <a:gridCol w="812880"/>
                <a:gridCol w="812880"/>
                <a:gridCol w="812880"/>
                <a:gridCol w="812520"/>
                <a:gridCol w="81288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962520" y="57913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Ответ:        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Найдите ошиб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  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• 27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:10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12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: 2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)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,5ab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3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Rectangle 3"/>
              <p:cNvSpPr txBox="1"/>
              <p:nvPr/>
            </p:nvSpPr>
            <p:spPr>
              <a:xfrm>
                <a:off x="1066680" y="4572000"/>
                <a:ext cx="266724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334120" y="15238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962160" y="1752480"/>
            <a:ext cx="1143000" cy="76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038120" y="1828800"/>
            <a:ext cx="1295640" cy="1752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1-04-28T09:01:54Z</cp:lastPrinted>
  <dcterms:modified xsi:type="dcterms:W3CDTF">2011-12-08T19:20:45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