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44B-FE87-4595-8A4F-7D63563D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097-1634-461F-A726-27E3FE89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980-1A4A-47E4-A0EB-BAF00488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0CB-0E9F-493E-89A8-F56C505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4ABA-CA58-45F0-AB6B-3E82CD76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ACEC-60FA-4191-8F9B-C520E7E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664D-5FF3-41AD-A26C-FE3B0096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084E-70BC-41C9-AB22-84B1B708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B9BC-37F4-43FD-9519-DF68E48F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4BF1-1F69-4285-ABAB-FBC62E22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F382-9D6E-4D2D-AB04-020D694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29D-37EA-49B6-83CD-22F31055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BB6A-2802-4A05-9E00-B92C9FC0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946C-1EC1-4FB7-ACE4-BF8DFB1A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B1FB-D788-4093-A663-2186EB3F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317D-53BF-43C9-BBFB-3E17CED2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39BC-420C-43EE-AE85-F6F7E962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A45-2B95-4356-8D2F-CFE1016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053-ED28-43B0-94D2-86D4C6EE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4EA-9362-4099-8067-D384A088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911-E5B9-4057-B6D0-C9CB3C6F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072-084E-47ED-B86A-5D2226FF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7CE-8D61-4FDC-A90F-080C878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901-F791-4E04-A17E-6C97460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6CA9-8C08-450D-84B2-AA23FEFE5B1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B69D-4A30-4B00-BEB0-893969AB25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Новикова Надежда Владимиров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84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У «Шербакульская СОШ №1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Методика организации интерактивное обуч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Проблемное формулировка темы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Организация урока, располагающая к диалог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Мотивация на взаимодействие учащихся и педаго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Выработка и принятие правил сотрудниче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Использование поддерживающих приемов общ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Оптимизация системы оценки процесса и результата совмест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Развитие общегрупповых и межличностных навыков анализа и самоанали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Оценка деятельности в группах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1.   Составлять на доске критериальную таблицу. Выслушав и сведя воедино мнения учеников, я записала следую­щие критерии: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оригинальность идей; дополнения, которые делает "группа слушателей ""группе докладчиков "; выявление ошибку выступающей групп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15962" r="0" b="0"/>
          <a:stretch/>
        </p:blipFill>
        <p:spPr>
          <a:xfrm>
            <a:off x="4932360" y="1916280"/>
            <a:ext cx="3809880" cy="142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4113000"/>
            <a:ext cx="3529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2. Заполнять для себя таблицу индивидуального оценивания и, в то же время, устно хвалить те группы, которые очень хорошо работ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сообща и соблюдали дисциплину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5779" r="0" b="17409"/>
          <a:stretch/>
        </p:blipFill>
        <p:spPr>
          <a:xfrm>
            <a:off x="4427640" y="4221000"/>
            <a:ext cx="38098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Деятельность учител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Осуществляет постановку учебной проблемы и ввод в не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Предоставляет возможности для самостоятельной деятельности учащихся в рабочих группах, па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Приводит обучаемых к верному решению учебной пробл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Деятельность учен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Совместная постановка ц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Обсуждение вариа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Разработка алгоритма действ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Исследование и самоконтроль действ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Самоанализ способов достижения результа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Самокоррекция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Само- и  взаимооцени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Структура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Мотив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Постановка целей 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Планирование работы в групп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Принятие решения (выбор способа освоения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Выполн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Контроль (самоконтрол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Что достигнуто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595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343600" y="1311120"/>
            <a:ext cx="5464080" cy="5347440"/>
            <a:chOff x="2343600" y="1311120"/>
            <a:chExt cx="5464080" cy="5347440"/>
          </a:xfrm>
        </p:grpSpPr>
        <p:sp>
          <p:nvSpPr>
            <p:cNvPr id="137" name="_s79988"/>
            <p:cNvSpPr/>
            <p:nvPr/>
          </p:nvSpPr>
          <p:spPr>
            <a:xfrm>
              <a:off x="3057840" y="2045520"/>
              <a:ext cx="4116240" cy="3798000"/>
            </a:xfrm>
            <a:prstGeom prst="blockArc">
              <a:avLst>
                <a:gd name="adj1" fmla="val 15351173"/>
                <a:gd name="adj2" fmla="val 17048827"/>
                <a:gd name="adj3" fmla="val 1460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79989"/>
            <p:cNvSpPr/>
            <p:nvPr/>
          </p:nvSpPr>
          <p:spPr>
            <a:xfrm rot="7200000">
              <a:off x="3176640" y="1926360"/>
              <a:ext cx="3798000" cy="4116240"/>
            </a:xfrm>
            <a:prstGeom prst="blockArc">
              <a:avLst>
                <a:gd name="adj1" fmla="val 14361043"/>
                <a:gd name="adj2" fmla="val 18038957"/>
                <a:gd name="adj3" fmla="val 136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79990"/>
            <p:cNvSpPr/>
            <p:nvPr/>
          </p:nvSpPr>
          <p:spPr>
            <a:xfrm rot="14400000">
              <a:off x="3176280" y="1926720"/>
              <a:ext cx="3798000" cy="4116240"/>
            </a:xfrm>
            <a:prstGeom prst="blockArc">
              <a:avLst>
                <a:gd name="adj1" fmla="val 14877208"/>
                <a:gd name="adj2" fmla="val 17522792"/>
                <a:gd name="adj3" fmla="val 136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79991"/>
            <p:cNvSpPr/>
            <p:nvPr/>
          </p:nvSpPr>
          <p:spPr>
            <a:xfrm>
              <a:off x="5591520" y="1952640"/>
              <a:ext cx="1573200" cy="16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1. 2005-2006 уч.г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Развитие познавательных способ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79992"/>
            <p:cNvSpPr/>
            <p:nvPr/>
          </p:nvSpPr>
          <p:spPr>
            <a:xfrm>
              <a:off x="4676760" y="4695840"/>
              <a:ext cx="155088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3. 2007-2008 уч.г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Развитие познавательных способ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9993"/>
            <p:cNvSpPr/>
            <p:nvPr/>
          </p:nvSpPr>
          <p:spPr>
            <a:xfrm>
              <a:off x="2842920" y="2781360"/>
              <a:ext cx="15130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2. 2006-2007 уч.г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Развитие</a:t>
              </a: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 познавательных способ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79160" y="2231640"/>
              <a:ext cx="67212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45840" y="4651920"/>
              <a:ext cx="8730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7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7560" y="4541760"/>
              <a:ext cx="767880" cy="48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3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336760" y="1483200"/>
            <a:ext cx="5462640" cy="5465160"/>
            <a:chOff x="2336760" y="1483200"/>
            <a:chExt cx="5462640" cy="5465160"/>
          </a:xfrm>
        </p:grpSpPr>
        <p:sp>
          <p:nvSpPr>
            <p:cNvPr id="147" name="_s129030"/>
            <p:cNvSpPr/>
            <p:nvPr/>
          </p:nvSpPr>
          <p:spPr>
            <a:xfrm>
              <a:off x="3069720" y="2214720"/>
              <a:ext cx="3997080" cy="4002480"/>
            </a:xfrm>
            <a:prstGeom prst="blockArc">
              <a:avLst>
                <a:gd name="adj1" fmla="val 15171885"/>
                <a:gd name="adj2" fmla="val 17228115"/>
                <a:gd name="adj3" fmla="val 12824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9031"/>
            <p:cNvSpPr/>
            <p:nvPr/>
          </p:nvSpPr>
          <p:spPr>
            <a:xfrm rot="7200000">
              <a:off x="3066480" y="2216880"/>
              <a:ext cx="4002480" cy="3997080"/>
            </a:xfrm>
            <a:prstGeom prst="blockArc">
              <a:avLst>
                <a:gd name="adj1" fmla="val 14429800"/>
                <a:gd name="adj2" fmla="val 17970200"/>
                <a:gd name="adj3" fmla="val 13773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29032"/>
            <p:cNvSpPr/>
            <p:nvPr/>
          </p:nvSpPr>
          <p:spPr>
            <a:xfrm rot="14400000">
              <a:off x="3066840" y="2217240"/>
              <a:ext cx="4002480" cy="3997080"/>
            </a:xfrm>
            <a:prstGeom prst="blockArc">
              <a:avLst>
                <a:gd name="adj1" fmla="val 14783354"/>
                <a:gd name="adj2" fmla="val 17616646"/>
                <a:gd name="adj3" fmla="val 14931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9033"/>
            <p:cNvSpPr/>
            <p:nvPr/>
          </p:nvSpPr>
          <p:spPr>
            <a:xfrm>
              <a:off x="2987280" y="2924280"/>
              <a:ext cx="144000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2. 2006-2007 уч.г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Развитие мыслительной деятельност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29034"/>
            <p:cNvSpPr/>
            <p:nvPr/>
          </p:nvSpPr>
          <p:spPr>
            <a:xfrm>
              <a:off x="4779720" y="5194440"/>
              <a:ext cx="14475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3. 2007-2008 уч.г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Развитие мыслительн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29035"/>
            <p:cNvSpPr/>
            <p:nvPr/>
          </p:nvSpPr>
          <p:spPr>
            <a:xfrm>
              <a:off x="5645160" y="2071800"/>
              <a:ext cx="15188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1.</a:t>
              </a: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 . 2005-2006 уч.г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Развитие мыслительной деятельност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81800" y="2251080"/>
              <a:ext cx="783720" cy="3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3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08120" y="4899960"/>
              <a:ext cx="685440" cy="3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34 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53400" y="4899960"/>
              <a:ext cx="783720" cy="4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38 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403280" y="692280"/>
            <a:ext cx="64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Развитие мысли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Развитие коммуникативных умений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01160" y="1896120"/>
            <a:ext cx="4535280" cy="4404240"/>
            <a:chOff x="2801160" y="1896120"/>
            <a:chExt cx="4535280" cy="4404240"/>
          </a:xfrm>
        </p:grpSpPr>
        <p:sp>
          <p:nvSpPr>
            <p:cNvPr id="159" name="_s131078"/>
            <p:cNvSpPr/>
            <p:nvPr/>
          </p:nvSpPr>
          <p:spPr>
            <a:xfrm>
              <a:off x="3343320" y="2551680"/>
              <a:ext cx="3450960" cy="3093120"/>
            </a:xfrm>
            <a:prstGeom prst="blockArc">
              <a:avLst>
                <a:gd name="adj1" fmla="val 15070216"/>
                <a:gd name="adj2" fmla="val 17329784"/>
                <a:gd name="adj3" fmla="val 15792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31079"/>
            <p:cNvSpPr/>
            <p:nvPr/>
          </p:nvSpPr>
          <p:spPr>
            <a:xfrm rot="7200000">
              <a:off x="3522240" y="2372400"/>
              <a:ext cx="3093120" cy="3450960"/>
            </a:xfrm>
            <a:prstGeom prst="blockArc">
              <a:avLst>
                <a:gd name="adj1" fmla="val 13922561"/>
                <a:gd name="adj2" fmla="val 18477439"/>
                <a:gd name="adj3" fmla="val 16093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31080"/>
            <p:cNvSpPr/>
            <p:nvPr/>
          </p:nvSpPr>
          <p:spPr>
            <a:xfrm rot="14400000">
              <a:off x="3521880" y="2372760"/>
              <a:ext cx="3093120" cy="3450960"/>
            </a:xfrm>
            <a:prstGeom prst="blockArc">
              <a:avLst>
                <a:gd name="adj1" fmla="val 14727070"/>
                <a:gd name="adj2" fmla="val 17672930"/>
                <a:gd name="adj3" fmla="val 13574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31081"/>
            <p:cNvSpPr/>
            <p:nvPr/>
          </p:nvSpPr>
          <p:spPr>
            <a:xfrm>
              <a:off x="3296880" y="3610080"/>
              <a:ext cx="1051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00"/>
                  </a:solidFill>
                  <a:latin typeface="Tahoma"/>
                </a:rPr>
                <a:t>2. 2006-2007 уч.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31082"/>
            <p:cNvSpPr/>
            <p:nvPr/>
          </p:nvSpPr>
          <p:spPr>
            <a:xfrm>
              <a:off x="4818960" y="4638600"/>
              <a:ext cx="10530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3. 2007-2008 уч.г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31083"/>
            <p:cNvSpPr/>
            <p:nvPr/>
          </p:nvSpPr>
          <p:spPr>
            <a:xfrm>
              <a:off x="5583240" y="2581200"/>
              <a:ext cx="105192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00"/>
                  </a:solidFill>
                  <a:latin typeface="Tahoma"/>
                </a:rPr>
                <a:t>1.</a:t>
              </a: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 . 2005-2006 уч.г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35080" y="2579760"/>
              <a:ext cx="733680" cy="34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8 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5280" y="4626720"/>
              <a:ext cx="59184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9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19120" y="4626720"/>
              <a:ext cx="67644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2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Я считаю,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Несмотря на сложность организации занятия основанного на методах интерактивного обучения хочется заметить, что время проходит не впустую. Все учащиеся, несмотря на разный уровень  коммуникативного потенциала, находятся в постоянной творческой деятельности, а дифференцированный подход порой дает самые неожиданные результаты. Мне постоянно приходится находится в творческом поиске, очень важно, чтобы ни одно занятие не было похоже на предыдуще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92920" cy="647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Чем больше педагогический багаж, тем легче идти по трудному, но интересному педагогическому пути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11480" y="1989000"/>
            <a:ext cx="44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162864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62000">
            <a:off x="2699280" y="764640"/>
            <a:ext cx="42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Чем больше педагогический багаж, тем легче идти по трудному, но интересному педагогическому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 школе должна царствовать серьезность, допускающая шутку, но не превращающая всего дела в шутку... Ученье есть труд и должно оставаться трудом, полным мысли...” К. Ушинский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Главная идея опыта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оей работы через использование приёмов технологии интерактивного обучения, способствующих  развитию коммуникативных умений, пытаться вместе с учащимися отыскивать общий смысл совместной деятельности, определять общую цель, обмениваться информацией о предметных условиях 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923720"/>
            <a:ext cx="5478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ель: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выявить эффективные формы и методы развития коммуникативных умений, в процессе обучения младших школьников.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Результаты моей рабо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9144000" cy="7191000"/>
            <a:chOff x="0" y="0"/>
            <a:chExt cx="9144000" cy="7191000"/>
          </a:xfrm>
        </p:grpSpPr>
        <p:sp>
          <p:nvSpPr>
            <p:cNvPr id="178" name=""/>
            <p:cNvSpPr/>
            <p:nvPr/>
          </p:nvSpPr>
          <p:spPr>
            <a:xfrm>
              <a:off x="0" y="0"/>
              <a:ext cx="1371600" cy="958680"/>
            </a:xfrm>
            <a:prstGeom prst="rect">
              <a:avLst/>
            </a:prstGeom>
            <a:gradFill rotWithShape="0">
              <a:gsLst>
                <a:gs pos="0">
                  <a:srgbClr val="83afdc"/>
                </a:gs>
                <a:gs pos="100000">
                  <a:srgbClr val="8bb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958680"/>
              <a:ext cx="1371600" cy="6232320"/>
            </a:xfrm>
            <a:prstGeom prst="rect">
              <a:avLst/>
            </a:prstGeom>
            <a:gradFill rotWithShape="0">
              <a:gsLst>
                <a:gs pos="0">
                  <a:srgbClr val="166cc7"/>
                </a:gs>
                <a:gs pos="100000">
                  <a:srgbClr val="6cb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95280" y="0"/>
              <a:ext cx="7848720" cy="958680"/>
            </a:xfrm>
            <a:prstGeom prst="rect">
              <a:avLst/>
            </a:prstGeom>
            <a:gradFill rotWithShape="0">
              <a:gsLst>
                <a:gs pos="0">
                  <a:srgbClr val="065eb8"/>
                </a:gs>
                <a:gs pos="100000">
                  <a:srgbClr val="166b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71600" y="958680"/>
              <a:ext cx="7772400" cy="5912640"/>
            </a:xfrm>
            <a:prstGeom prst="rect">
              <a:avLst/>
            </a:prstGeom>
            <a:gradFill rotWithShape="0">
              <a:gsLst>
                <a:gs pos="0">
                  <a:srgbClr val="8bb6e1"/>
                </a:gs>
                <a:gs pos="100000">
                  <a:srgbClr val="b5d8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280" y="6871320"/>
              <a:ext cx="152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280" y="6631560"/>
              <a:ext cx="152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6631560"/>
              <a:ext cx="152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1600" y="0"/>
              <a:ext cx="0" cy="719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0"/>
              <a:ext cx="0" cy="7191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0" y="9586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51920" y="687132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19280" y="1069920"/>
            <a:ext cx="6769080" cy="5527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1128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Исследовать основные тенденции развития теории и практики решения проблемы развития коммуникативных умений в процессе об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Определить условия эффективности развития коммуникативных умений для активизации познавательной и мысли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Разработать технологии развития коммуникативных умений для активизации познавательной и мысли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Разработать систему дидактических заданий для уроков, ориентированных на реализацию в условиях внутриклассной дифференци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Изучить особенность воздействия разработанной системы на индивидуальное развитие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облема исследов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заключается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в поиске эффективных форм и методов развития коммуникативных умений, в процессе обучения  младших школьников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7280" y="62064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Объект исследования: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процесс обучения младших школьн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едмет исследования: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методические основы развития коммуникативных ум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Гипотеза исследования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решение проблемы развития коммуникативных умений будет успешной, если  в обучении младших школьников применять технологию интерактивного обу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« Учитель должен помочь родиться мысли в голове ученика»,-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утверждал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ократ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4153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егодня обществу нужны образованные высококвалифицированные личности, а  это требует от учителей инновационной деятель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Человек, вставший за учительский стол, ответственен за все, все знает и умеет. Именно ответственностью за судьбу каждого ученика, подрастающего поколения, общества и государства характеризуется учительская должность. Какими будут результаты труда педагогов сегодня — таким будет наше общество завтра. Трудно представить себе другую деятельность, от кото­рой так много зависит в судьбе каждого человека и всего на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145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Формирование коммуникативных умений  человека является актуальной проблемой, решение которой имеет большое значение, как для каждого конкретного человека, так и для общества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41536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спользую методы технологии интерактивного обуч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охраняя конечную цель и основное содержание образовательного процесса, интерактивное обучение изменяет привычные, транслирующие (передаточные) формы на диалоговые, основанные на взаимопонимании и взаимодейств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Классификация методов и их задач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263700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32000" y="1628640"/>
          <a:ext cx="6557760" cy="4684680"/>
        </p:xfrm>
        <a:graphic>
          <a:graphicData uri="http://schemas.openxmlformats.org/drawingml/2006/table">
            <a:tbl>
              <a:tblPr/>
              <a:tblGrid>
                <a:gridCol w="3313080"/>
                <a:gridCol w="324468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 Методы создания благоприятной атмосферы, организация коммуник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Методы обмена деятельност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Методы мысле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. Интегративные методы. (интерактивные игр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витие положительной мотивации учащихся в деятельности, взаимодействии, создание благоприятной атмосферы, организация коммуникации участников педагогического проце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витие мышления, формирование ценностных ориентаций, приобретение учащимися опыта творческ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полнение учащимися различных мыслительных операций, разнообразие видов и форм мыслительной, познавательн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сознание учащимися условий для своего развития, принципов взаимодейст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3:13:33Z</dcterms:created>
  <dc:creator>sivozhelezova</dc:creator>
  <dc:description/>
  <dc:language>en-US</dc:language>
  <cp:lastModifiedBy>Администратор</cp:lastModifiedBy>
  <dcterms:modified xsi:type="dcterms:W3CDTF">2008-11-29T18:03:54Z</dcterms:modified>
  <cp:revision>89</cp:revision>
  <dc:subject/>
  <dc:title>Государственные стандарты общего образования</dc:title>
</cp:coreProperties>
</file>