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8C6D-A3F1-49D5-95E4-41831D1002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1404-4CD3-4C1B-9AF4-C52EA98E5F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17A-4C5A-4C21-ACE6-9F936E5D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55F-A453-4755-89E7-E4DD784A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AF5-10EB-4E3B-85E6-EF38ACE2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AE9-5BFB-4040-9561-58CD0D4B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696-72E7-41AC-94BE-C74B6E5A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B6C-096D-404D-889F-7EFFD474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DE7-C5BE-4A34-B838-06135E32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348-8256-46D3-A12E-FE38CF9D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394-6179-48BE-8F7C-44750AD1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110-6535-4189-809B-771CB67B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73D-E7AB-4CFA-B8BF-13743054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F08-5512-4219-B47E-11E86128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566D-692F-40A2-B1B2-82C32A469D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haroni"/>
              </a:rPr>
              <a:t>Учитель русских учителей 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바탕"/>
              </a:rPr>
              <a:t>Константин Дмитриевич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바탕"/>
              </a:rPr>
              <a:t> Уш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4" descr="000003"/>
          <p:cNvPicPr/>
          <p:nvPr/>
        </p:nvPicPr>
        <p:blipFill>
          <a:blip r:embed="rId1"/>
          <a:stretch/>
        </p:blipFill>
        <p:spPr>
          <a:xfrm>
            <a:off x="2916360" y="1989000"/>
            <a:ext cx="3332160" cy="4392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. Д. Ушинский - инспектор классо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мольного инстит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859 году Ушинский был назначен инспектором классов Смольного института благородных девиц. В этом учреждении, тесно связанном с царским двором, процветала атмосфера угодничества и заискивания перед ближайшим окружением царицы, ее фаворитами. Девушек воспитывали в духе христианской морали и превратного представления об обязанностях жены и матери, им давали очень мало реальных знаний и больше заботились о привитии им светских манер, преклонения перед царизм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Смольный институт (Воспитательное общество благородных девиц)"/>
          <p:cNvPicPr/>
          <p:nvPr/>
        </p:nvPicPr>
        <p:blipFill>
          <a:blip r:embed="rId1"/>
          <a:stretch/>
        </p:blipFill>
        <p:spPr>
          <a:xfrm>
            <a:off x="250920" y="3141720"/>
            <a:ext cx="3889440" cy="2781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4211640" y="3141720"/>
            <a:ext cx="439272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шинский смело провел реформу института, ввел новый учебный план, главными предметами которого сделал русский язык, лучшие произведения русской литературы, естественные науки, широко применял наглядность в обучении, проводил опыты на уроках биологии и физики. В качестве преподавателей К. Д. Ушинским были приглашены видные педагоги-методисты: по литературе – В. И. Водовозов, по географии - Д. Д. Семенов, по истории -  М. И. Семевский и друг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бывание за границ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324000" y="4005360"/>
            <a:ext cx="5400360" cy="248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1"/>
          <p:cNvSpPr/>
          <p:nvPr/>
        </p:nvSpPr>
        <p:spPr>
          <a:xfrm>
            <a:off x="5940360" y="5516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. Вене в Швейцарии (на Женевском озере), где жил и лечился Уш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5867280" y="914400"/>
            <a:ext cx="309744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нута гру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киталец невольный средь теплых полей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щу я по Родине хладной                                                 мое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нашим глубоким снега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нашим сосновым леса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красно здесь море и го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удесны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свет здесь прекрасен небесный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рода ж куда хороша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о стонет и ноет степная душа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тих, написанный К. Д. Ушинским за границ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179280" y="836640"/>
            <a:ext cx="539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62 году Ушинский был направлен на пять лет за границу для лечения и изучения школьного дела. За это время он посетил Швейцарию, Германию, Францию, Бельгию и Италию, в которых он посещал и изучал учебные заведения — женские школы, детские сады, приюты и школы, особенно в Германии и Швейцарии, считавшиеся самыми передовыми в части новаций в педагогике. Свои заметки, наблюдения и письма этого периода он объединил в статье «Педагогическая поездка по Швейцари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4319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границей в 1864 году Ушинский написал и издал учебную книгу «Родное слово», которая вырабатывалась в кругу его семьи, так как отражала знакомые его детям природу и обычаи Новгород-Северского уезда, а также книгу «Детский мир». Фактически это были первые массовые и общедоступные российские учебники для начального обучения детей. Более того, он написал и издал особое руководство для родителей и учителей к своему «Родному слову» — «Руководство к преподаванию по „Родному слову“ для учителей и родителей». Это руководство оказало огромное, широчайшее влияние на русскую народную школу. Свою актуальность как пособие по методике преподавания родного языка оно не потеряло и по сей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377352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едние годы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678120" cy="4680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179280" y="5373720"/>
            <a:ext cx="453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емейный портр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. Д. Ушинский, Н. С. Дорошенко (Ушинская), дети (слева на право); Павел (1852 г), Владимир (1861 г), Константин (1859 г), Вера (1855 г), Надежда (1856 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716360" y="836640"/>
            <a:ext cx="42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ередине 1860-х годов К. Д. Ушинский с семьёй вернулся в Росси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1870 года он лечился кумысом в Альме возле Бахчисарая. Возвращаясь из Крыма, собирался заехать к Н. А. Корфу в село Времевку Александровского уезда на Екатеринославщине, но из-за болезни и большой отдаленности села от железнодорожной станции Благодатной не смог. Прибыв на хутор Богданку, узнал о трагической смерти старшего сына Павлуши. Найдя в себе силы перебороть постигшее его горе, он перевез свою семью в Киев, купив домик по ул. Тарасовской, а сам с сыновьями Константином и Владимиром поехал лечиться в Крым. Но в дороге простудился, заболел и остановился в    г. Одессе, где и умер 3 января 1871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ователи К. Д. Ушинс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1903320" cy="25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1689120" cy="22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3851280" y="3645000"/>
            <a:ext cx="1909800" cy="239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1776600" cy="2363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468360" y="90792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ы и идеи К.Д. Ушинского стали предметом творческого освоения, переосмысления и состязательного, соревновательного подражания для целой плеяды педагогов-мыслителей: И. Я. Яковлева, Н.А. Корфа, В.П. Вахтерова, Х. Д. Алчевской, Т. Г. Лубене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руги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4" descr=""/>
          <p:cNvPicPr/>
          <p:nvPr/>
        </p:nvPicPr>
        <p:blipFill>
          <a:blip r:embed="rId5"/>
          <a:stretch/>
        </p:blipFill>
        <p:spPr>
          <a:xfrm>
            <a:off x="7093080" y="3933720"/>
            <a:ext cx="1827000" cy="2206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ствование памяти К. Д. Ушин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истории русского просвещения Ушинскому принадлежит почетнейшее место. Один из наиболее одаренных, образованных и передовых людей своего времени, основоположник науки о воспитании, смелый преобразователь школы, он отдал всю свою жизнь жертвенному служению делу на-родного образования. Великий русский педагог был героем и подвижником своего высокого призвания. За это и воздается ему ныне всенародная дань признательности и почитания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732720" y="299736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. П. ПОТЕМКИ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2411280" y="3357720"/>
            <a:ext cx="1800360" cy="2766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24000" y="4149720"/>
            <a:ext cx="2089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еребряная медаль К. Д. Ушинского для награждения особо отличившихся учителей и деятелей в области педагогических нау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456000" cy="2600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5003640" y="5950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татьи в советской печати, посвященные К. Д. Ушинско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024360" cy="30528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95280" y="90792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яя школа №47 им.             К. Д. Ушинского в Ленингра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5105520" cy="2590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5724360" y="580536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ица им. Ушинского в Кие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3"/>
          <a:stretch/>
        </p:blipFill>
        <p:spPr>
          <a:xfrm>
            <a:off x="5940360" y="260280"/>
            <a:ext cx="2664000" cy="3240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5867280" y="3716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К. Д. Ушинскому возле начальной школы его имени в с. Богда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39640" y="475920"/>
            <a:ext cx="8258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ение К. Д. Ушинского в развитии педагогики и шко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шинский является великим русским педагогом, основоположником народной школы в России, создателем глубокой, стройной педагогической системы, автором замечательных учебных книг, по которым в течение более полувека обучались десятки миллионов человек в России. Он - «учитель русских учителей» - разработал систему подготовки народных учителей в учительской семинарии, лучшие народные учителя в своей педагогической работе руководствовались сочинениями Ушинск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этический гений Пушкина вызвал к жизни целую группу поэтов пушкинской школы, так и педагогический гений Ушинского способствовал появлению плеяды замечательных педагогов 60-70-х годов, последователей Ушинского, -  Н. Ф. Бунакова, Н. А. Корфа, В. И. Водовозова, Д. Д. Семенова, Л. Н. Модзалевского и други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влияние Ушинский оказал на передовых педагогов других народов России (Грузии, Армении, Казахстана), на педагогику Болгарии, Чехии и других славянских нар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езентации использова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териалы интернет-ресурс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pedagogic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portal-slovo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rulex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people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c-cafe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68360" y="13413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 презентац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чащийся 10 «Б» клас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БОУ СОШ №3 г. Сызра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игарев Александ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учитель русского языка и литературы Фахрутдинова С.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rush Script MT"/>
              </a:rPr>
              <a:t>Всту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.Ушинский принадлежит не только прошлому: он продолжает жить и в нашей современности. Идеи создателя "Детского мира", "Родного слова", "Педагогической антропологии" сохраняют по сей день свою творческую сил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43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. П. ПОТЕМК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032360" cy="446580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ские и юношеские год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8" descr="Детские и юношеские годы"/>
          <p:cNvPicPr/>
          <p:nvPr/>
        </p:nvPicPr>
        <p:blipFill>
          <a:blip r:embed="rId1"/>
          <a:stretch/>
        </p:blipFill>
        <p:spPr>
          <a:xfrm>
            <a:off x="1619280" y="1125360"/>
            <a:ext cx="1627200" cy="218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мать"/>
          <p:cNvPicPr/>
          <p:nvPr/>
        </p:nvPicPr>
        <p:blipFill>
          <a:blip r:embed="rId2"/>
          <a:stretch/>
        </p:blipFill>
        <p:spPr>
          <a:xfrm>
            <a:off x="6012000" y="1125360"/>
            <a:ext cx="1620720" cy="218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50920" y="3500280"/>
            <a:ext cx="39592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ец К. Д. Ушинск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митрий Григорьевич Ушинск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происходил из обедневших дворян. Много лет служил в русской армии, ветеран Отечественной войны 1812 года. Был преподавателем военного корпу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0" y="3500280"/>
            <a:ext cx="4176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ь К. Д. Ушинск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юбовь Степановна Ушинская (Капнист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сама руководила первоначальным обучением сына, пробудив в нем любознательность и интерес к чтению. Она умерла, когда Ушинскому было 11 лет. О ней он сохранил на всю жизнь трогательно-нежные воспомин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Здание Новгород-Северской гимназии, в которой учился К"/>
          <p:cNvPicPr/>
          <p:nvPr/>
        </p:nvPicPr>
        <p:blipFill>
          <a:blip r:embed="rId1"/>
          <a:stretch/>
        </p:blipFill>
        <p:spPr>
          <a:xfrm>
            <a:off x="611280" y="620640"/>
            <a:ext cx="4465440" cy="2702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3"/>
          <p:cNvSpPr/>
          <p:nvPr/>
        </p:nvSpPr>
        <p:spPr>
          <a:xfrm>
            <a:off x="5292720" y="476640"/>
            <a:ext cx="352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Д.Ушинский учился в Новгород-Северской гимназии, где был примерным учеником, много читал, часто был инициатором диспутов на различные темы, не мог терпеть подхалимства среди учеников, несправедливости некоторых учи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4" descr="К"/>
          <p:cNvPicPr/>
          <p:nvPr/>
        </p:nvPicPr>
        <p:blipFill>
          <a:blip r:embed="rId2"/>
          <a:stretch/>
        </p:blipFill>
        <p:spPr>
          <a:xfrm>
            <a:off x="5651640" y="3645000"/>
            <a:ext cx="28080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5"/>
          <p:cNvSpPr/>
          <p:nvPr/>
        </p:nvSpPr>
        <p:spPr>
          <a:xfrm>
            <a:off x="539640" y="3413880"/>
            <a:ext cx="49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спитание, которое мы получили... в бедной уездной гимназии маленького городка Малороссии Новгорода-Северского, было в учебном отношении не только не ниже, но даже выше того, которое в то время получалось во многих других гимназиях. Этому много способствовала страстная любовь к науке и несколько даже педантическое уважение к ней в покойном директоре Н-ской гимназии… Илье Федоровиче Тимковском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. Д. УШ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Московский университет"/>
          <p:cNvPicPr/>
          <p:nvPr/>
        </p:nvPicPr>
        <p:blipFill>
          <a:blip r:embed="rId1"/>
          <a:stretch/>
        </p:blipFill>
        <p:spPr>
          <a:xfrm>
            <a:off x="468360" y="1341360"/>
            <a:ext cx="4562280" cy="258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К"/>
          <p:cNvPicPr/>
          <p:nvPr/>
        </p:nvPicPr>
        <p:blipFill>
          <a:blip r:embed="rId2"/>
          <a:stretch/>
        </p:blipFill>
        <p:spPr>
          <a:xfrm>
            <a:off x="5651640" y="1268280"/>
            <a:ext cx="2760480" cy="3456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учение в Московском университе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4292640"/>
            <a:ext cx="46814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окончания гимназии Ушинский  поступил в Московский университет на юридический факультет, который блестяще закончил в 1844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720" y="4797000"/>
            <a:ext cx="3678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Московского универс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подавательская работа в Ярославском юридическом лиц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2920" y="1341360"/>
            <a:ext cx="4249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влечение Ушинского передается слушателям, и они все, вместе со своим лектором, не слышат звонка, не замечают, что уже настал конец лекции, что уже давно около дверей стоит другой профессор, дожидается своей очереди,- и только когда терпение этого последнего окончательно истощится и он обратится к Ушинскому с заявлением, что пора кончать, а то он, профессор, уйдет, - Ушинский, немедленно спустившись с облаков своей пламенной фантазии, страшно конфузится, просит извинения и летит стремглав из аудитории, покрываемый громом аплодисментов очарованных его речью студентов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Е. ЕРМИЛОВ «Народный учител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1" descr="Ярославский юридический лицей"/>
          <p:cNvPicPr/>
          <p:nvPr/>
        </p:nvPicPr>
        <p:blipFill>
          <a:blip r:embed="rId1"/>
          <a:stretch/>
        </p:blipFill>
        <p:spPr>
          <a:xfrm>
            <a:off x="755640" y="1484280"/>
            <a:ext cx="367200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2"/>
          <p:cNvSpPr/>
          <p:nvPr/>
        </p:nvSpPr>
        <p:spPr>
          <a:xfrm>
            <a:off x="684360" y="4653000"/>
            <a:ext cx="36003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6 году стал преподавать  в Ярославском лицее. По рассказам бывших студентов, К. Д. Ушинский увлекательно излагал свои лекции по государственному прав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ужба в Министерстве внутренних 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Титульные страницы журналов, в которых сотрудничал К"/>
          <p:cNvPicPr/>
          <p:nvPr/>
        </p:nvPicPr>
        <p:blipFill>
          <a:blip r:embed="rId1"/>
          <a:stretch/>
        </p:blipFill>
        <p:spPr>
          <a:xfrm>
            <a:off x="1619280" y="1052640"/>
            <a:ext cx="5543640" cy="3396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 декабря 1849 года К. Д. Ушинский был отстранен от работы в Ярославском юридическом лицее за демократическое направление лекций. Ушинский вынужден был после этого служить мелким чиновником в министерстве внутренних дел, но чиновничья служба не удовлетворяла его. В своих дневниках он отзывался о службе с отвращением. Некоторое удовлетворение давала ему литературная работа в журналах «Современник» и «Библиотека для чтения», где он помещал переводы с английского, рефераты статей, обозрения материалов, опубликованных в иностранных журнал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енить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ом 1851 года Константин Дмитриевич Ушинский находился в служебной командировке в Черниговской губернии. Здесь он женился на подруге своего детства Надежде Семеновне Дорошенк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Надежда Семеновна Дорошенко-Ушинская (жена К"/>
          <p:cNvPicPr/>
          <p:nvPr/>
        </p:nvPicPr>
        <p:blipFill>
          <a:blip r:embed="rId1"/>
          <a:stretch/>
        </p:blipFill>
        <p:spPr>
          <a:xfrm>
            <a:off x="4859280" y="1700280"/>
            <a:ext cx="361152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. Д. Ушинский - преподаватель и инспектор Гатчинского сиротского институ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854 году Ушинскому удалось получить назначение сначала учителем, а затем инспектором Гатчинского сиротского института, где он значительно улучшил постановку обучения и восп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000046"/>
          <p:cNvPicPr/>
          <p:nvPr/>
        </p:nvPicPr>
        <p:blipFill>
          <a:blip r:embed="rId1"/>
          <a:stretch/>
        </p:blipFill>
        <p:spPr>
          <a:xfrm>
            <a:off x="468360" y="1413000"/>
            <a:ext cx="3544920" cy="4395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Гатчинский сиротский институт"/>
          <p:cNvPicPr/>
          <p:nvPr/>
        </p:nvPicPr>
        <p:blipFill>
          <a:blip r:embed="rId2"/>
          <a:stretch/>
        </p:blipFill>
        <p:spPr>
          <a:xfrm>
            <a:off x="4716360" y="4005360"/>
            <a:ext cx="417672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Пользователь</cp:lastModifiedBy>
  <dcterms:modified xsi:type="dcterms:W3CDTF">2012-02-21T11:16:13Z</dcterms:modified>
  <cp:revision>136</cp:revision>
  <dc:subject/>
  <dc:title>Биография Тютчева</dc:title>
</cp:coreProperties>
</file>